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4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6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634-CEED-4B19-874C-B9A759388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ptmap.ru/monuments/1593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ptmap.ru/monuments/2106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Петру I — бронзовый конный памятник Петра I перед Михайловским замком в 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одном из барельефов, украшающих постамент памятника, изображен мужчина, забирающийся в лодку. Он сразу выделяется на общем фоне своей сияющей пяткой. Она так ярко блестит потому, что люди верят, что этот человек, спасшийся в бурю, может помочь осуществить самое заветное желание. Для этого нужно лишь подумать о загаданном, а затем потереть его пя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81A2-107D-4F61-9D88-2C95B3272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тан в Александров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рочих функций, фонтан у Адмиралтейства обладает свойством исполнять любые желания того, кто очень сильно этого хочет. Для того, чтобы мечта сбылась, нужно встать спиной к фонтану, а лицом к Адмиралтейству, загадать желание и кинуть монетку через голову. А затем, не оборачиваясь, идти дальше, по своим делам. Если вы не спугнете удачу, она обязательно вас найд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8BE-2665-4846-AA2E-7B7D0FD32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желание исполнилось, нужно аккуратно дотронуться ладонью до шара. Еще ходят слухи, что в солнечную погоду сквозь струящуюся воду можно разглядеть отражение замочной скважины. Если это удалось, значит, самая главная Мечта обязательно осуществ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C070-8F3A-4D32-A311-785CEF39D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фоны Банковского моста отвечают за прибыль и богатство. Если потереть сверкающее крыло любого из них перед важной финансовой сделкой, она обязательно будет успешной. Но фольклор наделяет скульптуры способностью выполнять желания, связанные не только с достатком. Чтобы все загаданное сбылось, нужно подержаться за лапу грифона. Самые смелые могут взобраться на постамент и положить руку грифону в п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82F-480E-415C-9868-F2165EBC8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желание исполнилось, необходимо одну руку положить в пасть грифону, а другой ласково погладить его по голове. Для надежности, смотреть при этом рекомендуется на одного из сфинк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495-E1BB-4AB6-A1B3-884C9B07D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любопытный памятник награжден в народе способностью исполнять любые желания. Если хотите богатства — подержитесь за правую руку царя, хотите любви — за левую. А если хотите чтобы сбылось самое заветное желание — положите обе руки на его мак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0B0B-AF9E-46BB-9D36-D364D076C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 знать точного расположения этих памятников на Малой Садовой улице, их легко не заметить. Размеры скульптур небольшие, и расположены они наверху, на уровне второго этажа. Василиса прогуливается по карнизу дома № 3, ее лапка поднята, видно, что она остановилась на миг, проходя мимо по своим кошачьим делам. А Елисей, напротив нее, на углу дома № 8 сидит, слегка зажмурившись, и обозревает проходящий народ свысока.</a:t>
            </a:r>
            <a:r>
              <a:rPr b="0" lang="ru-RU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эти памятники на Малой Садовой в 2000 году. Автор идеи — историк Сергей Лебедев. Архитектор — Владимир Петрови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ки, увековеченные в бронзе, символизируют животных, оказавших неоценимую помощь военному городу. Из-за голода в Ленинграде были уничтожены все кошки. Антисанитария в городе привели к нашествию полчищ крыс, питавшихся трупами, а бороться с ними было некому. Крысы расплодились настолько, что порой трамваям приходилось останавливаться из-за того, что проезжая часть была перегорожена крысиными ордами. После прорыва блокады в 1943 году, из Ярославля был прислан целый эшелон кошек. В дальнейшем кошек присылали и из других сибирских городов, и крысы в городе были полностью уничтож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 память об этих кошках, спасших город от крыс, и был открыт памятник коту Елисею и кошке Василисе. Горожане сразу заметили, что эти животные умеют приносить удач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желание исполнилось, нужно закинуть монетку на постамент к коту или кошке. Таким способом можно «поймать удачу за хвост», и загаданное желание обязательно исполн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50B-0669-49FB-83F2-00D2AF6BC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Эрмитажа стоят большие суровые Атланты. Эти мифологические персонажи также могут воплотить в жизнь вашу мечту. Задуманное исполнится, если подержать атланта за большой палец на левой ноге. Но не перепутайте — магия работает, только если найти нужную скульптуру. Это второй атлант со стороны Марсового п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25E-1C65-4F77-AD7F-8D17D75B5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задуманное осуществилось, нужно забросить монетку на сваю у подножия скульптуры так, чтобы она не соскользнула в воду. Тогда во всех делах вам будет сопутствовать уд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C45-9939-4056-970E-9B04C8FE9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фонарщику установлен на Одесской улице, в районе Песков. Скульптура появилась здесь не случайно — 11 июля 1873 года на этой улице были проведены первые опыты электрического освещения, и был зажжен первый электрический фонарь. В честь этого события на стене дома установлена памятная табличка. Благодаря изобретению электротехника Александр Лодыгина, мастерские которого находились неподалеку от этого района, фонарщики потеряли работу. Теперь жертвы технического прогресса увековечены в чугунном памятнике Лодыгин изобрел лампу накаливания, за которую получил Ломоносовскую премию, и сейчас сложно представить фонари без электричества.</a:t>
            </a:r>
            <a:r>
              <a:rPr b="0" lang="ru-RU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 уходя в глубину веков можно узнать, что именно в Санкт-Петербурге впервые появилось уличное освещение. Сначала фонари зажигались с честь празднеств, а с 1718 года освещение стало регулярным. Фонарщики по вечерам зажигали, а утром гасили фонари, меняли фитили, чистили плафоны от копоти. Первоначально они работали на масле и керосине, и уже много позже стали газовыми, а затем и электричес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арщик — человек, как известно, мастеровой, настоящий работяга. Такой труженик легко поможет улучшить финансовое состояние всех желающих. Для этого надо потереть его сапог. Если потереть правый — возрастет официальная зарплата. Надо заметить, что хорошо отполированы у него оба сап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51E-A045-4E58-9F89-38136582B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бродячей собаке Гаврюше появился во дворике дома на Малой Садовой в 1999 году. Считается, что Гаврюша — грамотный пес и умеет читать. Все стены двора, в котором установлен памятник, со временем оказались исписаны различными просьбами и желаниями. Тогда, чтобы сохранить чистоту окружающих домов, рядом был установлен почтовый ящик. Теперь у горожан появилось место, куда нужно было опускать записки, содержащие загаданное желание. Однако, многие не слишком дисциплинированные граждане продолжали писать на стенах, что вызывало недовольство жителей окрестных домов. В итоге, памятник был демонтирован и подвергнут реконстр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Гаврюша был перенесен, и с 2007 года по настоящее время он стоит напротив Института Кино и Телевидения на ул. Правды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 то, что Гаврюша хорошо умеет читать, слушать он тоже умеет отлично, значит, чтобы заветное желание исполнилось, достаточно прошептать его на ухо умному псу. Для большей надёжности, в пасть собаки нужно положить монетку или конф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868D-DB6C-49A0-AF06-B09DAB7DD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C0A-0B89-45BC-81FE-68CC9E5E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C56-D0CB-4B4A-8B17-5BF42044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3C0-461B-49CE-9D22-81DFA731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AAA-B718-4EA7-84AC-F607094B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E30-385C-4F28-B4CA-8F1F3762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A21-5E53-4EE8-A3C2-CB30DD4B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1E3-9104-4B11-BB6F-1464A73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8D4-CA68-4182-AA3C-9C5A18E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1FF-9EAF-425A-9672-B7D83A3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A29-7956-4099-B696-5AF0A43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8A2-4153-45B0-A2D1-9BA063D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41B-C718-475C-9788-F6527CB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e5dc"/>
                </a:solidFill>
                <a:latin typeface="Constantia"/>
              </a:rPr>
              <a:t>18.3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690F-9B27-4810-879D-EDA0EDDCB774}" type="slidenum">
              <a:rPr b="0" lang="ru-RU" sz="16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6" descr=""/>
          <p:cNvPicPr/>
          <p:nvPr/>
        </p:nvPicPr>
        <p:blipFill>
          <a:blip r:embed="rId3"/>
          <a:stretch/>
        </p:blipFill>
        <p:spPr>
          <a:xfrm>
            <a:off x="5492880" y="3681360"/>
            <a:ext cx="2376360" cy="189720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7" descr=""/>
          <p:cNvPicPr/>
          <p:nvPr/>
        </p:nvPicPr>
        <p:blipFill>
          <a:blip r:embed="rId4"/>
          <a:stretch/>
        </p:blipFill>
        <p:spPr>
          <a:xfrm>
            <a:off x="1276200" y="3681360"/>
            <a:ext cx="2378160" cy="1897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CustomShape 1"/>
          <p:cNvSpPr/>
          <p:nvPr/>
        </p:nvSpPr>
        <p:spPr>
          <a:xfrm>
            <a:off x="1332000" y="549360"/>
            <a:ext cx="6983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1908000" y="1859040"/>
            <a:ext cx="5651640" cy="342720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1042920" y="5493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ЧЕСКИЙ САНКТ-ПЕТЕРБУРГ: МЕСТА, ГДЕ ИСПОЛНЯЮТСЯ ЖЕЛ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5236560" y="5391000"/>
            <a:ext cx="334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воспит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винова Александр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CustomShape 2"/>
          <p:cNvSpPr/>
          <p:nvPr/>
        </p:nvSpPr>
        <p:spPr>
          <a:xfrm>
            <a:off x="684360" y="765000"/>
            <a:ext cx="792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http://i.ptmap.ru/4/5/1/8/thumbs/700_525_fix.jpg"/>
          <p:cNvPicPr/>
          <p:nvPr/>
        </p:nvPicPr>
        <p:blipFill>
          <a:blip r:embed="rId2"/>
          <a:stretch/>
        </p:blipFill>
        <p:spPr>
          <a:xfrm>
            <a:off x="2268360" y="1433520"/>
            <a:ext cx="6667560" cy="4751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http://i.ptmap.ru/1/1/1/2/0/thumbs/600_400_fixw.jpg"/>
          <p:cNvPicPr/>
          <p:nvPr/>
        </p:nvPicPr>
        <p:blipFill>
          <a:blip r:embed="rId3"/>
          <a:stretch/>
        </p:blipFill>
        <p:spPr>
          <a:xfrm>
            <a:off x="395280" y="3429000"/>
            <a:ext cx="4968720" cy="3313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"/>
          <p:cNvSpPr/>
          <p:nvPr/>
        </p:nvSpPr>
        <p:spPr>
          <a:xfrm>
            <a:off x="3561840" y="765000"/>
            <a:ext cx="13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е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1897200" y="6825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нтан в Александровском с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«Поющий фонтан» в Александровском саду"/>
          <p:cNvPicPr/>
          <p:nvPr/>
        </p:nvPicPr>
        <p:blipFill>
          <a:blip r:embed="rId2"/>
          <a:stretch/>
        </p:blipFill>
        <p:spPr>
          <a:xfrm>
            <a:off x="1476360" y="1773360"/>
            <a:ext cx="6120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CustomShape 1"/>
          <p:cNvSpPr/>
          <p:nvPr/>
        </p:nvSpPr>
        <p:spPr>
          <a:xfrm>
            <a:off x="755640" y="549360"/>
            <a:ext cx="77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DejaVu Sans"/>
              </a:rPr>
              <a:t>Фонтан-каскад «Вращающийся ш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http://spbhi.ru/assets/images/showplace/fontan/shar/1.jpg"/>
          <p:cNvPicPr/>
          <p:nvPr/>
        </p:nvPicPr>
        <p:blipFill>
          <a:blip r:embed="rId2"/>
          <a:stretch/>
        </p:blipFill>
        <p:spPr>
          <a:xfrm>
            <a:off x="1187280" y="1413000"/>
            <a:ext cx="64962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CustomShape 1"/>
          <p:cNvSpPr/>
          <p:nvPr/>
        </p:nvSpPr>
        <p:spPr>
          <a:xfrm>
            <a:off x="1682640" y="2967120"/>
            <a:ext cx="57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f8c6a"/>
                </a:solidFill>
                <a:latin typeface="Constantia"/>
                <a:ea typeface="DejaVu San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https://img.localway.ru/scaled/guide/52/507613/820x0.jpg"/>
          <p:cNvPicPr/>
          <p:nvPr/>
        </p:nvPicPr>
        <p:blipFill>
          <a:blip r:embed="rId1"/>
          <a:stretch/>
        </p:blipFill>
        <p:spPr>
          <a:xfrm>
            <a:off x="900000" y="1174680"/>
            <a:ext cx="7810560" cy="3476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http://art-assorty.ru/uploads/posts/2011-12/1323333782_bankovskiy-most2.jpg"/>
          <p:cNvPicPr/>
          <p:nvPr/>
        </p:nvPicPr>
        <p:blipFill>
          <a:blip r:embed="rId2"/>
          <a:stretch/>
        </p:blipFill>
        <p:spPr>
          <a:xfrm>
            <a:off x="4587840" y="3733920"/>
            <a:ext cx="4321080" cy="2900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"/>
          <p:cNvSpPr/>
          <p:nvPr/>
        </p:nvSpPr>
        <p:spPr>
          <a:xfrm>
            <a:off x="2155680" y="404640"/>
            <a:ext cx="483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анковский м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Грифоны на Университетской набережной"/>
          <p:cNvPicPr/>
          <p:nvPr/>
        </p:nvPicPr>
        <p:blipFill>
          <a:blip r:embed="rId1"/>
          <a:stretch/>
        </p:blipFill>
        <p:spPr>
          <a:xfrm>
            <a:off x="568440" y="1413000"/>
            <a:ext cx="7862760" cy="47527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1116000" y="620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рифоны на Университетской набереж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http://ic.pics.livejournal.com/comfort33/47929143/36755/36755_original.jpg"/>
          <p:cNvPicPr/>
          <p:nvPr/>
        </p:nvPicPr>
        <p:blipFill>
          <a:blip r:embed="rId2"/>
          <a:stretch/>
        </p:blipFill>
        <p:spPr>
          <a:xfrm>
            <a:off x="4500720" y="3228840"/>
            <a:ext cx="42987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Памятник Петру I в Петропавловской крепости"/>
          <p:cNvPicPr/>
          <p:nvPr/>
        </p:nvPicPr>
        <p:blipFill>
          <a:blip r:embed="rId1"/>
          <a:stretch/>
        </p:blipFill>
        <p:spPr>
          <a:xfrm>
            <a:off x="1476360" y="1341360"/>
            <a:ext cx="6215040" cy="5112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1795680" y="69048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ет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в Петропавловской 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CustomShape 1"/>
          <p:cNvSpPr/>
          <p:nvPr/>
        </p:nvSpPr>
        <p:spPr>
          <a:xfrm>
            <a:off x="324000" y="40464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от Елисей и кошка Васил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Памятник «Кот Елисей и Кошка Василиса»"/>
          <p:cNvPicPr/>
          <p:nvPr/>
        </p:nvPicPr>
        <p:blipFill>
          <a:blip r:embed="rId1"/>
          <a:stretch/>
        </p:blipFill>
        <p:spPr>
          <a:xfrm>
            <a:off x="344520" y="1197000"/>
            <a:ext cx="5715000" cy="4086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etovidel.net/appended_files/big/4c62a924e3ebb.jpg"/>
          <p:cNvPicPr/>
          <p:nvPr/>
        </p:nvPicPr>
        <p:blipFill>
          <a:blip r:embed="rId2"/>
          <a:stretch/>
        </p:blipFill>
        <p:spPr>
          <a:xfrm>
            <a:off x="4140360" y="2989440"/>
            <a:ext cx="47145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Атланты. Портик Нового Эрмитажа"/>
          <p:cNvPicPr/>
          <p:nvPr/>
        </p:nvPicPr>
        <p:blipFill>
          <a:blip r:embed="rId1"/>
          <a:stretch/>
        </p:blipFill>
        <p:spPr>
          <a:xfrm>
            <a:off x="826920" y="1628640"/>
            <a:ext cx="7374240" cy="46087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"/>
          <p:cNvSpPr/>
          <p:nvPr/>
        </p:nvSpPr>
        <p:spPr>
          <a:xfrm>
            <a:off x="2916360" y="6984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тла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http://i.ptmap.ru/1/1/0/8/2/thumbs/700_525_fix.jpg"/>
          <p:cNvPicPr/>
          <p:nvPr/>
        </p:nvPicPr>
        <p:blipFill>
          <a:blip r:embed="rId1"/>
          <a:stretch/>
        </p:blipFill>
        <p:spPr>
          <a:xfrm>
            <a:off x="1332000" y="134136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2286720" y="596880"/>
            <a:ext cx="47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Заяц на Заячьем остр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CustomShape 1"/>
          <p:cNvSpPr/>
          <p:nvPr/>
        </p:nvSpPr>
        <p:spPr>
          <a:xfrm>
            <a:off x="395280" y="333360"/>
            <a:ext cx="874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нар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http://chicherone.com/wp-content/uploads/2013/08/4f6c6ae83e390-768x1024.jpg"/>
          <p:cNvPicPr/>
          <p:nvPr/>
        </p:nvPicPr>
        <p:blipFill>
          <a:blip r:embed="rId1"/>
          <a:stretch/>
        </p:blipFill>
        <p:spPr>
          <a:xfrm>
            <a:off x="2484360" y="996840"/>
            <a:ext cx="417528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http://kudainfo.ru/media/image/53fcca6aaca7b.jpg"/>
          <p:cNvPicPr/>
          <p:nvPr/>
        </p:nvPicPr>
        <p:blipFill>
          <a:blip r:embed="rId2"/>
          <a:stretch/>
        </p:blipFill>
        <p:spPr>
          <a:xfrm>
            <a:off x="1403280" y="1557360"/>
            <a:ext cx="6408720" cy="468000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"/>
          <p:cNvSpPr/>
          <p:nvPr/>
        </p:nvSpPr>
        <p:spPr>
          <a:xfrm>
            <a:off x="3411360" y="6890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аврю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dim</dc:creator>
  <dc:description/>
  <dc:language>en-US</dc:language>
  <cp:lastModifiedBy>user</cp:lastModifiedBy>
  <dcterms:modified xsi:type="dcterms:W3CDTF">2019-12-08T13:34:27Z</dcterms:modified>
  <cp:revision>7</cp:revision>
  <dc:subject/>
  <dc:title>Слайд 1</dc:title>
</cp:coreProperties>
</file>