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4F6-0A36-449F-BD70-64630405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E4E-B43B-4A20-A05A-3469176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738-E109-4C1A-86F8-E5D91126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FFA-B811-43C5-BCAD-8106433D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E486-3B5F-4CB0-A62F-2A80F828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9F5-D3AC-4A49-8CF1-37C97D88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91C-A596-4EF8-A228-81AC497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2DA-7B38-4204-9FBB-8804E352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498B-3404-4174-A2CF-F1DB990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3B9-B2A2-4427-A466-BDE1EB1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88D3-1042-4087-91B6-08C6154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4DE-AF4C-4DA5-83C3-534117F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BF58-D020-4CC6-B28F-5C1E669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FA9-BEE8-4CED-92ED-A4773774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9A90-5308-4BCC-8843-8A89D34C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8A0F-CA3B-4DD0-8583-2DCA565A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488-B351-4AEF-AA7D-5F1B28F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0CE-C062-45B4-8994-D5E680E4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A85-11E0-4214-9FE4-C7F4FDF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D5B-3E71-4C0C-8062-B088529B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6E9-D4E4-438A-A709-BAC431BB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FD0-47B9-4840-BD49-02BAC1F2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417-5428-4653-A3E0-F0A1DCD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D58-7BBB-4E7A-B2C7-F301B62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AA18-7569-4CCD-9F5E-B33B8B0D8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A64-4855-4381-A70F-BFB661C9ECB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6000" spc="-1" strike="noStrike">
                <a:solidFill>
                  <a:srgbClr val="996600"/>
                </a:solidFill>
                <a:latin typeface="Times New Roman"/>
              </a:rPr>
              <a:t>Амар сайн!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6000" spc="-1" strike="noStrike">
                <a:solidFill>
                  <a:srgbClr val="663300"/>
                </a:solidFill>
                <a:latin typeface="Times New Roman"/>
              </a:rPr>
              <a:t>Сайн байна!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194" name="Группа 12"/>
          <p:cNvGrpSpPr/>
          <p:nvPr/>
        </p:nvGrpSpPr>
        <p:grpSpPr>
          <a:xfrm>
            <a:off x="2357280" y="2928960"/>
            <a:ext cx="4000680" cy="3714840"/>
            <a:chOff x="2357280" y="2928960"/>
            <a:chExt cx="4000680" cy="3714840"/>
          </a:xfrm>
        </p:grpSpPr>
        <p:pic>
          <p:nvPicPr>
            <p:cNvPr id="195" name="Picture 2" descr="https://im0-tub-ru.yandex.net/i?id=86e2850f44ea01c46250546c21e4f00e&amp;n=13"/>
            <p:cNvPicPr/>
            <p:nvPr/>
          </p:nvPicPr>
          <p:blipFill>
            <a:blip r:embed="rId1"/>
            <a:srcRect l="12321" t="0" r="0" b="0"/>
            <a:stretch/>
          </p:blipFill>
          <p:spPr>
            <a:xfrm>
              <a:off x="2357280" y="3562200"/>
              <a:ext cx="4000680" cy="30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Рисунок 11" descr="https://im0-tub-ru.yandex.net/i?id=19f5a8c45f38d6c276c6814ad31bb190-l&amp;n=13"/>
            <p:cNvPicPr/>
            <p:nvPr/>
          </p:nvPicPr>
          <p:blipFill>
            <a:blip r:embed="rId2"/>
            <a:srcRect l="0" t="0" r="47425" b="40962"/>
            <a:stretch/>
          </p:blipFill>
          <p:spPr>
            <a:xfrm>
              <a:off x="3341160" y="2928960"/>
              <a:ext cx="1405440" cy="125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7429320" cy="628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764388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Точкануудай орондо антонимуудые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анажа бэшэхэ: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757224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1.Ажалша хүнэй амбар дүүрэн, залхуу хүнэй заглуу  хоо</a:t>
            </a:r>
            <a:r>
              <a:rPr b="0" lang="mn-Cyrl-MN" sz="3600" spc="-1" strike="noStrike">
                <a:solidFill>
                  <a:srgbClr val="663300"/>
                </a:solidFill>
                <a:latin typeface="Times New Roman"/>
              </a:rPr>
              <a:t>һон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2.Биб гэ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эн гансаараа, бидэ гэ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эн</a:t>
            </a:r>
            <a:r>
              <a:rPr b="0" lang="mn-Cyrl-MN" sz="3600" spc="-1" strike="noStrike">
                <a:solidFill>
                  <a:srgbClr val="663300"/>
                </a:solidFill>
                <a:latin typeface="Times New Roman"/>
              </a:rPr>
              <a:t> олоороо.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3.Ульгам мориндо газар дүтэ, хашан мориндо харгы</a:t>
            </a:r>
            <a:r>
              <a:rPr b="0" lang="mn-Cyrl-MN" sz="3600" spc="-1" strike="noStrike">
                <a:solidFill>
                  <a:srgbClr val="663300"/>
                </a:solidFill>
                <a:latin typeface="Times New Roman"/>
              </a:rPr>
              <a:t> холо.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996600"/>
                </a:solidFill>
                <a:latin typeface="Arial"/>
              </a:rPr>
              <a:t>Томьёонуудай диктант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14200" y="999720"/>
            <a:ext cx="771552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1.Хэлэнэй үгын баялигыешэнжэлдэг хэлэн тухай эрдэмэй нэгэ һалбари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2.Үгэнүүдэй удхые тайлбарилһан ном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3.Хэлэнэй үгын баялиг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4.Адли гү, али дүтэрхы удхатай үгэнүүд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5.Гансал зарим нютагуудта хэрэглэгдэдэг үгэнүүд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663300"/>
                </a:solidFill>
                <a:latin typeface="Times New Roman"/>
              </a:rPr>
              <a:t>6. Хэлэнэй үгэнүүдые, тэдэнэй удхые тодорхойлон элирүүлхэ, толинууд болгохо гэһэн гол зүйлтэй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помощь Images, Stock Pictures, Royalty Free помощь Photos And Stock Photography"/>
          <p:cNvPicPr/>
          <p:nvPr/>
        </p:nvPicPr>
        <p:blipFill>
          <a:blip r:embed="rId1"/>
          <a:srcRect l="2272" t="-10360" r="-2268" b="10365"/>
          <a:stretch/>
        </p:blipFill>
        <p:spPr>
          <a:xfrm>
            <a:off x="826920" y="669960"/>
            <a:ext cx="7715520" cy="6172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5400" spc="-1" strike="noStrike">
                <a:solidFill>
                  <a:srgbClr val="ff0000"/>
                </a:solidFill>
                <a:latin typeface="Monotype Corsiva"/>
              </a:rPr>
              <a:t>Табан хурганай арга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Пальчиковая гимнасти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Этот мальчик маленьки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Этот пальчик слабеньки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Этот пальчик длинненьки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Этот пальчик сильненьки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Этот пальчик – толстячок,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Ну, а вместе – кулачок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K:\-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7858080" cy="56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1.Юу мэдэхэ болообиб?</a:t>
            </a:r>
            <a:br>
              <a:rPr sz="4400"/>
            </a:b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2. Юу хэжэ шададаг болообиб?</a:t>
            </a:r>
            <a:br>
              <a:rPr sz="4400"/>
            </a:b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3.Сэдьхэлэйм байдал ямар байгааб?</a:t>
            </a:r>
            <a:br>
              <a:rPr sz="4400"/>
            </a:b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4.Юугээр хэндэ туһалабиб?</a:t>
            </a:r>
            <a:br>
              <a:rPr sz="4400"/>
            </a:b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5.Юу өөртөө һонин юумэ абаабиб?</a:t>
            </a:r>
            <a:br>
              <a:rPr sz="4400"/>
            </a:br>
            <a:r>
              <a:rPr b="0" lang="mn-Cyrl-MN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3:04:21Z</dcterms:created>
  <dc:creator>Александр</dc:creator>
  <dc:description/>
  <dc:language>en-US</dc:language>
  <cp:lastModifiedBy>Admin</cp:lastModifiedBy>
  <dcterms:modified xsi:type="dcterms:W3CDTF">2019-03-01T01:20:46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