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58E-C2B7-4E2A-91CB-3437528B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FDF-FE8C-4F3E-BAEA-19C165CA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43B-1890-4E3A-A82C-73B9B029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807-6EDF-4059-B7A9-1E248172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0279-A300-4D10-9542-68F4EE20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9EDE-87C2-4784-9CA2-DEDC6643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EC80-D1A8-4962-8069-E1449F52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F179-D469-46C5-A626-0DD92D34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BBDB-FC2E-496F-8CB7-B4C88B5F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4143-9F86-4EDD-BF1B-6A04D393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CAF1-C2C2-453B-B19F-456C6345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FA9-FE21-46A6-A23F-9EA3153F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124B-8DDC-4F58-AC1E-A693E178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7EBA-0F84-424F-8317-F9630C92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2E51-82CB-47C3-8E53-E3A62976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A3C3-53A3-4F38-B837-CEA71478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69D4-F615-4BD5-AD2F-B0CEE276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E9AD-F15F-4F43-B3B3-0D6A219B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658C0-433E-4A81-82DC-A9711636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6D41-1510-4683-8ACF-12BFCBFA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89676-0684-4186-BDAD-3E2FA897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C648D-EEFF-40A6-BC8A-D92DF917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6E2-0CE3-4BF0-B8F6-54C25508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AC540-C5D5-4ABB-A301-7B2E7DFA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70057-FB35-457F-9DC8-14C234FF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C8DD-F745-4582-B3DA-22A66FF7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058C-04AF-40FC-B7DD-1A68084A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35367-EBBC-4B43-A200-4A936C48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57706-F32E-4CCA-A034-9A2D217B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FF9C-0951-4BC7-8C0D-8F95D58F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F8A2C-D315-41D8-8BFD-DFD644E2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25E07-6B11-4EC4-97B8-08B31E1C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A9BAA-04EF-4274-AF1B-1814BDB1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37E-E442-4D8D-9AE9-37D4B254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E3140-148E-4619-9049-1925DDB5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63443-7F89-4ADD-8277-9349CADB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3B84F-7EAF-44F4-A39B-24C18D94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E429C-FFD1-4E8E-BD85-52AA97FE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3D302-7D0C-4A31-9424-407E5772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4A12-8B6C-426C-B3CC-D829C67E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26FD1-CF4C-42E5-A957-5A7BEA56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7B461-A0D2-4D01-AC29-5E323499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05001-54F3-4AF4-9EBE-DEB008CC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3BDEC-96AE-4653-8F8F-E68576EC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866-1762-47A1-B9FE-F3E8FDB4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54428-1E8E-4C61-8B22-5ADD8881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180AB-0A65-4A17-897A-1202A7DE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CDDB7-2453-4178-BC1B-2D86786D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E4B93-40F2-4A26-8A72-1D4E59F2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BB17A-DA93-47F2-AC38-4BAB4E72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99B20-17DF-485D-899B-3A8E48BC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EFA95-695F-498D-9AED-ECC4D670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6DDDD-695F-48AD-8F26-E9BF67C6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A81DD-78F3-4938-A234-FD7741A1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48F8D-87D3-4B06-9195-61C72918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D18-AF59-486A-9C97-53074CF6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16AA-18C6-43B5-96E1-E4EDD94A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5CBEB-0BBA-46FD-A5AA-26C3640D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8F051-47B7-4440-9468-554259F6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4D229-1CB3-4028-B036-726CF0C7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76473-7C39-4F6C-9F83-10C66454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5FD84-FC65-47E1-AB1C-1DC56E26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F0068-2BF5-436A-8EBE-3BF9FDDE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AFB66-6B11-43C0-A416-BE2B20EB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72FAF-4DE5-4B3D-84C9-B6D6DA6F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85673-51F1-46E7-A880-9CA60AA5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036-704E-4896-A6F7-05E0819D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88B8D-80D1-4663-BA79-68E942D6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A8B5C-84A0-4216-8C1E-BEAB635F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67E26-21F8-445C-92A4-DE2B2854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0BF-6EDE-4709-9185-44EEA840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26F-50C2-45D7-A6FA-1E1E54D1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25C0-C48D-4C4D-862A-8D8A78FC582D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0D13-36B3-416E-89D7-BD8821AC06D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16FD-8407-4686-B506-F8ED6652069C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CEB4-F19A-42FA-957F-A8CF817A426C}" type="slidenum"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C49B-1584-4F1A-933C-BE544B26C923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075B-7331-4C0F-9278-490E302E8B6B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1365120" y="5479920"/>
            <a:ext cx="7875720" cy="13845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270080" y="812880"/>
            <a:ext cx="6400800" cy="322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шение линейных неравенств 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дной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переменной и их систе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7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c6c6c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6c6c6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6c6c6c"/>
              </a:solidFill>
              <a:latin typeface="Times New Roman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86 (а, б), 894(а, б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одержимое 1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819288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225360" y="317520"/>
            <a:ext cx="748044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такое «неравенство с одной переменной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значит решить неравен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сильные неравенства - это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системы неравенств с одной переменной – это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значит решить систему неравенст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йства равносильности, используемые при решении   систем линейных неравенств с одной перемен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407440" cy="1158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но ли утверждение: если х&gt;2 и y&gt;14, то х+y&gt;1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но ли утверждение: если х&gt;2 и y&gt;14, то х·y&lt; 2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ли число 0 решением неравенства 3х–1&lt;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ли неравенство 3х+12&gt;2х–2 строги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 ли целое  число, принадлежащее промежутку [–2,5;–2,3]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но ли, что при умножении или делении обеих частей неравенства на отрицательное число, знак неравенства не меняет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682560" y="920880"/>
            <a:ext cx="8010720" cy="852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42480" y="1944720"/>
            <a:ext cx="6829560" cy="390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1.Да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2.Н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3.Да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4.Да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5.Н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6.Н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авенству –3х≤–45 соответствует числовой  промежут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(–∞;15)     б)[15;+∞)   в)(–∞;15]      г) (15;+∞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Укажите наибольшее и наименьшее целое число, принадлежащее  промежут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(–4;12)                                 Б)[–4;0,8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Решить систему неравен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х–10&gt;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х–5&gt;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Левая фигурная скобка 4"/>
          <p:cNvSpPr/>
          <p:nvPr/>
        </p:nvSpPr>
        <p:spPr>
          <a:xfrm>
            <a:off x="812880" y="4572000"/>
            <a:ext cx="333360" cy="928800"/>
          </a:xfrm>
          <a:custGeom>
            <a:avLst/>
            <a:gdLst>
              <a:gd name="textAreaLeft" fmla="*/ 213120 w 333360"/>
              <a:gd name="textAreaRight" fmla="*/ 333720 w 33336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6"/>
                </a:cubicBezTo>
                <a:lnTo>
                  <a:pt x="10800" y="10154"/>
                </a:lnTo>
                <a:cubicBezTo>
                  <a:pt x="10800" y="10477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6"/>
                </a:cubicBezTo>
                <a:lnTo>
                  <a:pt x="10800" y="20954"/>
                </a:lnTo>
                <a:cubicBezTo>
                  <a:pt x="10800" y="21277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122400" y="281160"/>
            <a:ext cx="8467560" cy="1157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 [15;+∞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)наибольшее  11; наименьшее  -3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)наибольшее 0; наименьшее  -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(5;+∞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ите двойное неравенство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ссмотреть 2 способа реш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&lt;х–9&lt;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количество натуральных чисел, являющихся решением системы неравенст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,6–6х≤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х+1≤25–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каких  значениях у  значения   двучлена 2y–5 принадлежат промежутку (–1;1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Левая фигурная скобка 3"/>
          <p:cNvSpPr/>
          <p:nvPr/>
        </p:nvSpPr>
        <p:spPr>
          <a:xfrm>
            <a:off x="2308320" y="3629160"/>
            <a:ext cx="299880" cy="957240"/>
          </a:xfrm>
          <a:custGeom>
            <a:avLst/>
            <a:gdLst>
              <a:gd name="textAreaLeft" fmla="*/ 191520 w 299880"/>
              <a:gd name="textAreaRight" fmla="*/ 300240 w 299880"/>
              <a:gd name="textAreaTop" fmla="*/ 7560 h 957240"/>
              <a:gd name="textAreaBottom" fmla="*/ 949680 h 9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2"/>
                  <a:pt x="10800" y="564"/>
                </a:cubicBezTo>
                <a:lnTo>
                  <a:pt x="10800" y="10236"/>
                </a:lnTo>
                <a:cubicBezTo>
                  <a:pt x="10800" y="10518"/>
                  <a:pt x="5400" y="10800"/>
                  <a:pt x="0" y="10800"/>
                </a:cubicBezTo>
                <a:cubicBezTo>
                  <a:pt x="5400" y="10800"/>
                  <a:pt x="10800" y="11082"/>
                  <a:pt x="10800" y="11364"/>
                </a:cubicBezTo>
                <a:lnTo>
                  <a:pt x="10800" y="21036"/>
                </a:lnTo>
                <a:cubicBezTo>
                  <a:pt x="10800" y="21318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-201600" y="360360"/>
            <a:ext cx="74502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0" y="198108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9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92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Решите неравенств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)4+12х&gt;7+13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)-(2-3х)+4(6+х)&gt;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Решите неравенств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)7-4х&lt;6х-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)-(4-5х)+2(3+х)&l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94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Решите систему неравенст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х+4≤4х+6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-5≤4-2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Решите систему неравенст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х+3≤6х+7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-1≤5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0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)Решите двойное неравен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способ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&lt;2-5х&lt;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)Решите двойное неравен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способ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&lt;1-3х&l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82" name="Левая фигурная скобка 10"/>
          <p:cNvSpPr/>
          <p:nvPr/>
        </p:nvSpPr>
        <p:spPr>
          <a:xfrm>
            <a:off x="378000" y="4630680"/>
            <a:ext cx="183960" cy="623880"/>
          </a:xfrm>
          <a:custGeom>
            <a:avLst/>
            <a:gdLst>
              <a:gd name="textAreaLeft" fmla="*/ 117720 w 183960"/>
              <a:gd name="textAreaRight" fmla="*/ 184320 w 183960"/>
              <a:gd name="textAreaTop" fmla="*/ 4680 h 623880"/>
              <a:gd name="textAreaBottom" fmla="*/ 619200 h 6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6"/>
                  <a:pt x="10800" y="531"/>
                </a:cubicBezTo>
                <a:lnTo>
                  <a:pt x="10800" y="10269"/>
                </a:lnTo>
                <a:cubicBezTo>
                  <a:pt x="10800" y="10535"/>
                  <a:pt x="5400" y="10800"/>
                  <a:pt x="0" y="10800"/>
                </a:cubicBezTo>
                <a:cubicBezTo>
                  <a:pt x="5400" y="10800"/>
                  <a:pt x="10800" y="11066"/>
                  <a:pt x="10800" y="11331"/>
                </a:cubicBezTo>
                <a:lnTo>
                  <a:pt x="10800" y="21069"/>
                </a:lnTo>
                <a:cubicBezTo>
                  <a:pt x="10800" y="21335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Левая фигурная скобка 13"/>
          <p:cNvSpPr/>
          <p:nvPr/>
        </p:nvSpPr>
        <p:spPr>
          <a:xfrm>
            <a:off x="4500720" y="4643280"/>
            <a:ext cx="101520" cy="595440"/>
          </a:xfrm>
          <a:custGeom>
            <a:avLst/>
            <a:gdLst>
              <a:gd name="textAreaLeft" fmla="*/ 64800 w 101520"/>
              <a:gd name="textAreaRight" fmla="*/ 101880 w 101520"/>
              <a:gd name="textAreaTop" fmla="*/ 2520 h 595440"/>
              <a:gd name="textAreaBottom" fmla="*/ 592920 h 59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4"/>
                  <a:pt x="10800" y="307"/>
                </a:cubicBezTo>
                <a:lnTo>
                  <a:pt x="10800" y="10493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4"/>
                  <a:pt x="10800" y="11107"/>
                </a:cubicBezTo>
                <a:lnTo>
                  <a:pt x="10800" y="21293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81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0" y="1893960"/>
          <a:ext cx="8156520" cy="4964040"/>
        </p:xfrm>
        <a:graphic>
          <a:graphicData uri="http://schemas.openxmlformats.org/drawingml/2006/table">
            <a:tbl>
              <a:tblPr/>
              <a:tblGrid>
                <a:gridCol w="4078440"/>
                <a:gridCol w="4078080"/>
              </a:tblGrid>
              <a:tr h="1127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       а)(-∞;-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)(-3;+∞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        а) (3;+∞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)(-∞;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[-2;3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[-4;3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,4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/3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19:40Z</dcterms:created>
  <dc:creator>Кружок</dc:creator>
  <dc:description/>
  <dc:language>en-US</dc:language>
  <cp:lastModifiedBy>DNA7 X86</cp:lastModifiedBy>
  <dcterms:modified xsi:type="dcterms:W3CDTF">2015-01-05T20:40:23Z</dcterms:modified>
  <cp:revision>45</cp:revision>
  <dc:subject/>
  <dc:title>Слайд 1</dc:title>
</cp:coreProperties>
</file>