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08D-A7E0-4183-BA5E-0879DDE1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309-0846-4170-A01C-50788F04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009-A99B-424C-AC5A-088ADD47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19D-1648-4907-973B-30F87916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8C0D-47BA-492B-98D1-DD0AB6B9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82A3-7F59-4612-B821-41749D46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B33F-47A6-42FC-8B52-42111209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F7E0-2EFA-4912-8D15-E8758CC5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B79D-908D-430B-BFC9-A8140637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9FDF-256E-4F78-BB67-2EB3ABB7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3F6C-6045-410C-AAF5-BDDC33FF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37B-883D-45BE-A798-357059FB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9F69-35CF-4663-9618-3E59E0B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0F40-10C1-481D-B7CC-C3CB39A8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91C6-33F0-4277-A05B-A0AB5328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500C-4020-46C1-8DB6-B78C818F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D420-1978-4FC7-88D3-F0EE3F45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57DB-79CF-4505-95F5-19D338DE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EF4B-02F5-43FB-946F-384B3AA9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B5F1-1AF7-4916-9610-016A70D3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47E3-6BF6-44E1-BCB0-93E2AB12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B891-BC87-4C15-BB9B-99F171A7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1D6-E3AD-40C0-9980-589D1E74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A1BB-D447-4782-9E70-F59ED1C1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1DD8-12C4-4AAD-AC2D-270714FC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F6E1-E472-46DE-89E8-485A52D4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238D-DC58-4D11-B768-510F256B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98ED-50E7-4C4D-9A80-9DDDA76C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9179-954A-4E8F-B648-73482BC5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3F0F5-8602-401A-B98E-72469FFC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4343-DBE6-4ECB-B24B-F2FEE988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CB2E8-5A1D-49CA-9929-18E3F740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2633-0D39-42CD-8E5D-11990E3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DF0-892E-494C-873E-DEC3FD54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4237-6AE9-4DB5-B0F1-9477FA91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C9832-6DB2-4537-A61F-0A833D74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0B44A-7C7A-4B7A-83E1-97A5F1A5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E385B-7D2F-4656-83B2-A1F8B09D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7B06-D160-45A1-9F86-57274394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E335A-0EC5-4A1B-8A15-4C5FBCA6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7317-CF60-452B-82D5-C29E14AF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35BA-6EE5-4154-B25D-0656C63D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404F6-5EB1-443F-B1C7-B51B09C3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D4D9E-C7D4-4E87-A961-A1346A1E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B48-B053-44D6-9F05-D1A68485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F5291-D628-4DCC-AE2A-83B95532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BF55-BD02-4D63-BD72-90F3E1BB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46265-033B-4D16-B6AD-2C7C6384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273DE-7272-46F4-BB19-C2391850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FEB2-70D0-415C-8F38-17CEC8CB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AD918-691B-4196-BAE5-7B5EFB27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28B05-2206-454F-9074-A7BE3C99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44160-9F7D-4F50-9F6C-675D5238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BD78-02FB-48CB-8B43-CFDD0DC5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633CE-1F73-4FEC-99E4-46666660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73C-C46A-4DBA-8093-8DF67C4F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DFDD5-4915-4807-9834-D2732C4F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1F629-E3E8-472D-B1E8-B013F88E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8EEF7-D6DE-4393-942A-EE335B50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E3CB4-0223-4110-BACF-22717347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22511-7CD4-44C2-9339-F6DAD75C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A4900-3F91-43CF-AD34-318235DE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A15B1-DCC6-4AA5-810A-6C6C248B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79F0-9605-4F42-ADB1-F9459C92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85DB4-79B4-4665-9062-EBFCABFB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53DA0-4BC6-4E6D-86B9-A26055D1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862-C342-4E43-8D03-65D342EE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A338-53E1-4F2D-86A9-D2B34F95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8CEF0-094F-4C64-BA6F-3DD7E854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15041-05C5-459C-ACEB-68AE4697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1F3-5093-41F9-818E-7F8F2D9C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643-64D0-47E8-945A-94AD7924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D1AC-BD9E-45B6-9A4A-DDDE8B4DE93C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A7D-EEA0-44AA-9BD8-2A0125CFB0F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733A-7B5A-4D5F-8A9E-82BC0A2F9074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65F2-8094-4F6B-ACC8-7EFE803B7C0D}" type="slidenum"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4E49-ADA1-44CF-82A9-D06DA8EE55FD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A8EA-B070-4B06-AD95-02A1D8BAA4B1}" type="slidenum">
              <a:rPr b="0" lang="ru-RU" sz="11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365120" y="5479920"/>
            <a:ext cx="7875720" cy="1384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270080" y="812880"/>
            <a:ext cx="6400800" cy="322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шение линейных неравенств с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дной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еременной и их систе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7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c6c6c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6c6c6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6c6c6c"/>
              </a:solidFill>
              <a:latin typeface="Times New Roman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886 (а, б), 894(а, б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одержимое 1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819288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25360" y="317520"/>
            <a:ext cx="74804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«неравенство с одной переменной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значит решить неравен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сильные неравенства - это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системы неравенств с одной переменной – это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значит решить систему неравенст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йства равносильности, используемые при решении   систем линейных неравенств с одной перемен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407440" cy="1158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 утверждение: если х&gt;2 и y&gt;14, то х+y&gt;1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 утверждение: если х&gt;2 и y&gt;14, то х·y&lt; 2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ли число 0 решением неравенства 3х–1&lt;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ли неравенство 3х+12&gt;2х–2 строги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 ли целое  число, принадлежащее промежутку [–2,5;–2,3]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но ли, что при умножении или делении обеих частей неравенства на отрицательное число, знак неравенства не меняет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682560" y="920880"/>
            <a:ext cx="8010720" cy="852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42480" y="1944720"/>
            <a:ext cx="6829560" cy="390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1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2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3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4.Да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5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6.Н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венству –3х≤–45 соответствует числовой  промежуто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(–∞;15)     б)[15;+∞)   в)(–∞;15]      г) (15;+∞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Укажите наибольшее и наименьшее целое число, принадлежащее  промежут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(–4;12)                                 Б)[–4;0,8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ешить систему неравен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х–10&gt;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х–5&gt;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Левая фигурная скобка 4"/>
          <p:cNvSpPr/>
          <p:nvPr/>
        </p:nvSpPr>
        <p:spPr>
          <a:xfrm>
            <a:off x="812880" y="4572000"/>
            <a:ext cx="333360" cy="928800"/>
          </a:xfrm>
          <a:custGeom>
            <a:avLst/>
            <a:gdLst>
              <a:gd name="textAreaLeft" fmla="*/ 213120 w 333360"/>
              <a:gd name="textAreaRight" fmla="*/ 333720 w 33336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6"/>
                </a:cubicBezTo>
                <a:lnTo>
                  <a:pt x="10800" y="10154"/>
                </a:lnTo>
                <a:cubicBezTo>
                  <a:pt x="10800" y="10477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6"/>
                </a:cubicBezTo>
                <a:lnTo>
                  <a:pt x="10800" y="20954"/>
                </a:lnTo>
                <a:cubicBezTo>
                  <a:pt x="10800" y="21277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122400" y="281160"/>
            <a:ext cx="8467560" cy="1157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 [15;+∞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)наибольшее  11; наименьшее  -3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)наибольшее 0; наименьшее  -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(5;+∞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е двойное неравенство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ссмотреть 2 способа реш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&lt;х–9&lt;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количество натуральных чисел, являющихся решением системы неравенст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,6–6х≤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х+1≤25–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каких  значениях у  значения   двучлена 2y–5 принадлежат промежутку (–1;1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Левая фигурная скобка 3"/>
          <p:cNvSpPr/>
          <p:nvPr/>
        </p:nvSpPr>
        <p:spPr>
          <a:xfrm>
            <a:off x="2308320" y="3629160"/>
            <a:ext cx="299880" cy="957240"/>
          </a:xfrm>
          <a:custGeom>
            <a:avLst/>
            <a:gdLst>
              <a:gd name="textAreaLeft" fmla="*/ 191520 w 299880"/>
              <a:gd name="textAreaRight" fmla="*/ 300240 w 299880"/>
              <a:gd name="textAreaTop" fmla="*/ 7560 h 957240"/>
              <a:gd name="textAreaBottom" fmla="*/ 949680 h 9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2"/>
                  <a:pt x="10800" y="564"/>
                </a:cubicBezTo>
                <a:lnTo>
                  <a:pt x="10800" y="10236"/>
                </a:lnTo>
                <a:cubicBezTo>
                  <a:pt x="10800" y="10518"/>
                  <a:pt x="5400" y="10800"/>
                  <a:pt x="0" y="10800"/>
                </a:cubicBezTo>
                <a:cubicBezTo>
                  <a:pt x="5400" y="10800"/>
                  <a:pt x="10800" y="11082"/>
                  <a:pt x="10800" y="11364"/>
                </a:cubicBezTo>
                <a:lnTo>
                  <a:pt x="10800" y="21036"/>
                </a:lnTo>
                <a:cubicBezTo>
                  <a:pt x="10800" y="21318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-201600" y="360360"/>
            <a:ext cx="74502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0" y="198108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9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92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Решите неравенст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4+12х&gt;7+13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-(2-3х)+4(6+х)&gt;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Решите неравенст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)7-4х&lt;6х-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)-(4-5х)+2(3+х)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94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Решите систему неравенст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х+4≤4х+6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-5≤4-2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Решите систему неравенст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х+3≤6х+7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-1≤5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0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Решите двойное неравен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способ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&lt;2-5х&lt;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Решите двойное неравен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способ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&lt;1-3х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82" name="Левая фигурная скобка 10"/>
          <p:cNvSpPr/>
          <p:nvPr/>
        </p:nvSpPr>
        <p:spPr>
          <a:xfrm>
            <a:off x="378000" y="4630680"/>
            <a:ext cx="183960" cy="623880"/>
          </a:xfrm>
          <a:custGeom>
            <a:avLst/>
            <a:gdLst>
              <a:gd name="textAreaLeft" fmla="*/ 117720 w 183960"/>
              <a:gd name="textAreaRight" fmla="*/ 184320 w 183960"/>
              <a:gd name="textAreaTop" fmla="*/ 4680 h 623880"/>
              <a:gd name="textAreaBottom" fmla="*/ 619200 h 6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6"/>
                  <a:pt x="10800" y="531"/>
                </a:cubicBezTo>
                <a:lnTo>
                  <a:pt x="10800" y="10269"/>
                </a:lnTo>
                <a:cubicBezTo>
                  <a:pt x="10800" y="10535"/>
                  <a:pt x="5400" y="10800"/>
                  <a:pt x="0" y="10800"/>
                </a:cubicBezTo>
                <a:cubicBezTo>
                  <a:pt x="5400" y="10800"/>
                  <a:pt x="10800" y="11066"/>
                  <a:pt x="10800" y="11331"/>
                </a:cubicBezTo>
                <a:lnTo>
                  <a:pt x="10800" y="21069"/>
                </a:lnTo>
                <a:cubicBezTo>
                  <a:pt x="10800" y="21335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Левая фигурная скобка 13"/>
          <p:cNvSpPr/>
          <p:nvPr/>
        </p:nvSpPr>
        <p:spPr>
          <a:xfrm>
            <a:off x="4500720" y="4643280"/>
            <a:ext cx="101520" cy="595440"/>
          </a:xfrm>
          <a:custGeom>
            <a:avLst/>
            <a:gdLst>
              <a:gd name="textAreaLeft" fmla="*/ 64800 w 101520"/>
              <a:gd name="textAreaRight" fmla="*/ 101880 w 101520"/>
              <a:gd name="textAreaTop" fmla="*/ 2520 h 595440"/>
              <a:gd name="textAreaBottom" fmla="*/ 592920 h 59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"/>
                  <a:pt x="10800" y="307"/>
                </a:cubicBezTo>
                <a:lnTo>
                  <a:pt x="10800" y="10493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4"/>
                  <a:pt x="10800" y="11107"/>
                </a:cubicBezTo>
                <a:lnTo>
                  <a:pt x="10800" y="21293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81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0" y="1893960"/>
          <a:ext cx="8156520" cy="4964040"/>
        </p:xfrm>
        <a:graphic>
          <a:graphicData uri="http://schemas.openxmlformats.org/drawingml/2006/table">
            <a:tbl>
              <a:tblPr/>
              <a:tblGrid>
                <a:gridCol w="4078440"/>
                <a:gridCol w="4078080"/>
              </a:tblGrid>
              <a:tr h="1127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       а)(-∞;-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)(-3;+∞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        а) (3;+∞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)(-∞;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8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[-2;3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[-4;3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,4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/3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DNA7 X86</cp:lastModifiedBy>
  <dcterms:modified xsi:type="dcterms:W3CDTF">2015-01-05T20:40:23Z</dcterms:modified>
  <cp:revision>45</cp:revision>
  <dc:subject/>
  <dc:title>Слайд 1</dc:title>
</cp:coreProperties>
</file>