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8862-C1F4-4881-9C4B-3634DDBB6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F3A5-483C-4811-A728-9E7F9B16E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B3C9-7416-46C6-BC34-A971DB65F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130D-35A7-4B43-95B2-A7685339E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A3F5-78B2-42BF-B64E-6E87FC19A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F0BB-1C29-48AD-A02A-2AB071358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C121-E832-4C83-85C0-2B821F964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73F9-A46D-4B1B-B909-821D17EF9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7049-16C8-4088-AE80-E516250D5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807E-E4C5-4042-9241-9C1298448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55A0-93DA-4A54-8365-92B233904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C344-1765-4886-9DB5-F49934E1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705B5-1112-405A-9168-D056FC77E0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00"/>
                </a:solidFill>
                <a:latin typeface="Cambria"/>
              </a:rPr>
              <a:t>Природные зон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00"/>
                </a:solidFill>
                <a:latin typeface="Cambria"/>
              </a:rPr>
              <a:t>и экосистем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Cambria"/>
              </a:rPr>
              <a:t>                                                                </a:t>
            </a:r>
            <a:r>
              <a:rPr b="1" lang="en-US" sz="1800" spc="-1" strike="noStrike">
                <a:solidFill>
                  <a:srgbClr val="00cc00"/>
                </a:solidFill>
                <a:latin typeface="Cambria"/>
              </a:rPr>
              <a:t>Воспитат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Cambria"/>
              </a:rPr>
              <a:t>                                                                                         </a:t>
            </a:r>
            <a:r>
              <a:rPr b="1" lang="en-US" sz="1800" spc="-1" strike="noStrike">
                <a:solidFill>
                  <a:srgbClr val="00cc00"/>
                </a:solidFill>
                <a:latin typeface="Cambria"/>
              </a:rPr>
              <a:t>Орлова Елена Борис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73400" y="333000"/>
            <a:ext cx="834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Arial"/>
              </a:rPr>
              <a:t>Муниципальное обще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Arial"/>
              </a:rPr>
              <a:t>средняя общеобразовательная школа № 24 имени Бориса Рукавицы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Arial"/>
              </a:rPr>
              <a:t>(дошкольные групп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Cambria"/>
              </a:rPr>
              <a:t>Р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Картинки по запросу река картинки"/>
          <p:cNvPicPr/>
          <p:nvPr/>
        </p:nvPicPr>
        <p:blipFill>
          <a:blip r:embed="rId1"/>
          <a:stretch/>
        </p:blipFill>
        <p:spPr>
          <a:xfrm>
            <a:off x="826920" y="1125360"/>
            <a:ext cx="7632720" cy="50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Cambria"/>
              </a:rPr>
              <a:t>Мо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more_7_600"/>
          <p:cNvPicPr/>
          <p:nvPr/>
        </p:nvPicPr>
        <p:blipFill>
          <a:blip r:embed="rId1"/>
          <a:srcRect l="0" t="0" r="0" b="5611"/>
          <a:stretch/>
        </p:blipFill>
        <p:spPr>
          <a:xfrm>
            <a:off x="755640" y="1268280"/>
            <a:ext cx="78613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Cambria"/>
              </a:rPr>
              <a:t>Го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Arhyz_24"/>
          <p:cNvPicPr/>
          <p:nvPr/>
        </p:nvPicPr>
        <p:blipFill>
          <a:blip r:embed="rId1"/>
          <a:srcRect l="0" t="0" r="0" b="5586"/>
          <a:stretch/>
        </p:blipFill>
        <p:spPr>
          <a:xfrm>
            <a:off x="539640" y="1125360"/>
            <a:ext cx="820764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Cambria"/>
              </a:rPr>
              <a:t>Тунд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Картинки по запросу тундра картинки"/>
          <p:cNvPicPr/>
          <p:nvPr/>
        </p:nvPicPr>
        <p:blipFill>
          <a:blip r:embed="rId1"/>
          <a:stretch/>
        </p:blipFill>
        <p:spPr>
          <a:xfrm>
            <a:off x="971640" y="1268280"/>
            <a:ext cx="720072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Cambria"/>
              </a:rPr>
              <a:t>Ле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yellowlemon-011-pr"/>
          <p:cNvPicPr/>
          <p:nvPr/>
        </p:nvPicPr>
        <p:blipFill>
          <a:blip r:embed="rId1"/>
          <a:stretch/>
        </p:blipFill>
        <p:spPr>
          <a:xfrm>
            <a:off x="395280" y="1125360"/>
            <a:ext cx="8424720" cy="52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Cambria"/>
              </a:rPr>
              <a:t>Тай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000577"/>
          <p:cNvPicPr/>
          <p:nvPr/>
        </p:nvPicPr>
        <p:blipFill>
          <a:blip r:embed="rId1"/>
          <a:stretch/>
        </p:blipFill>
        <p:spPr>
          <a:xfrm>
            <a:off x="1332000" y="981000"/>
            <a:ext cx="6553080" cy="56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Cambria"/>
              </a:rPr>
              <a:t>Степ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Картинки по запросу степь картинки"/>
          <p:cNvPicPr/>
          <p:nvPr/>
        </p:nvPicPr>
        <p:blipFill>
          <a:blip r:embed="rId1"/>
          <a:stretch/>
        </p:blipFill>
        <p:spPr>
          <a:xfrm>
            <a:off x="684360" y="1268280"/>
            <a:ext cx="777708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Cambria"/>
              </a:rPr>
              <a:t>Пусты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sahara_desert-wide-1920x1440"/>
          <p:cNvPicPr/>
          <p:nvPr/>
        </p:nvPicPr>
        <p:blipFill>
          <a:blip r:embed="rId1"/>
          <a:stretch/>
        </p:blipFill>
        <p:spPr>
          <a:xfrm>
            <a:off x="1116000" y="1197000"/>
            <a:ext cx="698508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Cambria"/>
              </a:rPr>
              <a:t>Тропический ле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http://www.spelplus.com/postpic/2012/02/jungle-forest_322950.jpg"/>
          <p:cNvPicPr/>
          <p:nvPr/>
        </p:nvPicPr>
        <p:blipFill>
          <a:blip r:embed="rId1"/>
          <a:stretch/>
        </p:blipFill>
        <p:spPr>
          <a:xfrm>
            <a:off x="560520" y="1341360"/>
            <a:ext cx="8188200" cy="51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Cambria"/>
              </a:rPr>
              <a:t>Лу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tsvetushiy_lug_1_600"/>
          <p:cNvPicPr/>
          <p:nvPr/>
        </p:nvPicPr>
        <p:blipFill>
          <a:blip r:embed="rId1"/>
          <a:srcRect l="0" t="0" r="0" b="4368"/>
          <a:stretch/>
        </p:blipFill>
        <p:spPr>
          <a:xfrm>
            <a:off x="1042920" y="1200240"/>
            <a:ext cx="7201080" cy="51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Cambria"/>
              </a:rPr>
              <a:t>Озер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Картинки по запросу озеро картинки"/>
          <p:cNvPicPr/>
          <p:nvPr/>
        </p:nvPicPr>
        <p:blipFill>
          <a:blip r:embed="rId1"/>
          <a:stretch/>
        </p:blipFill>
        <p:spPr>
          <a:xfrm>
            <a:off x="826920" y="1341360"/>
            <a:ext cx="748836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1T18:43:41Z</dcterms:created>
  <dc:creator>лоапль</dc:creator>
  <dc:description/>
  <dc:language>en-US</dc:language>
  <cp:lastModifiedBy>User</cp:lastModifiedBy>
  <dcterms:modified xsi:type="dcterms:W3CDTF">2019-12-08T19:52:39Z</dcterms:modified>
  <cp:revision>13</cp:revision>
  <dc:subject/>
  <dc:title>Слайд 1</dc:title>
</cp:coreProperties>
</file>