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53FA6-7D85-4209-8941-1DE50DD5EF3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88DBE-0478-4031-95AB-0FD546BECCF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4FE09-476D-4575-BE8F-5209A7A87D3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2F45C-B500-4588-AAA8-E17F3A12C2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07.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22FCF-0059-4CEC-8DC5-7EDDB0B6044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BBE50-160E-4C56-A218-D2B90131676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62D95-90E3-418D-9D46-2A36648C0F8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BE53B-54AA-4C98-BB60-9D0275FF77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07.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FEAD9-661B-4993-906E-A152DC6F9AD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2B900-45A5-4411-85AB-0DD2CE6E32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32B5B-9951-40D7-8377-D1A31D908B5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EFE9B-0A99-43A9-B4C4-5560D74F2C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AE61F-9392-48B6-AD1A-15D8DE30F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WenQuanYi Micro 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4D0DA-0170-4560-B5B2-0DC9E82F23C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E2DC1-6B17-418D-A9DF-AE7132656F1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16588-F697-4B1F-8659-01D5CB68CD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07.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78E52-5B9C-4756-90F0-EA1945F6232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4924D-B086-4B84-BEDC-FD127866FAB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4D726-BB7D-4742-A1D4-DCADBD8B2D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70ABE-6672-46BB-8864-2964FF737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WenQuanYi Micro He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8B4AF-F7DA-4D29-B84A-E6FEE26C4C0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8263D-6D9D-4AE9-9B0D-26991CE933A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F24FB-F5C9-45CC-8297-3ED82E439F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07.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9B1D8-E688-420C-A840-1F120369D05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93C6C-57CE-4057-ABB3-6A0B724C91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C1DF9-8A7D-47AF-A324-6C6E37F88B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07.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6ACC6-8F16-49DF-93CB-A4F9D59A8A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89640" cy="3443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CB624-7FD2-4F66-A496-5F7DE88B6CB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20C9E-8739-463A-AB80-AE94B9FF79A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F151C-EE34-4FDF-9A25-7C4A616DD36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E940F-67FE-4A83-B732-C90EF92056D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BA5B7-5C61-4A70-829E-D4802B3639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40323-AD10-4008-B952-098E269B451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B935A-3D40-4241-8F19-E8EDB5BFE8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6E62E-DACB-470B-95ED-3DED429C57F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C061E-C102-4328-9203-741D43570A0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4CF89-D888-48A6-A231-DC4402C2CBF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81057-6103-46B9-976B-6987BAEE447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9FBF7-AADE-4813-B88F-F8A0918FC9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07.199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2368-C16A-432A-8014-EB2B4B0A9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297B-0B1A-4CF9-9862-094B86EB2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923B-9A6E-499E-8B0E-E40917965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FE62-EBB1-4486-A312-5532CD130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6E79-9441-403B-8020-55F800BBF6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B7DA-9590-4855-9D0F-0FE73D5B9B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FE41-0BA7-4483-8BFC-72F02339B2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939C-44FB-4658-AF76-80FC81F08C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717A-4408-4626-BFF3-176852CBE6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-320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7B104-2932-4B00-A0AD-31F6950F2C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45A5-54B7-4F4E-BAD9-B9DB1F7912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CDF1-953D-4187-9263-F677AB1E1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B1F6-7247-46BE-B505-46BD0BBB5F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3A4B-D091-483F-A8E6-28B9A7AFCE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9907-3C38-4E3E-B05B-C087ED61D5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0DED-0C5F-44A4-B643-0361C0216B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88E1-386A-45DE-82B5-91CB5F1CAA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33B-17B3-4DDA-9916-EE0A7C30FE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DA5-1066-49C2-8BA7-F167D23BC3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9D7-CCDF-4891-8553-B5869AC2FD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4F7-E4AD-4696-A207-8C4A12BD3D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0C5-A84D-4FBA-AA05-9AE79F6CD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98C4-77E6-455A-A3E5-670F112CDC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-320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850-6140-4AAE-AF0A-1784BA51D2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32C-E155-4A95-9E55-A9567343A5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938-9954-4F6D-8EB2-0BDCEBC7E2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2BA-F0CD-4C50-A7D4-5968E23856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00B-C43C-420B-B504-85F4247E71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E48-3567-4899-9D98-B245F47D66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825-D923-4D40-B732-81E104AA84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545B4-8D6D-4D62-B4B5-32C2B3056B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189BD-A2CF-468A-A28B-F415D3DC27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6C6D0-9F49-4C40-9728-A56EA589D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CC4D-E3F5-4393-96B0-9976DD4DAE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70E76-31E6-44BA-965E-3C3AC47D18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B557D-FFD2-4645-AB24-3D2654BAEE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6840" y="-320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E365F-D207-46B5-B99D-C45E6FB20E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AC224-8D72-4339-A4E6-32B49889D1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7A853-AC10-4687-9737-B941913258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8DA5E-B734-4236-9729-66C96EFEAC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56CCB-C3D8-4F96-9DC4-A98A5CC6C4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FE54B-1460-40E9-A552-4777607E95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823E1-7A68-4132-90C6-88FCF5AA5A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663EC-64B4-45F7-9EB7-B10C44190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9222-DD72-4E54-835C-19BDFA0E70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C675D-544C-4EEC-BDAA-0A860CA955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C8FEB-FCB8-4D25-A77E-79DA84E8DDA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304EA-2C86-4DFE-ACDE-E5FD5568A80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2357C-A6AA-4A15-9EF3-F618A8BF56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6840" y="-320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2553A-E400-4A8E-8629-C8F7965F31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7F6BC-877C-4BC6-954C-40DBCCC9FBC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6E5C2-CE0B-4EFD-9123-D669AA1CAC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AE869-BE4D-4CA6-B083-31A1C441AA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ED4AB-574E-4384-B5D9-3EB7649625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F2959-3957-46F1-B2C2-AD0B75D5C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-320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A930-A39C-4AAF-A61A-2DCE25E9D5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A4BAA-7948-4B20-8F76-9A3907DC35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FDC6-428E-48F2-9E74-12CD410E89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A82-B558-4723-83C5-2B6CB674F6E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3A67-99C8-47A7-ABF8-A77B7F75F2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EDD2-85C1-49FA-8A24-9ED4A20EB5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8B75-0B1D-4B64-9F71-2D8539EDA5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-320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FDB7-8F69-4A81-9A07-0D7B58B6377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3FA6-9B98-48CF-98E5-3E540350D08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649-A4EF-4C30-803A-EBF0EB32FE5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96BF-3412-4D0B-8C67-48F33BE59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5A81-3143-42E7-8878-DBE0160899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C04A-3613-4F76-B6F6-81864A54A1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F529-9262-4CC8-A55D-8DA9D9A3F6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7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18840" y="4512240"/>
            <a:ext cx="264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4679-00BC-42F3-9908-676C63FAD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45122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E889-D58D-40F3-B50D-A2BDEF1F1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49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B4CA-8A51-4619-87E4-E621A63C4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47712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5870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3501720" y="647712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10545-2AE4-49D1-B449-62AE0BDC1D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521400"/>
            <a:ext cx="2131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870520" y="652320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3501720" y="6519600"/>
            <a:ext cx="2128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98989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92E133-1CA2-461F-98FA-2DEAA9310456}" type="slidenum">
              <a:rPr b="0" lang="en-US" sz="1200" spc="-1" strike="noStrike">
                <a:solidFill>
                  <a:srgbClr val="898989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57200" y="6521400"/>
            <a:ext cx="2131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870520" y="652320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501720" y="6519600"/>
            <a:ext cx="2128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98989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EF7FE6-98B9-4670-8D6D-17DD623A191D}" type="slidenum">
              <a:rPr b="0" lang="en-US" sz="1200" spc="-1" strike="noStrike">
                <a:solidFill>
                  <a:srgbClr val="898989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57200" y="6521400"/>
            <a:ext cx="2131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870520" y="652320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4"/>
          </p:nvPr>
        </p:nvSpPr>
        <p:spPr>
          <a:xfrm>
            <a:off x="3501720" y="6519600"/>
            <a:ext cx="2128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98989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FD3EB5-C757-4480-A104-1FFB22B9B374}" type="slidenum">
              <a:rPr b="0" lang="en-US" sz="1200" spc="-1" strike="noStrike">
                <a:solidFill>
                  <a:srgbClr val="898989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57200" y="6521400"/>
            <a:ext cx="2131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870520" y="652320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3501720" y="6519600"/>
            <a:ext cx="2128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98989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83A745-6409-47E9-AD81-001EF91ABDB9}" type="slidenum">
              <a:rPr b="0" lang="en-US" sz="1200" spc="-1" strike="noStrike">
                <a:solidFill>
                  <a:srgbClr val="898989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 rot="5400000">
            <a:off x="4581360" y="2349360"/>
            <a:ext cx="6519960" cy="181152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-320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457200" y="6521400"/>
            <a:ext cx="2131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870520" y="652320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3501720" y="6519600"/>
            <a:ext cx="2128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98989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273DFE-F373-4D0B-90CD-7DC34102E915}" type="slidenum">
              <a:rPr b="0" lang="en-US" sz="1200" spc="-1" strike="noStrike">
                <a:solidFill>
                  <a:srgbClr val="898989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792000" y="2214720"/>
            <a:ext cx="796932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 Black"/>
              </a:rPr>
              <a:t>Тема : «</a:t>
            </a:r>
            <a:r>
              <a:rPr b="1" lang="ru-RU" sz="28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Социализация детей с ограниченными возможностями здоровья в условиях Центра содействия семейному воспитанию № 13»</a:t>
            </a:r>
            <a:r>
              <a:rPr b="1" lang="ru-RU" sz="2800" spc="-1" strike="noStrike">
                <a:solidFill>
                  <a:srgbClr val="3333cc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готовила: воспитатель Шинар С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3143160" y="500040"/>
            <a:ext cx="5072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анкт-Петербургское государственное бюджетное учреждение  центр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ля детей-сирот и детей, оставшихся без попечения родителей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Центр содействия семейному воспитанию № 13»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7524720" y="642636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c2305"/>
                </a:solidFill>
                <a:latin typeface="Arial"/>
              </a:rPr>
              <a:t>2018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150012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0" y="1303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w Cen MT"/>
              </a:rPr>
              <a:t>Проблемы  и ри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177840" y="2133720"/>
            <a:ext cx="8893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cc"/>
                </a:solidFill>
                <a:latin typeface="Arial Black"/>
              </a:rPr>
              <a:t>Риски конкуренции на рынке труда, влияния криминальных структур (черные риэлторы, наркодилеры, сутенеры) и демократизации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cc"/>
                </a:solidFill>
                <a:latin typeface="Arial Black"/>
              </a:rPr>
              <a:t>Социальная дезадаптация и депривация детей – сирот, социальный инфантил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cc"/>
                </a:solidFill>
                <a:latin typeface="Arial Black"/>
              </a:rPr>
              <a:t>Ограниченные возможности здоровья детей-сир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6875640" y="189000"/>
            <a:ext cx="2017440" cy="1655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94436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1332000" y="3068640"/>
            <a:ext cx="74293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2987640" y="554040"/>
            <a:ext cx="57610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524720" y="6286680"/>
            <a:ext cx="1295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c2305"/>
                </a:solidFill>
                <a:latin typeface="Arial"/>
              </a:rPr>
              <a:t>2018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428840" y="714240"/>
            <a:ext cx="707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личие интеллектуального дефекта повышает вероятность социальных отклонений в поведении личности. Неумение разобраться в ситуации, и как результат нарушения п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395280" y="692280"/>
            <a:ext cx="8424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468360" y="26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50920" y="-458640"/>
            <a:ext cx="84978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Незрелость эмоций, направленность на удовлетворение примитивных потребностей, снижение самокритичности, нарушения в развитии волевых качеств - всё это является факторами, значительно затрудняющими процесс социализации и интеграции таких детей в социум (здесь и продажа своего жилья, неумение распоряжаться денежными средствами, фиктивные браки и т.д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9d3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2"/>
          <p:cNvSpPr/>
          <p:nvPr/>
        </p:nvSpPr>
        <p:spPr>
          <a:xfrm>
            <a:off x="0" y="1268280"/>
            <a:ext cx="9144000" cy="1800"/>
          </a:xfrm>
          <a:prstGeom prst="line">
            <a:avLst/>
          </a:prstGeom>
          <a:ln w="76320">
            <a:solidFill>
              <a:srgbClr val="3d81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285920" y="26028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2d2db9"/>
                </a:solidFill>
                <a:uFillTx/>
                <a:latin typeface="Arial"/>
              </a:rPr>
              <a:t>Человек и тру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0820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59220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00040" y="1571760"/>
            <a:ext cx="83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Создание условий для социального становления воспитанников включает в себя:  осмысление необходимости трудовой деятельности, развитие потребности трудиться овладение общей ориентировкой в мире профессий и навыками профессионального труда, профессионального само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1332000" y="3068640"/>
            <a:ext cx="74293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2987640" y="554040"/>
            <a:ext cx="57610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7524720" y="6286680"/>
            <a:ext cx="1295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c2305"/>
                </a:solidFill>
                <a:latin typeface="Arial"/>
              </a:rPr>
              <a:t>2018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84360" y="500040"/>
            <a:ext cx="781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Arial"/>
              </a:rPr>
              <a:t>Развитие способности строить картинку воображаемого будущего, соотнося её с рядом факторов экономической грамот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Arial"/>
              </a:rPr>
              <a:t>Дети усваивают достаточно широкий круг выполнения работ  по ведению домашнего хозяйства от уборки своей комнаты до приготовления пищ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9d3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"/>
          <p:cNvSpPr/>
          <p:nvPr/>
        </p:nvSpPr>
        <p:spPr>
          <a:xfrm>
            <a:off x="0" y="1268280"/>
            <a:ext cx="9144000" cy="1800"/>
          </a:xfrm>
          <a:prstGeom prst="line">
            <a:avLst/>
          </a:prstGeom>
          <a:ln w="76320">
            <a:solidFill>
              <a:srgbClr val="3d81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285920" y="26028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2d2db9"/>
                </a:solidFill>
                <a:uFillTx/>
                <a:latin typeface="Arial"/>
              </a:rPr>
              <a:t>Человек и тру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0820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59220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357120" y="1285920"/>
            <a:ext cx="8462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У нас практикуются формы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дежурство в группе, по  столов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«Самая чистая  группа,» - даёт детям возможность освоить приёмы ухода за жилищем, создания и сохранения порядка в доме, создание уюта, овладеть навыками пользования бытовой техни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генеральная уборка помещений, стирка своих вещ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глажение белья, наведения порядка в тумбочк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чистка и хранение зимней и  осенней одежды и обув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посадка цветов на загородной даче в Репи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посадка комнатных цветов, уход за цве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проводим различные операции  «Наш дом», »Принц и принцесса чистот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357120" y="500040"/>
            <a:ext cx="840420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Считаю важным при работе с подростками соблюдать следующие принци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2db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принцип систематичности и последова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- принцип сознательности, активности воспитан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2db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принцип уважения к личности в сочетании с разумной требователь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2db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принцип опоры на положительное  в челове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Arial"/>
              </a:rPr>
              <a:t>Обеспечить возможности для самореализации, социализации  подростков через здоровье сбережение, трудовую деятельность, правовую культу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2987640" y="554040"/>
            <a:ext cx="57610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7524720" y="6286680"/>
            <a:ext cx="1295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c2305"/>
                </a:solidFill>
                <a:latin typeface="Arial"/>
              </a:rPr>
              <a:t>2018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500040" y="571680"/>
            <a:ext cx="8261280" cy="56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Arial"/>
                <a:ea typeface="Arial"/>
              </a:rPr>
              <a:t>Так как я работаю с детьми, с ограниченными возможностями здоровья моя главная задача – найти индивидуальный подход к каждому ребен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2987640" y="554040"/>
            <a:ext cx="57610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7524720" y="6286680"/>
            <a:ext cx="1295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c2305"/>
                </a:solidFill>
                <a:latin typeface="Arial"/>
              </a:rPr>
              <a:t>2018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C:\Users\User\Desktop\рабочая\музей\IMG-20180523-WA0019.jpg"/>
          <p:cNvPicPr/>
          <p:nvPr/>
        </p:nvPicPr>
        <p:blipFill>
          <a:blip r:embed="rId1"/>
          <a:stretch/>
        </p:blipFill>
        <p:spPr>
          <a:xfrm>
            <a:off x="1500120" y="1857240"/>
            <a:ext cx="442908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643960" cy="171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ae2c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Arial Black"/>
              </a:rPr>
              <a:t>Отношения, возникающие в процессе совместной деятельности воспитанников строятся на основе правил:</a:t>
            </a:r>
            <a:endParaRPr b="0" lang="en-US" sz="2400" spc="-1" strike="noStrike">
              <a:solidFill>
                <a:srgbClr val="562b71"/>
              </a:solidFill>
              <a:latin typeface="Tw Cen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56760" y="2000160"/>
            <a:ext cx="85057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Не кулак показать, а ладонь протяну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Не спрятать, а поделитьс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Не кричать, а выслуша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Не разорвать, а склеи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Не захватить, а отда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Не наступить, а уступи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Не наступить, а уступи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Один для всех, а все для одного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Сохрани себя са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Поступай с другими так, как ты хотел бы, чтобы поступали с тобой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 Black"/>
              </a:rPr>
              <a:t>Уважай старших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428760" y="692280"/>
            <a:ext cx="839124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Arial"/>
                <a:ea typeface="Arial"/>
              </a:rPr>
              <a:t>Здоровье сбережение, трудовая деятельность, правовая культура позволяет воспитаннику социально адаптироваться и одновременно активизировать процесс становления человеческой индивидуа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914400" y="631800"/>
            <a:ext cx="5029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ждый человек – алмаз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оторый может очистить себ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той мере, в какой он очищен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ерез него светит вечный св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ало быть, дело человек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 стараться свети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о стараться очищать себ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Толстой Л.Н.)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0" t="13339" r="0" b="0"/>
          <a:stretch/>
        </p:blipFill>
        <p:spPr>
          <a:xfrm>
            <a:off x="6172200" y="457200"/>
            <a:ext cx="24620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522360" y="574560"/>
            <a:ext cx="8424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360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3502080" y="6521400"/>
            <a:ext cx="21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w Cen MT"/>
                <a:ea typeface="Arial"/>
              </a:rPr>
              <a:t>2018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587052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42960" y="528480"/>
            <a:ext cx="79297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СОЦИАЛИЗАЦИЯ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Процесс становления личности</a:t>
            </a:r>
            <a:r>
              <a:rPr b="0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, ее обучения, воспитания и усвоения социальных норм, ценностей, установок, образцов поведения, присущих данному обществу. </a:t>
            </a:r>
            <a:br>
              <a:rPr sz="2800"/>
            </a:br>
            <a:r>
              <a:rPr b="1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Процесс формирования личности </a:t>
            </a:r>
            <a:r>
              <a:rPr b="0" lang="ru-RU" sz="2800" spc="-1" strike="noStrike">
                <a:solidFill>
                  <a:srgbClr val="562b71"/>
                </a:solidFill>
                <a:latin typeface="Times New Roman"/>
                <a:ea typeface="Times New Roman"/>
              </a:rPr>
              <a:t>- развитие и самоизменение человека в процессе освоения и воспроизводства культуры, которое происходит на всех возрастных этапах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028000" y="0"/>
            <a:ext cx="1116000" cy="620640"/>
          </a:xfrm>
          <a:prstGeom prst="rect">
            <a:avLst/>
          </a:prstGeom>
          <a:solidFill>
            <a:srgbClr val="a5a5e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68360" y="6237360"/>
            <a:ext cx="842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714240" y="17859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129528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дии  социализац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90720" y="1600200"/>
            <a:ext cx="7758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 социализация (семья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социализация (школ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825480"/>
                <a:tab algn="l" pos="1274760"/>
                <a:tab algn="l" pos="1724040"/>
                <a:tab algn="l" pos="2173320"/>
                <a:tab algn="l" pos="2622600"/>
                <a:tab algn="l" pos="3071880"/>
                <a:tab algn="l" pos="3521160"/>
                <a:tab algn="l" pos="3970440"/>
                <a:tab algn="l" pos="4419720"/>
                <a:tab algn="l" pos="4869000"/>
                <a:tab algn="l" pos="5318280"/>
                <a:tab algn="l" pos="5767560"/>
                <a:tab algn="l" pos="6216480"/>
                <a:tab algn="l" pos="6665760"/>
                <a:tab algn="l" pos="7115040"/>
                <a:tab algn="l" pos="7564320"/>
                <a:tab algn="l" pos="8013600"/>
                <a:tab algn="l" pos="8462880"/>
                <a:tab algn="l" pos="8912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4000680" cy="3286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C:\Users\User\Desktop\Мои документы\Фото вацап\IMG-20181123-WA0029.jpg"/>
          <p:cNvPicPr/>
          <p:nvPr/>
        </p:nvPicPr>
        <p:blipFill>
          <a:blip r:embed="rId2"/>
          <a:stretch/>
        </p:blipFill>
        <p:spPr>
          <a:xfrm>
            <a:off x="4500720" y="2857680"/>
            <a:ext cx="39290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285840" y="214200"/>
            <a:ext cx="86439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м уровнем социал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и является её самоутверждение, реализация её социального потенциала. Этот сложный процесс осуществляется обычно в соответствии с определённым социально-психологическим сценарием, содержание которого зависит как от ролевых позиций субъекта, так и от внешних условий, т. е. воздействия социальной микро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3" descr="C:\Users\User\Desktop\спорт\спорт 16-17\rok1k1Cjc0c.jpg"/>
          <p:cNvPicPr/>
          <p:nvPr/>
        </p:nvPicPr>
        <p:blipFill>
          <a:blip r:embed="rId1"/>
          <a:stretch/>
        </p:blipFill>
        <p:spPr>
          <a:xfrm>
            <a:off x="500040" y="2857680"/>
            <a:ext cx="550080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285840" y="0"/>
            <a:ext cx="85010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пробл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 с ограниченными возможностями заключается в нарушении его связи с миром, в ограниченной мобильности, бедности контактов со сверстниками и взрослыми, в ограниченном общении с природой, недоступности ряда культурных ценностей, а иногда и элементарного образо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3" descr="C:\Users\User\Desktop\Мои документы\Фото вацап\IMG-20181123-WA0059.jpg"/>
          <p:cNvPicPr/>
          <p:nvPr/>
        </p:nvPicPr>
        <p:blipFill>
          <a:blip r:embed="rId1"/>
          <a:stretch/>
        </p:blipFill>
        <p:spPr>
          <a:xfrm>
            <a:off x="428760" y="2857680"/>
            <a:ext cx="507204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357120" y="142920"/>
            <a:ext cx="85726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Основная задача воспитателя, где проживают и находятся на воспитании дети-сироты и дети оставшиеся без попечения родителей  это создание условий для полноценной социальной  адаптации и реабилитации воспитанников, оставшихся без попечения родите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3" descr="C:\Users\User\Desktop\Мои документы\Фото вацап\IMG-20181123-WA0029.jpg"/>
          <p:cNvPicPr/>
          <p:nvPr/>
        </p:nvPicPr>
        <p:blipFill>
          <a:blip r:embed="rId1"/>
          <a:stretch/>
        </p:blipFill>
        <p:spPr>
          <a:xfrm>
            <a:off x="285840" y="2286000"/>
            <a:ext cx="557208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357120" y="1571760"/>
            <a:ext cx="846288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 Black"/>
              </a:rPr>
              <a:t>Для меня, как для воспитателя проблема социализации детей-сирот и детей, оставшихся без попечения родителей, представляется весьма актуальной и достаточно сложной из-за соматического и психического здоровья  воспитан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9400"/>
                <a:tab algn="l" pos="5983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1332000" y="3068640"/>
            <a:ext cx="74293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524720" y="6286680"/>
            <a:ext cx="1295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c2305"/>
                </a:solidFill>
                <a:latin typeface="Arial"/>
              </a:rPr>
              <a:t>2018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960720" cy="4465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081320" cy="403236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10"/>
          <p:cNvSpPr/>
          <p:nvPr/>
        </p:nvSpPr>
        <p:spPr>
          <a:xfrm>
            <a:off x="971640" y="33336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 Black"/>
              </a:rPr>
              <a:t>Наш воспитанник,  должен стать полноценным членом общества, готовым к самостоятельной жизни, к решению самых сложных социальных проблем, которые ждут его на жизненном пу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21:30:24Z</dcterms:created>
  <dc:creator>XTreme</dc:creator>
  <dc:description/>
  <dc:language>en-US</dc:language>
  <cp:lastModifiedBy>Галина</cp:lastModifiedBy>
  <cp:lastPrinted>2017-11-05T04:19:31Z</cp:lastPrinted>
  <dcterms:modified xsi:type="dcterms:W3CDTF">2019-12-08T18:38:25Z</dcterms:modified>
  <cp:revision>177</cp:revision>
  <dc:subject/>
  <dc:title>Слайд 1</dc:title>
</cp:coreProperties>
</file>