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0122-86A4-42B1-BC9F-C294047C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9EBC-FDDF-45B5-A327-4B7BB237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69F9-7453-46B0-AD00-987551D4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72B9-0F3A-47BB-8A25-68355A95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AFAA-1564-4458-B708-E2CEED3A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C4BA-54C2-4977-A6D2-8449A1FE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7AD5-EAD0-4D2F-A5F2-CE51C36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A4A8-BB16-4EF0-8B2E-D77C8A58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46BE-983C-4894-99F8-0B13C8B2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6C86-1C8C-486B-963F-00EF8118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C0F5-8693-4437-8690-9006907A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2E29-047D-43B5-B5EF-A7B301AF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F420-4039-4A72-8F5B-A7756018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EECB-7A71-435B-81E9-597B4E9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9146-1AEE-492C-9AB2-F6DEF15C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E985-AD37-47EE-857A-98B39FC0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AF5-B7FF-4F2B-812D-B57EE29A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0546-840C-4BFC-9208-004BDBAB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E959-B47E-4144-9818-885FBFBA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64A3-3796-4297-B1AC-276E400B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E0C6-0A9C-4BF3-AC49-7E55E255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3BB7-7F7D-4F97-BD5A-0D1D4A70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9271-29A1-42B4-8681-15A0E36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6294-0EE3-4246-B2AA-3CA3A9C9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B758-DFB9-4813-BC79-1CD13D376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27C4-B282-4397-9271-F9C901E707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6" descr="hj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7"/>
          <p:cNvSpPr/>
          <p:nvPr/>
        </p:nvSpPr>
        <p:spPr>
          <a:xfrm>
            <a:off x="324000" y="1484280"/>
            <a:ext cx="590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то мы Родиной зовём?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сё, что в сердце бережём…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7" descr="main"/>
          <p:cNvPicPr/>
          <p:nvPr/>
        </p:nvPicPr>
        <p:blipFill>
          <a:blip r:embed="rId1"/>
          <a:stretch/>
        </p:blipFill>
        <p:spPr>
          <a:xfrm>
            <a:off x="0" y="0"/>
            <a:ext cx="906948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8"/>
          <p:cNvSpPr/>
          <p:nvPr/>
        </p:nvSpPr>
        <p:spPr>
          <a:xfrm>
            <a:off x="0" y="404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radley Hand ITC"/>
              </a:rPr>
              <a:t>Обь и Иртыш </a:t>
            </a: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                 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Bradley Hand ITC"/>
              </a:rPr>
              <a:t>сливаются в одну реку и далее текут так в Северный Ледовитый оке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1640" y="1125000"/>
            <a:ext cx="4329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Семен Никитови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Урусов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буровой масте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открывш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скважину №6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Bradley Hand ITC"/>
              </a:rPr>
              <a:t>давшую первую нефть в Сибир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5" descr="%D0%A3%D1%80%D1%83%D1%81%D0%BE%D0%B2%20%D0%A1%D0%B5%D0%BC%D0%B5%D0%BD%20%D0%9D%D0%B8%D0%BA%D0%B8%D1%82%D0%BE%D0%B2%D0%B8%D1%871"/>
          <p:cNvPicPr/>
          <p:nvPr/>
        </p:nvPicPr>
        <p:blipFill>
          <a:blip r:embed="rId1"/>
          <a:stretch/>
        </p:blipFill>
        <p:spPr>
          <a:xfrm>
            <a:off x="395280" y="549360"/>
            <a:ext cx="3816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5" descr="121"/>
          <p:cNvPicPr/>
          <p:nvPr/>
        </p:nvPicPr>
        <p:blipFill>
          <a:blip r:embed="rId1"/>
          <a:stretch/>
        </p:blipFill>
        <p:spPr>
          <a:xfrm>
            <a:off x="0" y="0"/>
            <a:ext cx="9144000" cy="48308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2016"/>
          <p:cNvPicPr/>
          <p:nvPr/>
        </p:nvPicPr>
        <p:blipFill>
          <a:blip r:embed="rId2"/>
          <a:stretch/>
        </p:blipFill>
        <p:spPr>
          <a:xfrm>
            <a:off x="2411280" y="2924280"/>
            <a:ext cx="6732720" cy="39337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8101080" y="5589720"/>
            <a:ext cx="433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6" descr="i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8" descr="старая-бумага-с-пером-и-черни-ами-54102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rush Script MT"/>
              </a:rPr>
              <a:t>Летопись «Повесть временных лет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1118 </a:t>
            </a:r>
            <a:r>
              <a:rPr b="1" lang="ru-RU" sz="3600" spc="-1" strike="noStrike">
                <a:solidFill>
                  <a:srgbClr val="000000"/>
                </a:solidFill>
                <a:latin typeface="Brush Script MT"/>
              </a:rPr>
              <a:t>год «Земля Югорска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790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rush Script MT"/>
              </a:rPr>
              <a:t>Обскоугорск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rush Script MT"/>
              </a:rPr>
              <a:t>народности:</a:t>
            </a:r>
            <a:r>
              <a:rPr b="1" i="1" lang="ru-RU" sz="40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Brush Script MT"/>
              </a:rPr>
              <a:t>хан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Brush Script MT"/>
              </a:rPr>
              <a:t>манс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Brush Script MT"/>
              </a:rPr>
              <a:t>ненц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Brush Script MT"/>
              </a:rPr>
              <a:t>и сельку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12" descr="ostjaki4"/>
          <p:cNvPicPr/>
          <p:nvPr/>
        </p:nvPicPr>
        <p:blipFill>
          <a:blip r:embed="rId5"/>
          <a:stretch/>
        </p:blipFill>
        <p:spPr>
          <a:xfrm>
            <a:off x="3995640" y="189000"/>
            <a:ext cx="4600800" cy="64800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13"/>
          <p:cNvSpPr/>
          <p:nvPr/>
        </p:nvSpPr>
        <p:spPr>
          <a:xfrm>
            <a:off x="4932360" y="5877000"/>
            <a:ext cx="1297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175280" y="1628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ff"/>
                </a:solidFill>
                <a:latin typeface="comic"/>
              </a:rPr>
              <a:t>  </a:t>
            </a:r>
            <a:r>
              <a:rPr b="1" lang="ru-RU" sz="4000" spc="-1" strike="noStrike">
                <a:solidFill>
                  <a:srgbClr val="ccccff"/>
                </a:solidFill>
                <a:latin typeface="comic"/>
              </a:rPr>
              <a:t>Ермак Тимовеевич – казачий атаман, завоеватель Сибир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5" descr="135317772_01e16863cf9b666c98205c312c018e5c"/>
          <p:cNvPicPr/>
          <p:nvPr/>
        </p:nvPicPr>
        <p:blipFill>
          <a:blip r:embed="rId1"/>
          <a:stretch/>
        </p:blipFill>
        <p:spPr>
          <a:xfrm>
            <a:off x="0" y="190440"/>
            <a:ext cx="43560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pril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8"/>
          <p:cNvSpPr/>
          <p:nvPr/>
        </p:nvSpPr>
        <p:spPr>
          <a:xfrm>
            <a:off x="3851280" y="332280"/>
            <a:ext cx="55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comic"/>
              </a:rPr>
              <a:t>Площадь Юг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comic"/>
              </a:rPr>
              <a:t>составляет 534 тысяч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comic"/>
              </a:rPr>
              <a:t>800 квадратных километр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1" descr="284c13dce3fef624ba7c5c2a1430b90d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0" y="5850720"/>
            <a:ext cx="9144000" cy="1312920"/>
          </a:xfrm>
          <a:prstGeom prst="rect">
            <a:avLst/>
          </a:pr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b89"/>
                </a:solidFill>
                <a:latin typeface="comic"/>
              </a:rPr>
              <a:t>   </a:t>
            </a:r>
            <a:r>
              <a:rPr b="1" lang="ru-RU" sz="4000" spc="-1" strike="noStrike">
                <a:solidFill>
                  <a:srgbClr val="5b5b89"/>
                </a:solidFill>
                <a:latin typeface="comic"/>
              </a:rPr>
              <a:t>Двуглавая птица –  «Кат ухуп вой»</a:t>
            </a:r>
            <a:r>
              <a:rPr b="0" lang="ru-RU" sz="4000" spc="-1" strike="noStrike">
                <a:solidFill>
                  <a:srgbClr val="5b5b89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7T09:32:08Z</dcterms:created>
  <dc:creator>Admin</dc:creator>
  <dc:description/>
  <dc:language>en-US</dc:language>
  <cp:lastModifiedBy>Наталья</cp:lastModifiedBy>
  <dcterms:modified xsi:type="dcterms:W3CDTF">2019-12-08T19:58:42Z</dcterms:modified>
  <cp:revision>5</cp:revision>
  <dc:subject/>
  <dc:title>Слайд 1</dc:title>
</cp:coreProperties>
</file>