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6071-9270-445B-8C4D-6CFE44D6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7A19-F1EF-4AE1-8E14-098F3600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FDB8-F5F1-4DB8-8DE6-B6886BD2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322C-3E73-4AF4-A31C-8B87E480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2E42-1269-4CDD-9E07-D70211D4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62BF-04DE-4C50-956B-B111326E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8AEA-87B1-4DA7-B144-B1C30007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F47A-F160-478B-AD40-1DD65C3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EFF0-76D4-478B-BD73-B080FE1F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0E79-B3AB-4AC1-85CB-26E47A76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13F1-379C-407B-8CB1-E825AB3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F033-37A3-4B7C-8BFB-9E4E0738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D897-10C8-4E26-A472-9F17B2A8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2D11-63A0-42DE-AFC3-D2A7299E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D5FA-32D4-4D37-B11F-14685BEB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27B9-DFE6-4F88-86D6-5B545B1E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30FA-5FB6-4CF1-AD6D-1F6B9E9E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D64B-6A79-48D3-85E2-19BE636B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0E3F-B681-46BB-8606-E21496C0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96D9-26C3-4F36-8FB0-C3101948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6B90-DFA1-42DE-B818-F17145EF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6BBD-06BD-4949-9840-56FC04A3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09A2-DA1D-4AEA-87AB-8A7CFB43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73F9-D793-44CC-9E1C-7FAC492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BAEE-71ED-456F-AD4E-5E47B797C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B880-D8F0-4305-B9BC-7C6FCA8398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6" descr="hj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7"/>
          <p:cNvSpPr/>
          <p:nvPr/>
        </p:nvSpPr>
        <p:spPr>
          <a:xfrm>
            <a:off x="324000" y="1484280"/>
            <a:ext cx="590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то мы Родиной зовём?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сё, что в сердце бережём…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7" descr="main"/>
          <p:cNvPicPr/>
          <p:nvPr/>
        </p:nvPicPr>
        <p:blipFill>
          <a:blip r:embed="rId1"/>
          <a:stretch/>
        </p:blipFill>
        <p:spPr>
          <a:xfrm>
            <a:off x="0" y="0"/>
            <a:ext cx="906948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8"/>
          <p:cNvSpPr/>
          <p:nvPr/>
        </p:nvSpPr>
        <p:spPr>
          <a:xfrm>
            <a:off x="0" y="404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radley Hand ITC"/>
              </a:rPr>
              <a:t>Обь и Иртыш </a:t>
            </a: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                 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Bradley Hand ITC"/>
              </a:rPr>
              <a:t>сливаются в одну реку и далее текут так в Северный Ледовитый оке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1640" y="1125000"/>
            <a:ext cx="4329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Семен Никитови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Урусов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буровой масте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открывш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скважину №6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давшую первую нефть в Сибир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5" descr="%D0%A3%D1%80%D1%83%D1%81%D0%BE%D0%B2%20%D0%A1%D0%B5%D0%BC%D0%B5%D0%BD%20%D0%9D%D0%B8%D0%BA%D0%B8%D1%82%D0%BE%D0%B2%D0%B8%D1%871"/>
          <p:cNvPicPr/>
          <p:nvPr/>
        </p:nvPicPr>
        <p:blipFill>
          <a:blip r:embed="rId1"/>
          <a:stretch/>
        </p:blipFill>
        <p:spPr>
          <a:xfrm>
            <a:off x="395280" y="549360"/>
            <a:ext cx="3816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5" descr="121"/>
          <p:cNvPicPr/>
          <p:nvPr/>
        </p:nvPicPr>
        <p:blipFill>
          <a:blip r:embed="rId1"/>
          <a:stretch/>
        </p:blipFill>
        <p:spPr>
          <a:xfrm>
            <a:off x="0" y="0"/>
            <a:ext cx="9144000" cy="48308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2016"/>
          <p:cNvPicPr/>
          <p:nvPr/>
        </p:nvPicPr>
        <p:blipFill>
          <a:blip r:embed="rId2"/>
          <a:stretch/>
        </p:blipFill>
        <p:spPr>
          <a:xfrm>
            <a:off x="2411280" y="2924280"/>
            <a:ext cx="6732720" cy="39337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8101080" y="5589720"/>
            <a:ext cx="433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6" descr="im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8" descr="старая-бумага-с-пером-и-черни-ами-54102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rush Script MT"/>
              </a:rPr>
              <a:t>Летопись «Повесть временных лет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1118 </a:t>
            </a:r>
            <a:r>
              <a:rPr b="1" lang="ru-RU" sz="3600" spc="-1" strike="noStrike">
                <a:solidFill>
                  <a:srgbClr val="000000"/>
                </a:solidFill>
                <a:latin typeface="Brush Script MT"/>
              </a:rPr>
              <a:t>год «Земля Югорска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790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rush Script MT"/>
              </a:rPr>
              <a:t>Обскоугорск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rush Script MT"/>
              </a:rPr>
              <a:t>народности:</a:t>
            </a:r>
            <a:r>
              <a:rPr b="1" i="1" lang="ru-RU" sz="40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Brush Script MT"/>
              </a:rPr>
              <a:t>хан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Brush Script MT"/>
              </a:rPr>
              <a:t>манс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Brush Script MT"/>
              </a:rPr>
              <a:t>ненц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Brush Script MT"/>
              </a:rPr>
              <a:t>и сельку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12" descr="ostjaki4"/>
          <p:cNvPicPr/>
          <p:nvPr/>
        </p:nvPicPr>
        <p:blipFill>
          <a:blip r:embed="rId5"/>
          <a:stretch/>
        </p:blipFill>
        <p:spPr>
          <a:xfrm>
            <a:off x="3995640" y="189000"/>
            <a:ext cx="4600800" cy="64800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13"/>
          <p:cNvSpPr/>
          <p:nvPr/>
        </p:nvSpPr>
        <p:spPr>
          <a:xfrm>
            <a:off x="4932360" y="5877000"/>
            <a:ext cx="1297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175280" y="162864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comic"/>
              </a:rPr>
              <a:t>  </a:t>
            </a:r>
            <a:r>
              <a:rPr b="1" lang="ru-RU" sz="4000" spc="-1" strike="noStrike">
                <a:solidFill>
                  <a:srgbClr val="ccccff"/>
                </a:solidFill>
                <a:latin typeface="comic"/>
              </a:rPr>
              <a:t>Ермак Тимовеевич – казачий атаман, завоеватель Сибир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5" descr="135317772_01e16863cf9b666c98205c312c018e5c"/>
          <p:cNvPicPr/>
          <p:nvPr/>
        </p:nvPicPr>
        <p:blipFill>
          <a:blip r:embed="rId1"/>
          <a:stretch/>
        </p:blipFill>
        <p:spPr>
          <a:xfrm>
            <a:off x="0" y="190440"/>
            <a:ext cx="43560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7" descr="pri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8"/>
          <p:cNvSpPr/>
          <p:nvPr/>
        </p:nvSpPr>
        <p:spPr>
          <a:xfrm>
            <a:off x="3851280" y="332280"/>
            <a:ext cx="55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comic"/>
              </a:rPr>
              <a:t>Площадь Юг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comic"/>
              </a:rPr>
              <a:t>составляет 534 тысяч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comic"/>
              </a:rPr>
              <a:t>800 квадратных километр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1" descr="284c13dce3fef624ba7c5c2a1430b90d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0" y="5850720"/>
            <a:ext cx="9144000" cy="131292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b89"/>
                </a:solidFill>
                <a:latin typeface="comic"/>
              </a:rPr>
              <a:t>   </a:t>
            </a:r>
            <a:r>
              <a:rPr b="1" lang="ru-RU" sz="4000" spc="-1" strike="noStrike">
                <a:solidFill>
                  <a:srgbClr val="5b5b89"/>
                </a:solidFill>
                <a:latin typeface="comic"/>
              </a:rPr>
              <a:t>Двуглавая птица –  «Кат ухуп вой»</a:t>
            </a:r>
            <a:r>
              <a:rPr b="0" lang="ru-RU" sz="4000" spc="-1" strike="noStrike">
                <a:solidFill>
                  <a:srgbClr val="5b5b89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7T09:32:08Z</dcterms:created>
  <dc:creator>Admin</dc:creator>
  <dc:description/>
  <dc:language>en-US</dc:language>
  <cp:lastModifiedBy>Наталья</cp:lastModifiedBy>
  <dcterms:modified xsi:type="dcterms:W3CDTF">2019-12-08T19:58:42Z</dcterms:modified>
  <cp:revision>5</cp:revision>
  <dc:subject/>
  <dc:title>Слайд 1</dc:title>
</cp:coreProperties>
</file>