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9776-41C1-4A4D-9092-3155F656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1466-3CE4-47D5-97E3-7A712974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39F1-182D-48DF-89EB-E1632B11F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BE59-FC1D-4637-A047-74620F13B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9D1D-A40A-4F51-9514-62A9929D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54C0-FEEC-4DA2-B9E1-539CC13E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E22C-CDC2-4BCC-BEA1-958066EE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844A-A491-44F9-8708-C4FD4D07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FF0C-C128-4FC4-B547-E9FC2F94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9CDC-FAD8-45D2-A931-FE704377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FF75-566E-4CE6-BB11-C903694D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D8E0-CF60-441E-BCBF-C6917F3B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307B-B74C-48CF-BD54-D16B1342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8B0F-F1DB-44F6-87C4-7FBB9E8B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BAB7-FCD7-4913-87C0-6DBBD0B4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1273-7CBD-4415-A427-697DAA69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0B76-5FA2-43D7-AAEA-B4065614B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CB1F-BC1B-4C4C-B16B-C4349371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EBD2-30DA-4879-B3E4-58098D4A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3A47-4C4C-46BA-9ED5-E3518089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3704-40EB-45A0-BE9E-911CD212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7F45-4F05-4B6B-9F4C-791AACF0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7B8C-4F1C-4D79-9750-40A93735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511E-F6AE-460C-96B7-BFC9A2D1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1E36-CCFE-4805-AF0C-F0E84ABDED8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F354-130B-4C16-91AB-1FE90FADDF0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Проект по патриотическому воспитанию в средней группе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539800" y="4320720"/>
            <a:ext cx="5978520" cy="14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дготовила- воспитатель МАДОУ детский сад №6г.Гусева  Кильдишева Елена Антонас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Заключительный этап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2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езентация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Моя семья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2" descr="C:\Documents and Settings\Администратор\Рабочий стол\Ниловы\фото 4.JPG"/>
          <p:cNvPicPr/>
          <p:nvPr/>
        </p:nvPicPr>
        <p:blipFill>
          <a:blip r:embed="rId1"/>
          <a:stretch/>
        </p:blipFill>
        <p:spPr>
          <a:xfrm>
            <a:off x="5651640" y="1557360"/>
            <a:ext cx="2952720" cy="2239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C:\Documents and Settings\Администратор\Рабочий стол\Галуненко\P2170394.JPG"/>
          <p:cNvPicPr/>
          <p:nvPr/>
        </p:nvPicPr>
        <p:blipFill>
          <a:blip r:embed="rId2"/>
          <a:stretch/>
        </p:blipFill>
        <p:spPr>
          <a:xfrm>
            <a:off x="5651640" y="3789360"/>
            <a:ext cx="3024000" cy="2262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C:\Documents and Settings\Администратор\Рабочий стол\Малюткины\IMG_2932.JPG"/>
          <p:cNvPicPr/>
          <p:nvPr/>
        </p:nvPicPr>
        <p:blipFill>
          <a:blip r:embed="rId3"/>
          <a:stretch/>
        </p:blipFill>
        <p:spPr>
          <a:xfrm>
            <a:off x="179280" y="3860640"/>
            <a:ext cx="2592360" cy="2141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C:\Documents and Settings\Администратор\Рабочий стол\Березины\IMGP1847.JPG"/>
          <p:cNvPicPr/>
          <p:nvPr/>
        </p:nvPicPr>
        <p:blipFill>
          <a:blip r:embed="rId4"/>
          <a:stretch/>
        </p:blipFill>
        <p:spPr>
          <a:xfrm>
            <a:off x="2771640" y="3860640"/>
            <a:ext cx="288144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фотографию смотр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с гордостью Вам говор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Знакомьтесь, вот моя семь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десь папа, мама, кот и 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ез них прожить никак нельзя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я семья- мои друзья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15" descr="C:\Documents and Settings\Администратор\Рабочий стол\Ниловы\IMGP9806.JPG"/>
          <p:cNvPicPr/>
          <p:nvPr/>
        </p:nvPicPr>
        <p:blipFill>
          <a:blip r:embed="rId1"/>
          <a:stretch/>
        </p:blipFill>
        <p:spPr>
          <a:xfrm>
            <a:off x="5508720" y="3855960"/>
            <a:ext cx="3166920" cy="2308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0" descr="C:\Documents and Settings\Администратор\Рабочий стол\Третьяковы\ijoJDYNzYH8[1].jpg"/>
          <p:cNvPicPr/>
          <p:nvPr/>
        </p:nvPicPr>
        <p:blipFill>
          <a:blip r:embed="rId2"/>
          <a:stretch/>
        </p:blipFill>
        <p:spPr>
          <a:xfrm>
            <a:off x="5508720" y="1628640"/>
            <a:ext cx="3166920" cy="2232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C:\Documents and Settings\Администратор\Рабочий стол\Кузык\DSCF1870.JPG"/>
          <p:cNvPicPr/>
          <p:nvPr/>
        </p:nvPicPr>
        <p:blipFill>
          <a:blip r:embed="rId3"/>
          <a:stretch/>
        </p:blipFill>
        <p:spPr>
          <a:xfrm>
            <a:off x="684360" y="4005360"/>
            <a:ext cx="381636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став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«Герб моей семьи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4" descr="IMG_3844 (1)"/>
          <p:cNvPicPr/>
          <p:nvPr/>
        </p:nvPicPr>
        <p:blipFill>
          <a:blip r:embed="rId1"/>
          <a:stretch/>
        </p:blipFill>
        <p:spPr>
          <a:xfrm>
            <a:off x="5076720" y="1557360"/>
            <a:ext cx="3527640" cy="1942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IMG_3846"/>
          <p:cNvPicPr/>
          <p:nvPr/>
        </p:nvPicPr>
        <p:blipFill>
          <a:blip r:embed="rId2"/>
          <a:stretch/>
        </p:blipFill>
        <p:spPr>
          <a:xfrm>
            <a:off x="1042920" y="3500280"/>
            <a:ext cx="4033800" cy="2305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IMG_3845"/>
          <p:cNvPicPr/>
          <p:nvPr/>
        </p:nvPicPr>
        <p:blipFill>
          <a:blip r:embed="rId3"/>
          <a:stretch/>
        </p:blipFill>
        <p:spPr>
          <a:xfrm>
            <a:off x="5076720" y="3500280"/>
            <a:ext cx="3527640" cy="22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Что такое семья?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емья- это счастье, любовь и удача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емья- это труд, друг о друге забота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емья- это много домашней работы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емья- это важно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емья- это сложно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о счастливо жить одному невозможно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сегда будьте вместе, любовь берегите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иды и споры подальше гоните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чу, чтоб про нас говорили друзья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ая хорошая ваша семья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Тема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Формирование представлений о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семье, как о явлении общественной жизни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Цель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Verdana"/>
              </a:rPr>
              <a:t>Воспитание в ребенке любви и уважения к своей семье</a:t>
            </a: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Задачи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Формировать элементарные представления о семье , как о явлении общественной жизни; стимулировать умение ребенка активно вступать в общение, развивать эмоциональную отзывчивость, мышление, речь, воспитывать любовь и уважение к родны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Аннотац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ажной особенностью ознакомления с семьей являются необходимость тесного взаимодействия педагогов ДОУ с родителями, родными и близкими воспитанник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жде всего родителей информируют о целях и задачах ознакомления детей с семьей. Воспитатели объясняют родителям, что главное в ознакомлении ребенка с семьей в условиях детского сада – это воспитание любви и уважения к родным и близки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Этапы работ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дготовительный: определение темы изучения, подбор литератур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сследовательский: рассматривание фото, беседы на тему: «Моя любимая игрушка», рассказы детей о своей семь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аключительный: презентация на тему «Моя семья»,выставка гербов семей воспитанник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Формы работы с детьми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Цикл НОД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знание- «Моя любимая игрушка», «Расскажи о маме», «Мой папа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тение художественной литератур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ссматривание рисунк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ормы работы с родителями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частие в презентации «Я и моя семья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частие в создании гербов семь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сследовательский этап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196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еседы на тему «Моя любимая игрушка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ассказы детей о своей семь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7" descr="DSC00102"/>
          <p:cNvPicPr/>
          <p:nvPr/>
        </p:nvPicPr>
        <p:blipFill>
          <a:blip r:embed="rId1"/>
          <a:stretch/>
        </p:blipFill>
        <p:spPr>
          <a:xfrm>
            <a:off x="5364000" y="1557360"/>
            <a:ext cx="3384720" cy="2230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DSC00064"/>
          <p:cNvPicPr/>
          <p:nvPr/>
        </p:nvPicPr>
        <p:blipFill>
          <a:blip r:embed="rId2"/>
          <a:stretch/>
        </p:blipFill>
        <p:spPr>
          <a:xfrm>
            <a:off x="5364000" y="3789360"/>
            <a:ext cx="3240360" cy="2287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DSC00097"/>
          <p:cNvPicPr/>
          <p:nvPr/>
        </p:nvPicPr>
        <p:blipFill>
          <a:blip r:embed="rId3"/>
          <a:stretch/>
        </p:blipFill>
        <p:spPr>
          <a:xfrm>
            <a:off x="1042920" y="4076640"/>
            <a:ext cx="2737080" cy="1952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5:24:56Z</dcterms:created>
  <dc:creator>user</dc:creator>
  <dc:description/>
  <dc:language>en-US</dc:language>
  <cp:lastModifiedBy>OLGA</cp:lastModifiedBy>
  <dcterms:modified xsi:type="dcterms:W3CDTF">2019-12-08T14:30:01Z</dcterms:modified>
  <cp:revision>10</cp:revision>
  <dc:subject/>
  <dc:title>Проект по патриотическому воспитанию в средней группе.</dc:title>
</cp:coreProperties>
</file>