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9F55-3B77-498E-A681-6BDB2D14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DF9C-3EE4-4A49-BED6-C257AF69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126B-F6E1-4590-8A02-2D61DE337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187D-1E2B-4794-99D4-553593FBF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1FEC-64D8-45CB-84E7-6FEF1923F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7A07-C2C4-4911-ACF6-A831AF7B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ABC3-DAC1-49EB-AB1C-6A95E54D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B088-8D02-4287-972F-94189C55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8D60-9367-4CD9-AD65-BA8BADCF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244B-5109-409A-8177-FB636B17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2994-0E87-475A-BDF8-B1FB2643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A850-C742-4FCA-89E0-C0E01243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A6B1-5A72-4C37-BD70-01E631B1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9E81E-A4D1-4623-A71E-3BBC1E08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D06A-9E72-4087-9DAF-58F56B7C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C967-1E8C-491A-BC53-7B6081225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6589-250A-43DC-919B-B401E22FA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1DCB-283B-4F9E-886F-964396B3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970B-F71A-465B-AA9C-D9268208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D636-2DCD-4FAD-9CC6-4EA759C4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901B-F767-4D72-9E80-970ADEBF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1F4A-27AF-424C-B590-67495F05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F2CF-F520-439F-A1A9-853A140C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20ED-7599-47EE-8FD3-2B83879B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3411-5627-40A3-9625-9E014964AE4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743F-BD8E-467A-96A7-31CF445663A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оект «В мире посуды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6480" y="4989240"/>
            <a:ext cx="38448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оспитатель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ябцева Т. 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16" descr="посуда3"/>
          <p:cNvPicPr/>
          <p:nvPr/>
        </p:nvPicPr>
        <p:blipFill>
          <a:blip r:embed="rId1"/>
          <a:stretch/>
        </p:blipFill>
        <p:spPr>
          <a:xfrm>
            <a:off x="838080" y="3048120"/>
            <a:ext cx="3776760" cy="235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ервируем стол к обед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Picture 6" descr="100_3041"/>
          <p:cNvPicPr/>
          <p:nvPr/>
        </p:nvPicPr>
        <p:blipFill>
          <a:blip r:embed="rId1"/>
          <a:srcRect l="11544" t="9299" r="7365" b="0"/>
          <a:stretch/>
        </p:blipFill>
        <p:spPr>
          <a:xfrm>
            <a:off x="2773440" y="2708280"/>
            <a:ext cx="402912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альчиковые игр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1" name="Picture 15" descr="Пальчиковые_игры_на_тему_посуда__002"/>
          <p:cNvPicPr/>
          <p:nvPr/>
        </p:nvPicPr>
        <p:blipFill>
          <a:blip r:embed="rId1"/>
          <a:srcRect l="0" t="5458" r="1689" b="57801"/>
          <a:stretch/>
        </p:blipFill>
        <p:spPr>
          <a:xfrm>
            <a:off x="1406520" y="2565360"/>
            <a:ext cx="3094200" cy="3600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6" descr="Пальчиковые_игры_на_тему_посуда__002"/>
          <p:cNvPicPr/>
          <p:nvPr/>
        </p:nvPicPr>
        <p:blipFill>
          <a:blip r:embed="rId2"/>
          <a:srcRect l="0" t="41431" r="-2469" b="0"/>
          <a:stretch/>
        </p:blipFill>
        <p:spPr>
          <a:xfrm>
            <a:off x="4932360" y="2421000"/>
            <a:ext cx="367200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зобразительная деятельность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«Чайный сервиз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rcRect l="4091" t="15089" r="7724" b="5630"/>
          <a:stretch/>
        </p:blipFill>
        <p:spPr>
          <a:xfrm>
            <a:off x="1835280" y="2565360"/>
            <a:ext cx="568944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кспонаты мини музе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1581120" y="2362320"/>
            <a:ext cx="620712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Актуальност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Федеральный государственный образовательный  стандарт дошкольного образования предусматривает создание модернизированной системы образования в соответствии с  требованиями, обеспечивающими всестороннее развитие личности  ребенка.  Я считаю, что наиболее продуктивной формой работы  с детьми  является  проектная деятельность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      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анный проект систематизирует и обобщает знания детей о посуд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ь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Формирование у детей старшего дошкольного возраста представления о многообразии предметов окружающего мир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чи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Формировать  элементарные представления о посуде (виды посуды, части посуды, назначение, виды росписей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звивать предпосылки целостно-смыслового восприятия народных промысл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пособствовать реализации самостоятельной творческой деятельности детей через изображения предметов посуды, изготовления поделок из солёного  теста, пластилина, росписи посуд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Формировать эстетическое отношение к предметам обиход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жидаемые результаты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едполагается, что, расширив и систематизировав знания детей о видах росписи посуды, о материалах, из которых она сделана, о истории её возникновения и создания , мы будем способствовать их всестороннему развитию. Творческие задания проекта будут стимулировать потребность детей в самореализации, творческой деятельности, сблизят их с родителями и сверстниками. Дети примут активное участие в создании коллекции посуд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иды посуд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4" descr="посуда9"/>
          <p:cNvPicPr/>
          <p:nvPr/>
        </p:nvPicPr>
        <p:blipFill>
          <a:blip r:embed="rId1"/>
          <a:stretch/>
        </p:blipFill>
        <p:spPr>
          <a:xfrm>
            <a:off x="826920" y="2349360"/>
            <a:ext cx="770580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72360" y="299160"/>
            <a:ext cx="73324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суда из разных материал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Picture 4" descr="img11"/>
          <p:cNvPicPr/>
          <p:nvPr/>
        </p:nvPicPr>
        <p:blipFill>
          <a:blip r:embed="rId1"/>
          <a:srcRect l="0" t="38409" r="1890" b="0"/>
          <a:stretch/>
        </p:blipFill>
        <p:spPr>
          <a:xfrm>
            <a:off x="971640" y="2421000"/>
            <a:ext cx="61308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ародные промыслы Росс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564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4" descr="img13"/>
          <p:cNvPicPr/>
          <p:nvPr/>
        </p:nvPicPr>
        <p:blipFill>
          <a:blip r:embed="rId1"/>
          <a:srcRect l="0" t="15732" r="-413" b="0"/>
          <a:stretch/>
        </p:blipFill>
        <p:spPr>
          <a:xfrm>
            <a:off x="876240" y="2421000"/>
            <a:ext cx="664200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нижная выстав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Picture 8" descr="1019884041"/>
          <p:cNvPicPr/>
          <p:nvPr/>
        </p:nvPicPr>
        <p:blipFill>
          <a:blip r:embed="rId1"/>
          <a:stretch/>
        </p:blipFill>
        <p:spPr>
          <a:xfrm>
            <a:off x="3276720" y="3141720"/>
            <a:ext cx="1474560" cy="2008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5"/>
          <p:cNvPicPr/>
          <p:nvPr/>
        </p:nvPicPr>
        <p:blipFill>
          <a:blip r:embed="rId2"/>
          <a:stretch/>
        </p:blipFill>
        <p:spPr>
          <a:xfrm>
            <a:off x="6070680" y="2492280"/>
            <a:ext cx="1149120" cy="1524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gorshochek"/>
          <p:cNvPicPr/>
          <p:nvPr/>
        </p:nvPicPr>
        <p:blipFill>
          <a:blip r:embed="rId3"/>
          <a:stretch/>
        </p:blipFill>
        <p:spPr>
          <a:xfrm>
            <a:off x="6035760" y="4300560"/>
            <a:ext cx="12207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0T15:44:15Z</dcterms:created>
  <dc:creator>1</dc:creator>
  <dc:description/>
  <dc:language>en-US</dc:language>
  <cp:lastModifiedBy>Адиль</cp:lastModifiedBy>
  <dcterms:modified xsi:type="dcterms:W3CDTF">2019-12-08T10:27:11Z</dcterms:modified>
  <cp:revision>21</cp:revision>
  <dc:subject/>
  <dc:title>Проект «В мире посуды»</dc:title>
</cp:coreProperties>
</file>