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gif" ContentType="image/gif"/>
  <Override PartName="/ppt/media/image6.gif" ContentType="image/gif"/>
  <Override PartName="/ppt/media/image9.wmf" ContentType="image/x-wmf"/>
  <Override PartName="/ppt/media/image7.gif" ContentType="image/gif"/>
  <Override PartName="/ppt/media/image8.png" ContentType="image/png"/>
  <Override PartName="/ppt/media/image11.jpeg" ContentType="image/jpeg"/>
  <Override PartName="/ppt/media/image10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CA02-950A-4F2B-9BC0-2EBD91DFE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F170-AA34-43DE-A1B3-6F63DC65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48DD-3973-4B97-9DDC-9EBD1D4A0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478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114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42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478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114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F1C2-B5DC-4561-B336-04AC718FC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777FF-1F81-4AB2-B12C-EF3DBABCA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1DD0-A6AB-401A-A54E-8A372EFF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8EC0-9D91-494D-8636-5B0F2D14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9C17-E977-4E4E-93CB-9ADD76AE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C2E6-3B10-43EA-9383-EE7A6BBA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4200" y="533520"/>
            <a:ext cx="63990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B357A-32F3-4778-9866-3FE9A1DD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5EDA-A301-439C-93FA-1E5FA791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FF1D-496A-47AD-BE44-23A5B1C5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29392-197D-4D39-817B-FAEA2314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BCD3-6BE8-4784-8254-21C46E29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DA4E-C8DC-421E-AFDE-98A6EDC1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83F9-D2FD-4336-BE71-680A21AEF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478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114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42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4478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114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6D82-E46A-4D69-AF45-8C23FE2B3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9D7B-1CA3-4121-B9C0-70D398DE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FCCF-BF66-4319-A38A-383C32CF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5BDF-DCE9-4DCA-AA1F-DAA6E23A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4200" y="533520"/>
            <a:ext cx="63990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3A07-482D-4050-AAC4-637FD3A4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3A37-0598-46D7-AC0C-A8DCA373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0EC0-61C3-4C62-9DD7-09433AE7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3F09-B724-4ABE-AB5A-456079A9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1A86-696E-41E6-85A2-9425D821A4A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0" y="342864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02E9-7C81-4F59-9EFE-F5BA4643649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04920" y="457200"/>
            <a:ext cx="853416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ма   «Публицистический стиль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го особенности»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3" name="Picture 5" descr="13"/>
          <p:cNvPicPr/>
          <p:nvPr/>
        </p:nvPicPr>
        <p:blipFill>
          <a:blip r:embed="rId2"/>
          <a:stretch/>
        </p:blipFill>
        <p:spPr>
          <a:xfrm>
            <a:off x="1219320" y="2901960"/>
            <a:ext cx="67816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Заголовок 1" descr=""/>
          <p:cNvPicPr/>
          <p:nvPr/>
        </p:nvPicPr>
        <p:blipFill>
          <a:blip r:embed="rId2"/>
          <a:stretch/>
        </p:blipFill>
        <p:spPr>
          <a:xfrm>
            <a:off x="2284560" y="561960"/>
            <a:ext cx="6399000" cy="1160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57200" y="2286000"/>
            <a:ext cx="8305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Такой текст подчиняется определенным </a:t>
            </a:r>
            <a:r>
              <a:rPr b="1" i="1" lang="en-US" sz="2400" spc="-1" strike="noStrike">
                <a:solidFill>
                  <a:srgbClr val="953735"/>
                </a:solidFill>
                <a:latin typeface="Times New Roman"/>
              </a:rPr>
              <a:t>законам композиции (тезис, доказательства, вывод)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оэтому особое внимание обратите на первый и последний абзацы тек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 первом абзаце обычно сформулирован основной вопрос (проблема) текста. В тексте может быть не одна проблема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нужно сформулировать только одну проблему и работать только по н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нимательно прочитайте первый абзац и сформулируйте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вопрос, над которым автор размышляет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 Помочь сформулировать этот вопрос вам может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А2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10"/>
          <p:cNvGraphicFramePr/>
          <p:nvPr/>
        </p:nvGraphicFramePr>
        <p:xfrm>
          <a:off x="0" y="228600"/>
          <a:ext cx="2068560" cy="212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28600"/>
                    <a:ext cx="2068560" cy="21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Заголовок 1" descr=""/>
          <p:cNvPicPr/>
          <p:nvPr/>
        </p:nvPicPr>
        <p:blipFill>
          <a:blip r:embed="rId2"/>
          <a:stretch/>
        </p:blipFill>
        <p:spPr>
          <a:xfrm>
            <a:off x="426960" y="30240"/>
            <a:ext cx="8448840" cy="14176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981080"/>
            <a:ext cx="8458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Работать надо с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текстом в целом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проблемный вопрос ставить ко всему тексту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 Целесообразно обратить  внимание на художественные детали (особенности портрета, интерьера, пейзажные зарисовки). Некоторые детали могут повторяться, это должно привлечь ваше внимание. Подумайте, для чего автор акцентирует внимание читателя на этих подробностях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10"/>
          <p:cNvGraphicFramePr/>
          <p:nvPr/>
        </p:nvGraphicFramePr>
        <p:xfrm>
          <a:off x="6095880" y="4735440"/>
          <a:ext cx="2068560" cy="181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4735440"/>
                    <a:ext cx="2068560" cy="18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66440" y="1141920"/>
            <a:ext cx="622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зовите писателей-публицистов 19 века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8277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В.Г. Белинский, Н.А. Добролюбов, Н.Г. Чернышевский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2960" y="2284920"/>
            <a:ext cx="83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Каких писателей-публицистов начала 20 века вы знаете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28360" y="2894760"/>
            <a:ext cx="35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М. Горький, В.Г. Короленко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7720" y="3504240"/>
            <a:ext cx="84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зовите писателей-публицистов – наших современн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9040" y="4342320"/>
            <a:ext cx="874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(С. Залыгин, В.Г. Распутин, Д.А. Гранин, Д.С. Лихачев, А.И. Солженицын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0880" y="3183120"/>
            <a:ext cx="8458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льшой писатель, философ-жизнестроитель, вдохновенный заступник России, публицист Александр Исаевич Солженицын создал сотни публицистических статей. Его Нобелевская лекция, «Речь в Гарварде», статьи «Как нам обустроить Россию», «Жить не по лжи!» - образцы преданного и честного служения правде, Богу и Росси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0"/>
            <a:ext cx="8458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рывок из стать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.И. Солженицына «Жить не по лжи!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914040"/>
            <a:ext cx="9144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Наш путь: ни в чем не поддерживать лжи сознате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Через робость нашу пусть каждый выберет: остается ли он сознательным слугою лжи (о, разумеется, не по склонности, но для прокормления семьи, для воспитания детей в духе лжи!), или пришла ему пора отряхнуться честным человеком, достойным уважения и детей своих и современ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Даже этот путь – самый умеренный изо всех путей сопротивления – для засидевшихся нас будет нелег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Но насколько же легче самосожжения или даже голодовки: пламя не охватит твоего туловища, глаза не лопнут от жара, и черный-то хлеб с чистой водою всегда найдется для твоей семь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Это будет нелегкий путь? – но самый легкий из возмож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6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Нелегкий выбор для тела, - но единственный для душ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7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Нелегкий путь, - однако есть же у нас люди, даже десятки их, кто годами выдерживает все эти пункты, живет по прав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8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Итак: не первыми вступить на этот путь, а – присоединитьс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9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Тем легче и тем короче окажется всем нам этот путь, чем дружнее, чем гуще мы на него вступим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10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Будут нас тысячи – и не управятся ни с кем ничего подел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11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Станут нас десятки тысяч – и мы не узнаем нашей страны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523880" y="80640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Найдем признаки публицистического стиля  и докажите стилистическую принадлежность тек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66080" y="2133720"/>
            <a:ext cx="3617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 вари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ель тек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фера употреб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Жан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34120" y="2209680"/>
            <a:ext cx="3201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 вариан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тилевые черты. Языковые сред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5" descr="C:\Documents and Settings\Бабанова НЮ\Рабочий стол\3.jpg"/>
          <p:cNvPicPr/>
          <p:nvPr/>
        </p:nvPicPr>
        <p:blipFill>
          <a:blip r:embed="rId2"/>
          <a:stretch/>
        </p:blipFill>
        <p:spPr>
          <a:xfrm>
            <a:off x="184320" y="228600"/>
            <a:ext cx="1223640" cy="15238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p:transition>
    <p:wedg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380880" y="210960"/>
          <a:ext cx="8534520" cy="6646680"/>
        </p:xfrm>
        <a:graphic>
          <a:graphicData uri="http://schemas.openxmlformats.org/drawingml/2006/table">
            <a:tbl>
              <a:tblPr/>
              <a:tblGrid>
                <a:gridCol w="1524240"/>
                <a:gridCol w="7010280"/>
              </a:tblGrid>
              <a:tr h="107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ь сти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дача общественно-значимой информации о сознательном выборе жизненного пути – жить не по лжи, с одновременным убеждением читателя в том, что он не изменит своих убеждений, он страстно призывает других выбрать именно такой честный жизненный пут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фера употреблени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официальной обстановке, выступление в газете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ан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тья в газете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илевы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рты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огичность, эмоциональность, призывность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зыковые сре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рально-этическая лексика: ложь, робость, правда, уважение, воспитание, семья; тропы: метафоры – слуга лжи, отряхнуться честным человеком, пламя не охватит, глаза не лопнут, выбор для тела; сравнение: путь легче самосожжения или даже голодовки; стилистические фигуры: антитеза 2, 5, 6, 7, 8; синтаксический параллелизм 10, 11; анафора 6, 7; риторический вопрос 5; лексический повтор: путь, нелегкий; вводное предложение 2, сложные синтаксические конструк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ози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к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троен по типу рассуждения: в первом абзаце выдвинут тезис, во втором и третьем – доказательства, а в последнем – вывод. В начале каждого абзаца – лексический повтор: слово пу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2590920" y="228600"/>
            <a:ext cx="35049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тог  уро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"/>
          <p:cNvSpPr/>
          <p:nvPr/>
        </p:nvSpPr>
        <p:spPr>
          <a:xfrm>
            <a:off x="2136960" y="137052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Я научился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50080" y="1980000"/>
            <a:ext cx="142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Я умею.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52600" y="274212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Я получил наиболее полн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3427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Я понял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Рисунок 3" descr="fbg.jpg"/>
          <p:cNvPicPr/>
          <p:nvPr/>
        </p:nvPicPr>
        <p:blipFill>
          <a:blip r:embed="rId2"/>
          <a:stretch/>
        </p:blipFill>
        <p:spPr>
          <a:xfrm>
            <a:off x="0" y="228600"/>
            <a:ext cx="2133720" cy="13827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57" name=""/>
          <p:cNvSpPr txBox="1"/>
          <p:nvPr/>
        </p:nvSpPr>
        <p:spPr>
          <a:xfrm>
            <a:off x="533520" y="4038480"/>
            <a:ext cx="44193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машнее задан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"/>
          <p:cNvSpPr/>
          <p:nvPr/>
        </p:nvSpPr>
        <p:spPr>
          <a:xfrm>
            <a:off x="1222560" y="4831200"/>
            <a:ext cx="73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р. 229 – 230 теоретический материал, упр. 385 (I)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990720" y="2514600"/>
            <a:ext cx="7467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ур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762120" y="685800"/>
            <a:ext cx="6095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ели уро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903680"/>
            <a:ext cx="832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Систематизировать знания по теме «Особенности публицистического стиля»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6280" y="2818440"/>
            <a:ext cx="77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Закрепить навыки стилистического анализа текст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342756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вершенствовать умения различать тропы и стилистические фигуры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7800" y="4418640"/>
            <a:ext cx="860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Закрепить теоретические и практические навыки по тем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j0301252"/>
          <p:cNvPicPr/>
          <p:nvPr/>
        </p:nvPicPr>
        <p:blipFill>
          <a:blip r:embed="rId2"/>
          <a:stretch/>
        </p:blipFill>
        <p:spPr>
          <a:xfrm>
            <a:off x="7086600" y="914400"/>
            <a:ext cx="20574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04920" y="628200"/>
            <a:ext cx="8458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ысокая культура разговорной и письменной речи, хорошее знание и чутье родного языка, уменье пользоваться его выразительными средствами, его стилистическим многообразием – самая лучшая опора, самое верное подспорье и самая надежная рекомендация для каждого человека в его общественной жизни и творческой деятель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.В. Виногра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99960" y="4952160"/>
            <a:ext cx="652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Как цели урока связаны с эпиграф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447920" y="549000"/>
            <a:ext cx="723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дберите однокоренные слова к слову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ублицистический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 образуйте словообразовательную цепочк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2285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убл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133720" y="2590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75040" y="2285280"/>
            <a:ext cx="197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ублицис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2285280"/>
            <a:ext cx="25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ублицист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9525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8153280" y="2590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9600" y="3123360"/>
            <a:ext cx="330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ублицистиче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2"/>
          <a:stretch/>
        </p:blipFill>
        <p:spPr>
          <a:xfrm>
            <a:off x="4114800" y="2895480"/>
            <a:ext cx="3033720" cy="3581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358360" y="685080"/>
            <a:ext cx="442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Что изучает стилистика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133720" y="1600200"/>
            <a:ext cx="4267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или реч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905120" y="243828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243828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7440" y="2971800"/>
            <a:ext cx="23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Разговор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79800" y="2971080"/>
            <a:ext cx="187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Книж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65400" y="3580200"/>
            <a:ext cx="15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учны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3580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удожествен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76480" y="4418640"/>
            <a:ext cx="32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фициально-делово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00200" y="4418640"/>
            <a:ext cx="27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ублицист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571640" y="342900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00800" y="342900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876920" y="342900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943600" y="3429000"/>
            <a:ext cx="9144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086600" y="4876920"/>
            <a:ext cx="2057400" cy="1698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990720"/>
            <a:ext cx="5638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ублицистический стиль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175104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от латин. слова publicus , что значит «общественный, государственный»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6960" y="1097640"/>
            <a:ext cx="34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28177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то стиль, в основе которого лежит воздействие на читателя с помощью убеждения, влияния на его мысли и поступ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21240" y="4266360"/>
            <a:ext cx="766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В чем  особенность публицистического стил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524720" y="228600"/>
            <a:ext cx="1476360" cy="23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066680" y="228600"/>
            <a:ext cx="6782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ублицистический стиль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04920" y="914400"/>
          <a:ext cx="8457840" cy="5738400"/>
        </p:xfrm>
        <a:graphic>
          <a:graphicData uri="http://schemas.openxmlformats.org/drawingml/2006/table">
            <a:tbl>
              <a:tblPr/>
              <a:tblGrid>
                <a:gridCol w="1448640"/>
                <a:gridCol w="7009200"/>
              </a:tblGrid>
              <a:tr h="110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ь сти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фера употреблени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чевые жанры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илев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рты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зыковые средств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066680" y="228600"/>
            <a:ext cx="6782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ублицистический стиль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04920" y="990720"/>
          <a:ext cx="8458200" cy="5638680"/>
        </p:xfrm>
        <a:graphic>
          <a:graphicData uri="http://schemas.openxmlformats.org/drawingml/2006/table">
            <a:tbl>
              <a:tblPr/>
              <a:tblGrid>
                <a:gridCol w="1447560"/>
                <a:gridCol w="7010640"/>
              </a:tblGrid>
              <a:tr h="112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ь сти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формирование, передача общественно-значимой информации с одновременным воздействием на читателя, слушателя, убеждением его в чем-то, внушением ему определенных идей, взглядов, побуждением его к определенным поступкам, действиям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фера употреблени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официальной обстановке, общественно экономические, политические, культурные отношения, выступления в газетах и журналах, по радио и телевидению, на митингах и собраниях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чевые жанры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тья в газете, журнале, очерк, репортаж, фельетон, ораторская речь, судебная речь, выступления по радио, телевидению, на собрании, доклад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илев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рты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огичность, образность, эмоциональность, оценочность, призывность, страстность, общедоступность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зыковые средств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) общественно-политическая лекс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) эпитеты, сравнения, метафоры, лексические повторы, градация, фразеологизм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) побудительные и вопросительные предло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) риторически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)распространенные обращ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) вводные слова, причастные и деепричастные оборот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523880" y="609480"/>
            <a:ext cx="6096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мпозиция стать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167328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Напоминает научное рассу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) выдвигается важная общественная пробл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) анализируются и оцениваются пути её ре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) делаются вы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Напоминает диалог, где автор сам высказывает мысль и задаётся вопросом, справедливо ли его утвержд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410080" y="4648320"/>
            <a:ext cx="233856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ser</cp:lastModifiedBy>
  <dcterms:modified xsi:type="dcterms:W3CDTF">2002-01-01T05:36:04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