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4.jpeg" ContentType="image/jpeg"/>
  <Override PartName="/ppt/media/image11.jpeg" ContentType="image/jpeg"/>
  <Override PartName="/ppt/media/image40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534-2514-4076-830A-8C79960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BB7-614C-4DD4-8743-1681445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2D4-7EE5-4F28-9CB5-26FE90C2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34D-3401-4F4E-B7EA-51A12A8D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4DE8F-0987-4EB1-A48E-1FF96F2C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43CC0-6865-4CCB-BBFE-C3F0049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F0656-3C31-47CB-8619-FE88ED03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1F39-CD47-4126-91E1-3CC68720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5CA1A-2368-4E4C-922D-13EC2D1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8363-9FD8-4804-BD79-30026A5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607A1-6956-4B4C-BF90-7951C4B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567-0194-4312-AA46-CA482D4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31813-B200-42A1-BF6C-12D4BB3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80E57-F6D3-4155-AC3C-3594B2D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A3718-32A2-41E0-AE78-C2AFBFB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A579D-B3B6-4DFD-912E-EEDF0639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0B8FE-98FF-4CEF-AC63-51D41B77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2F81-3487-4B51-9953-ED9DFC35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A67C-5522-4573-88E7-2DB7878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4043-5699-413E-9513-E6F6F95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6544-6436-4F17-8D59-8B70D89F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81DC-F930-4A6B-94C4-0B8F3B41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48C-7468-4430-A3D7-47AFF4F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F4A6-7D7C-4C6D-BC3C-E7E42FF8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9D73-F693-43CC-A3CF-8E43726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7F3B-CA54-4F0F-A8CD-3C4C99E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3E75-45AB-4887-AA63-121D613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1498-F08B-4109-AFDE-97C9F2CF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E5B3-FBF1-43F5-809D-AFCFBCF4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516D-587D-4C9B-A52A-1F928439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FC9E7-AE48-4786-8207-F80EEF93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DEC00-5A81-42F1-9543-CDEE5DA6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D5BEF-4DF6-4407-867F-FC99539F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04B-0296-4AC8-B33E-FD51A87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712DB-5D44-48A1-B94D-5E1EFC54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AB7C6-993A-4DCB-9375-2D25DFE7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33A97-51FC-45A9-AB93-87CD8C6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0C619-DA7F-44B9-9438-58AB04EB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1D20F-A6CD-4DE2-814A-0B0E268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50F32-94C1-4F76-B1EE-F8F0D2D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17DDF-9B7B-4150-88B4-AF5B1207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3522C-35DD-4AE4-8D68-3AACB557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855EF-D6E7-427F-8C54-A6E32A3D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7B2-377A-40C2-91A3-FC42E15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F00-DE32-4DC3-BB89-D3B94A8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1C0-C764-43C6-BBE3-99336E4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2FF-1613-43B8-9EA2-EFF0020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D01-5633-4217-B564-007AFB0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EC6-3667-4C5E-96BE-2168B0506D8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D63E-6937-4427-BFAC-EB18DCBE95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E1DA-D643-40EE-B75B-29160AC19F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47F-CACC-4760-8E5B-E65A84DDE43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6292800" y="6357960"/>
            <a:ext cx="260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рпова Е.Г. Все права защищен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219240" y="281160"/>
            <a:ext cx="9113760" cy="1925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s://ds02.infourok.ru/uploads/ex/077a/000412a1-7563b547/1/hello_html_75e062a9.jpg"/>
          <p:cNvPicPr/>
          <p:nvPr/>
        </p:nvPicPr>
        <p:blipFill>
          <a:blip r:embed="rId2"/>
          <a:stretch/>
        </p:blipFill>
        <p:spPr>
          <a:xfrm>
            <a:off x="971640" y="3645000"/>
            <a:ext cx="7710480" cy="2952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2556000" y="2781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итель : Лисовская Анн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23_76.BMP"/>
          <p:cNvPicPr/>
          <p:nvPr/>
        </p:nvPicPr>
        <p:blipFill>
          <a:blip r:embed="rId1"/>
          <a:stretch/>
        </p:blipFill>
        <p:spPr>
          <a:xfrm>
            <a:off x="2268360" y="1430280"/>
            <a:ext cx="4783320" cy="51357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3" descr="fig09.jpg"/>
          <p:cNvPicPr/>
          <p:nvPr/>
        </p:nvPicPr>
        <p:blipFill>
          <a:blip r:embed="rId1"/>
          <a:stretch/>
        </p:blipFill>
        <p:spPr>
          <a:xfrm>
            <a:off x="1785960" y="1285920"/>
            <a:ext cx="6354720" cy="526716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13840" y="1214280"/>
            <a:ext cx="87202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вогенез – процесс образования женских половых клеток – яйцеклеток, осуществляется в фолликулах яичн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01" name="Содержимое 3" descr="gametogenez-1.jpg"/>
          <p:cNvPicPr/>
          <p:nvPr/>
        </p:nvPicPr>
        <p:blipFill>
          <a:blip r:embed="rId2"/>
          <a:srcRect l="3761" t="33829" r="4148" b="2943"/>
          <a:stretch/>
        </p:blipFill>
        <p:spPr>
          <a:xfrm>
            <a:off x="2357280" y="2214720"/>
            <a:ext cx="5046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7120" y="1143000"/>
            <a:ext cx="8577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перматогенез – процесс образования мужских половых клеток – сперматозоидов, осуществляется в извитых семенных канальцах яичник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3" descr=""/>
          <p:cNvPicPr/>
          <p:nvPr/>
        </p:nvPicPr>
        <p:blipFill>
          <a:blip r:embed="rId1"/>
          <a:stretch/>
        </p:blipFill>
        <p:spPr>
          <a:xfrm>
            <a:off x="231840" y="0"/>
            <a:ext cx="84675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6" descr="gametogenez-2.jpg"/>
          <p:cNvPicPr/>
          <p:nvPr/>
        </p:nvPicPr>
        <p:blipFill>
          <a:blip r:embed="rId2"/>
          <a:srcRect l="4168" t="12650" r="4038" b="2372"/>
          <a:stretch/>
        </p:blipFill>
        <p:spPr>
          <a:xfrm>
            <a:off x="1332000" y="2523960"/>
            <a:ext cx="500040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14240" y="1447560"/>
            <a:ext cx="822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зогамия – слияние одинаковых по форме, величине, подвижности гам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етерогамия – слияние одинаковых по форме, при этом женская гамета более крупная и менее подвижная, чем мужск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огамия -  слияние крупной, неподвижной, шаровидной женской гаметы с очень маленькой и подвижной мужско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игогамия – слияние неспециализированных клето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ологамия слияние одноклеточных вегетативных особей без образования гам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176040" y="60480"/>
            <a:ext cx="8450280" cy="1682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428760" y="1785960"/>
            <a:ext cx="2286000" cy="150012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Детеныш, личинка, пте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клетки диплоидн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3286080" y="1785960"/>
            <a:ext cx="2357640" cy="150012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Половозрелые животные (большинство клеток диплоидн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6156360" y="1916280"/>
            <a:ext cx="2000160" cy="121428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ейоз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4929120" y="3929040"/>
            <a:ext cx="1643040" cy="78588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Яйцеклетка (гаплоид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6156360" y="5229360"/>
            <a:ext cx="2143080" cy="88560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плодотворение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3203640" y="5229360"/>
            <a:ext cx="2143080" cy="92844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Зигота (диплоид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684360" y="5229360"/>
            <a:ext cx="2000160" cy="92844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итоз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57120" y="3714840"/>
            <a:ext cx="2428920" cy="85716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Эмбри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(клетки диплоидн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1"/>
          <p:cNvSpPr/>
          <p:nvPr/>
        </p:nvSpPr>
        <p:spPr>
          <a:xfrm>
            <a:off x="7164360" y="3860640"/>
            <a:ext cx="1785960" cy="785880"/>
          </a:xfrm>
          <a:prstGeom prst="rect">
            <a:avLst/>
          </a:prstGeom>
          <a:solidFill>
            <a:srgbClr val="ebe7f2"/>
          </a:solidFill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Сперматозоид (гаплоиде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Прямая со стрелкой 13"/>
          <p:cNvCxnSpPr>
            <a:stCxn id="208" idx="3"/>
            <a:endCxn id="209" idx="1"/>
          </p:cNvCxnSpPr>
          <p:nvPr/>
        </p:nvCxnSpPr>
        <p:spPr>
          <a:xfrm>
            <a:off x="2714400" y="2534760"/>
            <a:ext cx="572040" cy="252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18" name="Прямая со стрелкой 15"/>
          <p:cNvCxnSpPr>
            <a:stCxn id="209" idx="3"/>
            <a:endCxn id="210" idx="1"/>
          </p:cNvCxnSpPr>
          <p:nvPr/>
        </p:nvCxnSpPr>
        <p:spPr>
          <a:xfrm flipV="1">
            <a:off x="5643720" y="2523600"/>
            <a:ext cx="513360" cy="1368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19" name="Прямая со стрелкой 22"/>
          <p:cNvCxnSpPr>
            <a:stCxn id="215" idx="0"/>
            <a:endCxn id="208" idx="2"/>
          </p:cNvCxnSpPr>
          <p:nvPr/>
        </p:nvCxnSpPr>
        <p:spPr>
          <a:xfrm flipV="1">
            <a:off x="1568880" y="3285360"/>
            <a:ext cx="2520" cy="43092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20" name="Прямая со стрелкой 24"/>
          <p:cNvCxnSpPr>
            <a:stCxn id="214" idx="0"/>
            <a:endCxn id="215" idx="2"/>
          </p:cNvCxnSpPr>
          <p:nvPr/>
        </p:nvCxnSpPr>
        <p:spPr>
          <a:xfrm flipH="1" flipV="1">
            <a:off x="1571040" y="4571640"/>
            <a:ext cx="113400" cy="65808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21" name="Прямая со стрелкой 26"/>
          <p:cNvCxnSpPr>
            <a:stCxn id="213" idx="1"/>
            <a:endCxn id="214" idx="3"/>
          </p:cNvCxnSpPr>
          <p:nvPr/>
        </p:nvCxnSpPr>
        <p:spPr>
          <a:xfrm flipH="1">
            <a:off x="2684160" y="5692320"/>
            <a:ext cx="519840" cy="108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22" name="Прямая со стрелкой 28"/>
          <p:cNvCxnSpPr>
            <a:stCxn id="212" idx="1"/>
            <a:endCxn id="213" idx="3"/>
          </p:cNvCxnSpPr>
          <p:nvPr/>
        </p:nvCxnSpPr>
        <p:spPr>
          <a:xfrm flipH="1">
            <a:off x="5346000" y="5671800"/>
            <a:ext cx="810360" cy="2088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sp>
        <p:nvSpPr>
          <p:cNvPr id="223" name="Прямая соединительная линия 30"/>
          <p:cNvSpPr/>
          <p:nvPr/>
        </p:nvSpPr>
        <p:spPr>
          <a:xfrm>
            <a:off x="5857920" y="3571920"/>
            <a:ext cx="2357280" cy="1440"/>
          </a:xfrm>
          <a:prstGeom prst="line">
            <a:avLst/>
          </a:prstGeom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Прямая со стрелкой 32"/>
          <p:cNvCxnSpPr/>
          <p:nvPr/>
        </p:nvCxnSpPr>
        <p:spPr>
          <a:xfrm>
            <a:off x="5856840" y="3571920"/>
            <a:ext cx="1080" cy="35784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cxnSp>
        <p:nvCxnSpPr>
          <p:cNvPr id="225" name="Прямая со стрелкой 34"/>
          <p:cNvCxnSpPr/>
          <p:nvPr/>
        </p:nvCxnSpPr>
        <p:spPr>
          <a:xfrm flipH="1">
            <a:off x="8214480" y="3573360"/>
            <a:ext cx="2520" cy="35784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  <p:sp>
        <p:nvSpPr>
          <p:cNvPr id="226" name="Прямая соединительная линия 43"/>
          <p:cNvSpPr/>
          <p:nvPr/>
        </p:nvSpPr>
        <p:spPr>
          <a:xfrm flipH="1">
            <a:off x="6928920" y="3143160"/>
            <a:ext cx="1800" cy="430200"/>
          </a:xfrm>
          <a:prstGeom prst="line">
            <a:avLst/>
          </a:prstGeom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45"/>
          <p:cNvSpPr/>
          <p:nvPr/>
        </p:nvSpPr>
        <p:spPr>
          <a:xfrm>
            <a:off x="5857920" y="4714920"/>
            <a:ext cx="0" cy="214200"/>
          </a:xfrm>
          <a:prstGeom prst="line">
            <a:avLst/>
          </a:prstGeom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47"/>
          <p:cNvSpPr/>
          <p:nvPr/>
        </p:nvSpPr>
        <p:spPr>
          <a:xfrm>
            <a:off x="8143920" y="4714920"/>
            <a:ext cx="0" cy="214200"/>
          </a:xfrm>
          <a:prstGeom prst="line">
            <a:avLst/>
          </a:prstGeom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49"/>
          <p:cNvSpPr/>
          <p:nvPr/>
        </p:nvSpPr>
        <p:spPr>
          <a:xfrm>
            <a:off x="5857920" y="4929120"/>
            <a:ext cx="2286000" cy="1800"/>
          </a:xfrm>
          <a:prstGeom prst="line">
            <a:avLst/>
          </a:prstGeom>
          <a:ln w="12600">
            <a:solidFill>
              <a:srgbClr val="fefa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Прямая со стрелкой 51"/>
          <p:cNvCxnSpPr/>
          <p:nvPr/>
        </p:nvCxnSpPr>
        <p:spPr>
          <a:xfrm flipH="1">
            <a:off x="6928560" y="4930560"/>
            <a:ext cx="2520" cy="214920"/>
          </a:xfrm>
          <a:prstGeom prst="straightConnector1">
            <a:avLst/>
          </a:prstGeom>
          <a:ln w="12600">
            <a:solidFill>
              <a:srgbClr val="fefac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24_82.BMP"/>
          <p:cNvPicPr/>
          <p:nvPr/>
        </p:nvPicPr>
        <p:blipFill>
          <a:blip r:embed="rId1"/>
          <a:stretch/>
        </p:blipFill>
        <p:spPr>
          <a:xfrm>
            <a:off x="395280" y="1916280"/>
            <a:ext cx="8290080" cy="374472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3" descr="25_86.bmp"/>
          <p:cNvPicPr/>
          <p:nvPr/>
        </p:nvPicPr>
        <p:blipFill>
          <a:blip r:embed="rId1"/>
          <a:srcRect l="1666" t="1251" r="1666" b="2360"/>
          <a:stretch/>
        </p:blipFill>
        <p:spPr>
          <a:xfrm>
            <a:off x="2286000" y="114300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1432080" y="274680"/>
            <a:ext cx="7840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3" descr="ris.5gif.gif"/>
          <p:cNvPicPr/>
          <p:nvPr/>
        </p:nvPicPr>
        <p:blipFill>
          <a:blip r:embed="rId1"/>
          <a:stretch/>
        </p:blipFill>
        <p:spPr>
          <a:xfrm>
            <a:off x="468360" y="2133720"/>
            <a:ext cx="8308800" cy="319536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981000" y="212760"/>
            <a:ext cx="77058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одержимое 3" descr="O187.bmp"/>
          <p:cNvPicPr/>
          <p:nvPr/>
        </p:nvPicPr>
        <p:blipFill>
          <a:blip r:embed="rId1"/>
          <a:stretch/>
        </p:blipFill>
        <p:spPr>
          <a:xfrm>
            <a:off x="539640" y="1557360"/>
            <a:ext cx="8083800" cy="415116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азмножение спор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редко бесполому размножению бактерий предшествует образование спор. Бактериальные споры – это покоящиеся клетки со сниженным метаболизмом, окруженные многослойной оболочкой, устойчивые к высыханию и другим неблагоприятным условиям, вызывающим гибель обычных клеток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275px-Fungi_collage.jpg"/>
          <p:cNvPicPr/>
          <p:nvPr/>
        </p:nvPicPr>
        <p:blipFill>
          <a:blip r:embed="rId2"/>
          <a:stretch/>
        </p:blipFill>
        <p:spPr>
          <a:xfrm>
            <a:off x="5286240" y="4357800"/>
            <a:ext cx="26193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1346040"/>
          <a:ext cx="8648640" cy="5415120"/>
        </p:xfrm>
        <a:graphic>
          <a:graphicData uri="http://schemas.openxmlformats.org/drawingml/2006/table">
            <a:tbl>
              <a:tblPr/>
              <a:tblGrid>
                <a:gridCol w="1143000"/>
                <a:gridCol w="2665440"/>
                <a:gridCol w="4840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ериод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Описание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плодотворенная яйцеклетка с диплоидным набором хромосом (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у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уется после деления зиготы, в два, четыре и более раз, не имеет полост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ласту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ногоклеточный зародыш с полостью внутри. По форме напоминает шар. Образован в результате многократного деления зиг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стру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ухслойный зародыш. Образовавшийся в результате впячивания бластулы. Образование двух зародышевых листков: эктодермы (1) – наружный слой клеток и энтодермы (2) – внутренний сл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da"/>
                    </a:solidFill>
                  </a:tcPr>
                </a:tc>
              </a:tr>
            </a:tbl>
          </a:graphicData>
        </a:graphic>
      </p:graphicFrame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65280" y="262080"/>
            <a:ext cx="7735680" cy="1427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зигота.gif"/>
          <p:cNvPicPr/>
          <p:nvPr/>
        </p:nvPicPr>
        <p:blipFill>
          <a:blip r:embed="rId2"/>
          <a:stretch/>
        </p:blipFill>
        <p:spPr>
          <a:xfrm>
            <a:off x="2109960" y="1936800"/>
            <a:ext cx="9619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1.gif"/>
          <p:cNvPicPr/>
          <p:nvPr/>
        </p:nvPicPr>
        <p:blipFill>
          <a:blip r:embed="rId3"/>
          <a:stretch/>
        </p:blipFill>
        <p:spPr>
          <a:xfrm>
            <a:off x="2108160" y="3776760"/>
            <a:ext cx="1246320" cy="1238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2.gif"/>
          <p:cNvPicPr/>
          <p:nvPr/>
        </p:nvPicPr>
        <p:blipFill>
          <a:blip r:embed="rId4"/>
          <a:stretch/>
        </p:blipFill>
        <p:spPr>
          <a:xfrm>
            <a:off x="1447920" y="2876400"/>
            <a:ext cx="2595600" cy="882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5.gif"/>
          <p:cNvPicPr/>
          <p:nvPr/>
        </p:nvPicPr>
        <p:blipFill>
          <a:blip r:embed="rId5"/>
          <a:stretch/>
        </p:blipFill>
        <p:spPr>
          <a:xfrm>
            <a:off x="1928880" y="5105520"/>
            <a:ext cx="164304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714240" y="1447920"/>
          <a:ext cx="8220240" cy="3909960"/>
        </p:xfrm>
        <a:graphic>
          <a:graphicData uri="http://schemas.openxmlformats.org/drawingml/2006/table">
            <a:tbl>
              <a:tblPr/>
              <a:tblGrid>
                <a:gridCol w="1428840"/>
                <a:gridCol w="3357720"/>
                <a:gridCol w="343368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ериод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adb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adb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Описание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adbb5"/>
                    </a:solidFill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йру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de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адия закладывания внутренних органов – полости первичной кишки, нервной пластинки, хорды, в случае хордовых животных. Происходит образование третьего зародышевого листка – мезодер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059"/>
                      </a:solidFill>
                    </a:lnL>
                    <a:lnR w="5760">
                      <a:solidFill>
                        <a:srgbClr val="fcf059"/>
                      </a:solidFill>
                    </a:lnR>
                    <a:lnT w="5760">
                      <a:solidFill>
                        <a:srgbClr val="fcf059"/>
                      </a:solidFill>
                    </a:lnT>
                    <a:lnB w="5760">
                      <a:solidFill>
                        <a:srgbClr val="fcf059"/>
                      </a:solidFill>
                    </a:lnB>
                    <a:solidFill>
                      <a:srgbClr val="fdedda"/>
                    </a:solidFill>
                  </a:tcPr>
                </a:tc>
              </a:tr>
            </a:tbl>
          </a:graphicData>
        </a:graphic>
      </p:graphicFrame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3" descr="Untitled-6.gif"/>
          <p:cNvPicPr/>
          <p:nvPr/>
        </p:nvPicPr>
        <p:blipFill>
          <a:blip r:embed="rId2"/>
          <a:stretch/>
        </p:blipFill>
        <p:spPr>
          <a:xfrm>
            <a:off x="2143080" y="2357280"/>
            <a:ext cx="33051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45320" cy="27954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840" y="144756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cf059"/>
                </a:solidFill>
                <a:latin typeface="Constantia"/>
              </a:rPr>
              <a:t>Эктодер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нервная система, органы чувств, покровный эпителий и его производные (волосы, копыта и т.п.), покровная и нервная ткан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cf059"/>
                </a:solidFill>
                <a:latin typeface="Constantia"/>
              </a:rPr>
              <a:t>Энтодер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кишечник, пищеварительные железы (печень, поджелудочная железа), жабры легкие, щитовидная железа и т.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cf059"/>
                </a:solidFill>
                <a:latin typeface="Constantia"/>
              </a:rPr>
              <a:t>Мезодер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хорда, скелет, мышцы, почки, коровеносная система, соединительная и мышечная ткан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40"/>
          <p:cNvGrpSpPr/>
          <p:nvPr/>
        </p:nvGrpSpPr>
        <p:grpSpPr>
          <a:xfrm>
            <a:off x="428760" y="1643040"/>
            <a:ext cx="8429400" cy="4857840"/>
            <a:chOff x="428760" y="1643040"/>
            <a:chExt cx="8429400" cy="4857840"/>
          </a:xfrm>
        </p:grpSpPr>
        <p:sp>
          <p:nvSpPr>
            <p:cNvPr id="254" name="Прямоугольник 3"/>
            <p:cNvSpPr/>
            <p:nvPr/>
          </p:nvSpPr>
          <p:spPr>
            <a:xfrm>
              <a:off x="2571840" y="1643040"/>
              <a:ext cx="357192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153a1"/>
                  </a:solidFill>
                  <a:latin typeface="Constantia"/>
                </a:rPr>
                <a:t>Постэмбриональное развит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Прямоугольник 5"/>
            <p:cNvSpPr/>
            <p:nvPr/>
          </p:nvSpPr>
          <p:spPr>
            <a:xfrm>
              <a:off x="1214280" y="2571480"/>
              <a:ext cx="207144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Прямо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(без превращения)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Прямоугольник 6"/>
            <p:cNvSpPr/>
            <p:nvPr/>
          </p:nvSpPr>
          <p:spPr>
            <a:xfrm>
              <a:off x="5715000" y="2571480"/>
              <a:ext cx="207144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Непрямо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(с превращением)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оугольник 8"/>
            <p:cNvSpPr/>
            <p:nvPr/>
          </p:nvSpPr>
          <p:spPr>
            <a:xfrm>
              <a:off x="2428920" y="3571920"/>
              <a:ext cx="200016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Внутриутробный ти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оугольник 9"/>
            <p:cNvSpPr/>
            <p:nvPr/>
          </p:nvSpPr>
          <p:spPr>
            <a:xfrm>
              <a:off x="428760" y="3571920"/>
              <a:ext cx="178596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Неличиночный ти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оугольник 10"/>
            <p:cNvSpPr/>
            <p:nvPr/>
          </p:nvSpPr>
          <p:spPr>
            <a:xfrm>
              <a:off x="7072200" y="3571920"/>
              <a:ext cx="178596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Метаморфоз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оугольник 11"/>
            <p:cNvSpPr/>
            <p:nvPr/>
          </p:nvSpPr>
          <p:spPr>
            <a:xfrm>
              <a:off x="4714920" y="3571920"/>
              <a:ext cx="1785960" cy="714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Неполное превращ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оугольник 12"/>
            <p:cNvSpPr/>
            <p:nvPr/>
          </p:nvSpPr>
          <p:spPr>
            <a:xfrm>
              <a:off x="536400" y="4643640"/>
              <a:ext cx="1571400" cy="157176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Зародыш развивается внутри яйц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оугольник 13"/>
            <p:cNvSpPr/>
            <p:nvPr/>
          </p:nvSpPr>
          <p:spPr>
            <a:xfrm>
              <a:off x="2643120" y="4643640"/>
              <a:ext cx="1571400" cy="16430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Зародыш развивается внутри организма матер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Прямоугольник 14"/>
            <p:cNvSpPr/>
            <p:nvPr/>
          </p:nvSpPr>
          <p:spPr>
            <a:xfrm>
              <a:off x="7180200" y="4643640"/>
              <a:ext cx="1571400" cy="1857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Полипы, иглокожие, большинство насекомых, земновод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Прямоугольник 15"/>
            <p:cNvSpPr/>
            <p:nvPr/>
          </p:nvSpPr>
          <p:spPr>
            <a:xfrm>
              <a:off x="4714920" y="4643640"/>
              <a:ext cx="1785960" cy="1857240"/>
            </a:xfrm>
            <a:prstGeom prst="rect">
              <a:avLst/>
            </a:prstGeom>
            <a:solidFill>
              <a:srgbClr val="d7cee6">
                <a:alpha val="55000"/>
              </a:srgbClr>
            </a:solidFill>
            <a:ln w="3816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153a1"/>
                  </a:solidFill>
                  <a:latin typeface="Constantia"/>
                </a:rPr>
                <a:t>Губки, кишечнополостные, некоторые насекомые, большенство ры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5" name="Прямая со стрелкой 17"/>
            <p:cNvCxnSpPr>
              <a:stCxn id="255" idx="2"/>
              <a:endCxn id="258" idx="0"/>
            </p:cNvCxnSpPr>
            <p:nvPr/>
          </p:nvCxnSpPr>
          <p:spPr>
            <a:xfrm flipH="1">
              <a:off x="1321560" y="3285720"/>
              <a:ext cx="929160" cy="28620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66" name="Прямая со стрелкой 19"/>
            <p:cNvCxnSpPr>
              <a:stCxn id="255" idx="2"/>
              <a:endCxn id="257" idx="0"/>
            </p:cNvCxnSpPr>
            <p:nvPr/>
          </p:nvCxnSpPr>
          <p:spPr>
            <a:xfrm>
              <a:off x="2249640" y="3285720"/>
              <a:ext cx="1180080" cy="28620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67" name="Прямая со стрелкой 21"/>
            <p:cNvCxnSpPr>
              <a:stCxn id="258" idx="2"/>
              <a:endCxn id="261" idx="0"/>
            </p:cNvCxnSpPr>
            <p:nvPr/>
          </p:nvCxnSpPr>
          <p:spPr>
            <a:xfrm flipH="1">
              <a:off x="1320480" y="4287960"/>
              <a:ext cx="2160" cy="3578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68" name="Прямая со стрелкой 23"/>
            <p:cNvCxnSpPr>
              <a:stCxn id="257" idx="2"/>
              <a:endCxn id="262" idx="0"/>
            </p:cNvCxnSpPr>
            <p:nvPr/>
          </p:nvCxnSpPr>
          <p:spPr>
            <a:xfrm flipH="1">
              <a:off x="3427200" y="4287960"/>
              <a:ext cx="3600" cy="3578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69" name="Прямая со стрелкой 25"/>
            <p:cNvCxnSpPr>
              <a:stCxn id="256" idx="2"/>
              <a:endCxn id="260" idx="0"/>
            </p:cNvCxnSpPr>
            <p:nvPr/>
          </p:nvCxnSpPr>
          <p:spPr>
            <a:xfrm flipH="1">
              <a:off x="5608080" y="3285720"/>
              <a:ext cx="1143720" cy="28620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70" name="Прямая со стрелкой 27"/>
            <p:cNvCxnSpPr>
              <a:stCxn id="256" idx="2"/>
              <a:endCxn id="259" idx="0"/>
            </p:cNvCxnSpPr>
            <p:nvPr/>
          </p:nvCxnSpPr>
          <p:spPr>
            <a:xfrm>
              <a:off x="6750720" y="3285720"/>
              <a:ext cx="1215000" cy="28620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71" name="Прямая со стрелкой 29"/>
            <p:cNvCxnSpPr>
              <a:stCxn id="260" idx="2"/>
              <a:endCxn id="264" idx="0"/>
            </p:cNvCxnSpPr>
            <p:nvPr/>
          </p:nvCxnSpPr>
          <p:spPr>
            <a:xfrm flipH="1">
              <a:off x="5606640" y="4287960"/>
              <a:ext cx="2160" cy="3578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cxnSp>
          <p:nvCxnSpPr>
            <p:cNvPr id="272" name="Прямая со стрелкой 31"/>
            <p:cNvCxnSpPr>
              <a:stCxn id="259" idx="2"/>
              <a:endCxn id="263" idx="0"/>
            </p:cNvCxnSpPr>
            <p:nvPr/>
          </p:nvCxnSpPr>
          <p:spPr>
            <a:xfrm flipH="1">
              <a:off x="7964280" y="4287960"/>
              <a:ext cx="2160" cy="3578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sp>
          <p:nvSpPr>
            <p:cNvPr id="273" name="Прямая соединительная линия 33"/>
            <p:cNvSpPr/>
            <p:nvPr/>
          </p:nvSpPr>
          <p:spPr>
            <a:xfrm flipH="1" flipV="1">
              <a:off x="2143080" y="2000160"/>
              <a:ext cx="428400" cy="1440"/>
            </a:xfrm>
            <a:prstGeom prst="line">
              <a:avLst/>
            </a:prstGeom>
            <a:ln w="1260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4" name="Прямая со стрелкой 35"/>
            <p:cNvCxnSpPr/>
            <p:nvPr/>
          </p:nvCxnSpPr>
          <p:spPr>
            <a:xfrm flipH="1">
              <a:off x="2141280" y="2001240"/>
              <a:ext cx="3600" cy="5720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  <p:sp>
          <p:nvSpPr>
            <p:cNvPr id="275" name="Прямая соединительная линия 37"/>
            <p:cNvSpPr/>
            <p:nvPr/>
          </p:nvSpPr>
          <p:spPr>
            <a:xfrm>
              <a:off x="6143760" y="2000160"/>
              <a:ext cx="428400" cy="1440"/>
            </a:xfrm>
            <a:prstGeom prst="line">
              <a:avLst/>
            </a:prstGeom>
            <a:ln w="12600">
              <a:solidFill>
                <a:srgbClr val="7153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6" name="Прямая со стрелкой 39"/>
            <p:cNvCxnSpPr/>
            <p:nvPr/>
          </p:nvCxnSpPr>
          <p:spPr>
            <a:xfrm flipH="1">
              <a:off x="6570360" y="2001240"/>
              <a:ext cx="3600" cy="572040"/>
            </a:xfrm>
            <a:prstGeom prst="straightConnector1">
              <a:avLst/>
            </a:prstGeom>
            <a:ln w="12600">
              <a:solidFill>
                <a:srgbClr val="7153a1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fig18.jpg"/>
          <p:cNvPicPr/>
          <p:nvPr/>
        </p:nvPicPr>
        <p:blipFill>
          <a:blip r:embed="rId1"/>
          <a:stretch/>
        </p:blipFill>
        <p:spPr>
          <a:xfrm>
            <a:off x="611280" y="1484280"/>
            <a:ext cx="8208720" cy="502272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786040" y="1428840"/>
            <a:ext cx="4233960" cy="5106960"/>
          </a:xfrm>
          <a:prstGeom prst="rect">
            <a:avLst/>
          </a:prstGeom>
          <a:ln w="0">
            <a:noFill/>
          </a:ln>
        </p:spPr>
      </p:pic>
      <p:pic>
        <p:nvPicPr>
          <p:cNvPr id="28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егетативное размнож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существляется путем отделения от организма его части, состоящей из большего или меньшего числа клеток. Из них развивается взрослый организм. В своей основе оно аналогично процессу регенера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800" y="1447560"/>
            <a:ext cx="854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 бесполом размножении имеется только один родитель. В результате образуется потомство (клон), генетически идентичное родителю; только в результате случайных мутаций генетический материал может изменить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ris.6gif.gif"/>
          <p:cNvPicPr/>
          <p:nvPr/>
        </p:nvPicPr>
        <p:blipFill>
          <a:blip r:embed="rId2"/>
          <a:stretch/>
        </p:blipFill>
        <p:spPr>
          <a:xfrm>
            <a:off x="441360" y="321300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ris.7gif.gif"/>
          <p:cNvPicPr/>
          <p:nvPr/>
        </p:nvPicPr>
        <p:blipFill>
          <a:blip r:embed="rId3"/>
          <a:stretch/>
        </p:blipFill>
        <p:spPr>
          <a:xfrm>
            <a:off x="4699080" y="4581360"/>
            <a:ext cx="4243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5" descr="ris.8gif.gif"/>
          <p:cNvPicPr/>
          <p:nvPr/>
        </p:nvPicPr>
        <p:blipFill>
          <a:blip r:embed="rId1"/>
          <a:stretch/>
        </p:blipFill>
        <p:spPr>
          <a:xfrm>
            <a:off x="684360" y="1596960"/>
            <a:ext cx="4857480" cy="242892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3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ris.9gif.gif"/>
          <p:cNvPicPr/>
          <p:nvPr/>
        </p:nvPicPr>
        <p:blipFill>
          <a:blip r:embed="rId3"/>
          <a:stretch/>
        </p:blipFill>
        <p:spPr>
          <a:xfrm>
            <a:off x="2763720" y="4129200"/>
            <a:ext cx="6056280" cy="23288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ris.10gif.gif"/>
          <p:cNvPicPr/>
          <p:nvPr/>
        </p:nvPicPr>
        <p:blipFill>
          <a:blip r:embed="rId4"/>
          <a:stretch/>
        </p:blipFill>
        <p:spPr>
          <a:xfrm>
            <a:off x="6516720" y="1644480"/>
            <a:ext cx="21668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280" y="1844280"/>
            <a:ext cx="8394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азмножение деление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еление свойственно прежде всего одноклеточным организмам. Как правило, оно осуществляется путем простого деления клетки надвое. Размножающийся бесполым путем организм способен бесконечно воспроизводить себя, пока не произойдет спонтанное изменение генетического материала – мутаци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20_69.BMP"/>
          <p:cNvPicPr/>
          <p:nvPr/>
        </p:nvPicPr>
        <p:blipFill>
          <a:blip r:embed="rId1"/>
          <a:stretch/>
        </p:blipFill>
        <p:spPr>
          <a:xfrm>
            <a:off x="1500120" y="1165320"/>
            <a:ext cx="6072120" cy="5332320"/>
          </a:xfrm>
          <a:prstGeom prst="rect">
            <a:avLst/>
          </a:prstGeom>
          <a:ln w="0">
            <a:noFill/>
          </a:ln>
        </p:spPr>
      </p:pic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https://ds03.infourok.ru/uploads/ex/0809/00038a78-5c8c7d93/img19.jpg"/>
          <p:cNvPicPr/>
          <p:nvPr/>
        </p:nvPicPr>
        <p:blipFill>
          <a:blip r:embed="rId2"/>
          <a:stretch/>
        </p:blipFill>
        <p:spPr>
          <a:xfrm>
            <a:off x="250920" y="2133720"/>
            <a:ext cx="8642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https://cf.ppt-online.org/files1/slide/y/yUF5GTraMRWtzndiJoBQEOsj4x07Npfmku3bXwV2eZ/slide-21.jpg"/>
          <p:cNvPicPr/>
          <p:nvPr/>
        </p:nvPicPr>
        <p:blipFill>
          <a:blip r:embed="rId2"/>
          <a:stretch/>
        </p:blipFill>
        <p:spPr>
          <a:xfrm>
            <a:off x="1116000" y="1392120"/>
            <a:ext cx="69483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4:48:12Z</dcterms:created>
  <dc:creator>Карпов Евгений</dc:creator>
  <dc:description/>
  <dc:language>en-US</dc:language>
  <cp:lastModifiedBy>Школа</cp:lastModifiedBy>
  <dcterms:modified xsi:type="dcterms:W3CDTF">2019-12-08T19:39:59Z</dcterms:modified>
  <cp:revision>39</cp:revision>
  <dc:subject/>
  <dc:title>Размножение и развитие</dc:title>
</cp:coreProperties>
</file>