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FC3-C451-4ECF-9F72-0666E61A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A1F-FC20-4FF8-9851-9A95E2DC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821-922D-4570-9F9B-2D021AD6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735-0F6B-4450-8019-FB2691B5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72E-E085-4528-B5A4-9766D8C5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A1D3-7651-4CBA-B17B-C7F31F2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210B-F3A4-4A0E-A5EF-675BF2E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051B-CFFF-41E4-898B-97B954E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8F5-36F5-4552-9211-84F5F86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2E6A-0E66-4FA9-AD1D-EC0A171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8CA5-0565-4BFE-B265-565AD98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A3E-9FD2-46DE-9565-62CFB25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1B9-66B5-456B-BF45-0DB390E7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1D1F-2862-4BE5-BEBD-28D951F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A8CC-AF15-4E0C-B423-65F539E2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AC3F-6B6C-470B-8E23-A481732C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1C05-38E7-4054-A754-5A49FDFC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60E2-DD7F-4846-AAD3-C7D0C367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0645-F925-43AA-BE24-5D047DF8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FCBD-3174-4CBA-990C-E765B86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343A-361B-489C-8209-5BBD78D4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053B-05A3-4F7A-807D-3108AD5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F2D-4C3A-49C4-8260-4BB3B65B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F680-8BF7-4587-9E93-80082D05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9C2D-CCD6-420B-9050-D039B29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97C3-FE09-4F16-8155-7E3E761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2501-B0F2-4BE7-BF85-85EC27D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6152-E06D-4A7A-B50C-214F121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6878-3052-4FEF-BD45-234D2B4D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75EE-1CEF-4FD4-ACB7-7750FFEA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D3BB-6035-4CB2-80A6-E9B3D5CF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D768-1B07-4288-BE4B-EB40E93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F1F9-C651-49E6-9F6D-6B922F02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5E6-6B26-4E4A-A860-7D5135C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FDD8-5698-45A9-B111-4099C47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246B-BC0B-451A-840E-B15558D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753A-9945-4849-BE88-6B4F121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1760-C070-4539-BEED-0385BEB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ECB5-554E-4ACD-86C3-F0F8DDC5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1125-712C-4FAB-B84A-DAEBBA1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0DFD-2069-4A17-AECA-0F98EB2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AE61-A3DC-4B64-91A8-234575F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0AE2-2E60-4B89-B978-BAE32D22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12B2-2857-418B-B38C-2697CD05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740-146D-4CF0-83DE-0D6BE03D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AC58-084B-42F8-B362-9AE3EB3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815C-04F9-4728-AFF5-8C6E5541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A3EC-C686-438E-B897-C855C73A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448C-1B7B-4561-AC58-4D56CBD5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CB73-E911-4735-985D-E7B8BC4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8EDF-0906-42B3-BF0A-ECFC07F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C66C-04F7-4C6F-B6CC-95A99D7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1401-E4E6-43A3-9D88-9306B65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755E1-1C55-4692-91BF-0D2DF776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D2324-2D7F-49DB-BEF6-20B56393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150-5C04-4415-B96A-24C21F70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441C-9D28-4FD8-A147-BDD7B9AA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06BD-09B2-48AB-885D-5992BBF4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5FCF-1132-4732-82F5-A636111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DFEA-17A4-4B07-9739-5CE8CAFE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06F6-3B74-491C-9113-EBB2781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EBF2-8B88-42F6-90AD-BCF0D818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4AB02-025A-4D65-BA5F-77D3507D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811A6-A1BA-42F5-ABE3-2088DBB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21D1-4321-4E8A-B242-71404DF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0E29-563D-47E7-ABAB-954850D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354-FE19-40F4-B20F-8C635F5A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01DE-3BD8-4863-BFCD-2C342026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909F-3E08-4ED8-9A65-D430763F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552E-2E01-4025-8853-3C6A1148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07B-6730-4FC0-8CB3-7CA95A5D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42D-FC90-446A-9B19-5E2B59D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C7EF-7578-4A37-8176-3D0B38B5007A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4FFB-7052-4B0F-817C-CB6AE6B623E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66B-4AAF-4247-9508-FF60B141246E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A2B-8777-48BD-829F-3A395B1D44BC}" type="slidenum"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F94-E67E-4B74-A2D5-BA679B040B9A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D341-8727-4EDC-9616-403E8121063F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365120" y="5479920"/>
            <a:ext cx="7875720" cy="1384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70080" y="812880"/>
            <a:ext cx="6400800" cy="322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шение линейных неравенств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еременной и их сист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7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c6c6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6c6c6c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86 (а, б), 894(а, б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1928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«неравенство с одной переменной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неравен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ые неравенства -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неравенств с одной переменной –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систему неравен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ства равносильности, используемые при решении   систем линейных неравенств с одной переме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+y&gt;1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·y&lt; 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число 0 решением неравенства 3х–1&lt;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неравенство 3х+12&gt;2х–2 строг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 ли целое  число, принадлежащее промежутку [–2,5;–2,3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, что при умножении или делении обеих частей неравенства на отрицательное число, знак неравенства не меня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8010720" cy="852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42480" y="1944720"/>
            <a:ext cx="6829560" cy="390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1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2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3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4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5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6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енству –3х≤–45 соответствует числовой  промежут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∞;15)     б)[15;+∞)   в)(–∞;15]      г) (15;+∞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кажите наибольшее и наименьшее целое число, принадлежащее  промежут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4;12)                                 Б)[–4;0,8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ешить систему неравен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–10&gt;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–5&gt;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Левая фигурная скобка 4"/>
          <p:cNvSpPr/>
          <p:nvPr/>
        </p:nvSpPr>
        <p:spPr>
          <a:xfrm>
            <a:off x="812880" y="4572000"/>
            <a:ext cx="333360" cy="92880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2400" y="2811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 [1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наибольшее  11; наименьшее  -3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)наибольшее 0; наименьшее  -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(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двойное неравенство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ть 2 способа ре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&lt;х–9&lt;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количество натуральных чисел, являющихся решением системы неравенст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,6–6х≤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+1≤25–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аких  значениях у  значения   двучлена 2y–5 принадлежат промежутку (–1;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Левая фигурная скобка 3"/>
          <p:cNvSpPr/>
          <p:nvPr/>
        </p:nvSpPr>
        <p:spPr>
          <a:xfrm>
            <a:off x="2308320" y="3629160"/>
            <a:ext cx="299880" cy="957240"/>
          </a:xfrm>
          <a:custGeom>
            <a:avLst/>
            <a:gdLst>
              <a:gd name="textAreaLeft" fmla="*/ 191520 w 299880"/>
              <a:gd name="textAreaRight" fmla="*/ 300240 w 299880"/>
              <a:gd name="textAreaTop" fmla="*/ 7560 h 957240"/>
              <a:gd name="textAreaBottom" fmla="*/ 94968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2"/>
                  <a:pt x="10800" y="564"/>
                </a:cubicBezTo>
                <a:lnTo>
                  <a:pt x="10800" y="10236"/>
                </a:lnTo>
                <a:cubicBezTo>
                  <a:pt x="10800" y="10518"/>
                  <a:pt x="5400" y="10800"/>
                  <a:pt x="0" y="10800"/>
                </a:cubicBezTo>
                <a:cubicBezTo>
                  <a:pt x="5400" y="10800"/>
                  <a:pt x="10800" y="11082"/>
                  <a:pt x="10800" y="11364"/>
                </a:cubicBezTo>
                <a:lnTo>
                  <a:pt x="10800" y="21036"/>
                </a:lnTo>
                <a:cubicBezTo>
                  <a:pt x="10800" y="21318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201600" y="360360"/>
            <a:ext cx="74502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198108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4+12х&gt;7+13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2-3х)+4(6+х)&g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7-4х&lt;6х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4-5х)+2(3+х)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х+4≤4х+6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5≤4-2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х+3≤6х+7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1≤5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&lt;2-5х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&lt;1-3х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2" name="Левая фигурная скобка 10"/>
          <p:cNvSpPr/>
          <p:nvPr/>
        </p:nvSpPr>
        <p:spPr>
          <a:xfrm>
            <a:off x="378000" y="4630680"/>
            <a:ext cx="183960" cy="623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4680 h 623880"/>
              <a:gd name="textAreaBottom" fmla="*/ 619200 h 6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"/>
                  <a:pt x="10800" y="531"/>
                </a:cubicBezTo>
                <a:lnTo>
                  <a:pt x="10800" y="10269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6"/>
                  <a:pt x="10800" y="11331"/>
                </a:cubicBezTo>
                <a:lnTo>
                  <a:pt x="10800" y="21069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13"/>
          <p:cNvSpPr/>
          <p:nvPr/>
        </p:nvSpPr>
        <p:spPr>
          <a:xfrm>
            <a:off x="4500720" y="4643280"/>
            <a:ext cx="101520" cy="59544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595440"/>
              <a:gd name="textAreaBottom" fmla="*/ 59292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1893960"/>
          <a:ext cx="8156520" cy="4964040"/>
        </p:xfrm>
        <a:graphic>
          <a:graphicData uri="http://schemas.openxmlformats.org/drawingml/2006/table">
            <a:tbl>
              <a:tblPr/>
              <a:tblGrid>
                <a:gridCol w="4078440"/>
                <a:gridCol w="407808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а)(-∞;-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 а) (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∞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2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4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4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/3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DNA7 X86</cp:lastModifiedBy>
  <dcterms:modified xsi:type="dcterms:W3CDTF">2015-01-05T20:40:23Z</dcterms:modified>
  <cp:revision>45</cp:revision>
  <dc:subject/>
  <dc:title>Слайд 1</dc:title>
</cp:coreProperties>
</file>