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106B-5696-4D58-B7F0-291BDD89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1BE4-1036-43D1-98C0-73F5BD08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A334-0B94-4928-9FA9-994AF755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A8AD-C9D8-4213-97CC-5702FBF2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EC1D-961E-48FD-A657-92E18F42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5C53-AF22-443F-8545-1F75AADB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21C8-543C-4129-B6C2-1DEEF6D1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366F-AC21-4CC4-B587-8FDCE2A8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EF66-DD31-493B-A2E8-DB14E826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0CBD-8BA9-4CE0-8BC0-FCAAAA3E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DEC9-0AE0-4F18-B4B7-2C91A6FF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7513-58C0-46E2-B889-958775E1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AC95-5259-4219-8659-15DF963C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0D94-A6FA-4024-9A0D-4D58A2BA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2E23-9519-433F-80A4-442781FD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69E7-BC27-4EF2-9DBD-CBC44DEB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E93B-3AAA-4950-B423-EB0A41F7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4F06D-7AC2-4DC8-8F43-12B6EE5A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DDAAC-7A5B-4090-8EC8-C60B34BF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F42F4-CDC2-4C1A-A11D-F55A28FA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57C86-4DB6-408D-A740-5DAAAB3A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39431-5E59-4047-AFFC-789CB45A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07B5-1AFD-4289-AC66-73F4DDDC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6A68B-7570-4967-8276-28927CC6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5536B-32A5-4CA8-9DAA-AD5B3A3A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38892-1BD1-4B3D-8976-37D430BB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F7C36-F77C-41BC-A278-439392C0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B3327-96D8-4D66-81A2-B221B218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3EF97-74C8-477F-873F-0EA628F6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E4F32-9642-4BEA-919C-4B273457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30EA8-4201-4D58-8563-5D5379AE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D2E86-22B0-4530-B4BB-1C1DCC0C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89EE2-9019-488F-B017-4C53F5C6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3507-DC36-4822-AA71-F0A5907D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DFA47-C083-4A7D-9039-E3A57DFF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0F0F1-36FA-47D2-9500-C55875FF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16F77-C972-43B6-BFED-2CFDA1D2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BFF94-8854-45EF-AB8C-93D27DB2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A3777-C6E4-4FB5-B7EA-B919F3BE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5744B-A0EB-47FF-9301-4758746D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C5803-A1A5-4C57-A0A4-0B96E2E3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73D4C-8400-47E1-B539-876CE0623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831C5-9203-4C6A-B724-617A7C16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6BA91-13D0-4D72-BF61-3E9BCAC8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C25E-3AFF-4419-9588-A8BA16AE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FE65C-D093-4EE1-B765-9893A4C5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E6929-A0BA-4647-9D7D-A1FC49D5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E5016-DC4C-405F-B4D2-EDD17F61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9D859-7AF5-4316-BBE7-DE307F21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DD26D-6307-46DD-B65A-DF01BA51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37A99-6BD3-42F3-B5F3-E7C2F09A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485CA-BA96-479C-86B7-331BFF7D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E0263-44DE-45F8-896D-33484807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2864C-8758-4134-BBD1-598514C2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39EBB-9CF9-48CA-973A-F5453A22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8BF2-FAC2-49EF-8FD5-FAB076FE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7C708-929A-43F8-B027-B116C53D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DF612-BC45-4FAF-AE26-B92A51B6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041D1-2556-4AA5-B74D-6B4ED932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BF3F7-F0E5-401F-BC3E-AC34F17D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84929-8049-4676-BEFE-C83439DD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4DE53-8B41-478C-ADF5-1F811EBF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9F13E-E4E2-4391-A95F-B9D4DCB6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54EAA-00A4-4C9B-8D3A-359BAB7C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EF265-5182-46D3-A8A2-32E628EC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CFFC3-2BEA-4CCC-9DD0-704B4943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E1A8-280C-4F04-8ECE-46441F48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D1A2E-2BC1-438E-B2A5-90B4F5C9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2F881-D22E-4CE4-8FD5-1DA77F6F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68CFB-7B88-40D4-BEA0-BAB3B265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CBEB-F9ED-4175-A2FC-2A8530DA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3328-DDBE-4929-AA97-582F06D5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867A-C6CC-4B65-A2EC-07162C9940EF}" type="slidenum">
              <a:rPr b="0" lang="ru-RU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7D89-18A8-4E09-BC3B-4E7615D767F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7DBF-DBA6-4A14-89FF-66B3E1FC7673}" type="slidenum">
              <a:rPr b="0" lang="ru-RU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D5DD-0B84-4142-985D-B11C4EED054A}" type="slidenum">
              <a:rPr b="0" lang="ru-RU" sz="11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A936-6E17-4033-B949-1B5091DE5140}" type="slidenum">
              <a:rPr b="0" lang="ru-RU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A64D-B97C-4184-8D93-0E5E6C97C4B9}" type="slidenum">
              <a:rPr b="0" lang="ru-RU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1365120" y="5479920"/>
            <a:ext cx="7875720" cy="13845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270080" y="812880"/>
            <a:ext cx="6400800" cy="3222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ешение линейных неравенств с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дной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переменной и их систем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57200" y="7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228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c6c6c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6c6c6c"/>
                </a:solidFill>
                <a:latin typeface="Times New Roman"/>
              </a:rPr>
              <a:t>Домашнее задание</a:t>
            </a:r>
            <a:endParaRPr b="0" lang="en-US" sz="4800" spc="-1" strike="noStrike">
              <a:solidFill>
                <a:srgbClr val="6c6c6c"/>
              </a:solidFill>
              <a:latin typeface="Times New Roman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886 (а, б), 894(а, б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Содержимое 1" descr=""/>
          <p:cNvPicPr/>
          <p:nvPr/>
        </p:nvPicPr>
        <p:blipFill>
          <a:blip r:embed="rId1"/>
          <a:stretch/>
        </p:blipFill>
        <p:spPr>
          <a:xfrm>
            <a:off x="-12600" y="-12600"/>
            <a:ext cx="819288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225360" y="317520"/>
            <a:ext cx="748044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такое «неравенство с одной переменной»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значит решить неравенств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осильные неравенства - это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 системы неравенств с одной переменной – это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значит решить систему неравенст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йства равносильности, используемые при решении   систем линейных неравенств с одной перемен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407440" cy="11588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но ли утверждение: если х&gt;2 и y&gt;14, то х+y&gt;1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но ли утверждение: если х&gt;2 и y&gt;14, то х·y&lt; 28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ется ли число 0 решением неравенства 3х–1&lt;1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ется ли неравенство 3х+12&gt;2х–2 строги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ществует  ли целое  число, принадлежащее промежутку [–2,5;–2,3]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но ли, что при умножении или делении обеих частей неравенства на отрицательное число, знак неравенства не меняет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682560" y="920880"/>
            <a:ext cx="8010720" cy="8524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942480" y="1944720"/>
            <a:ext cx="6829560" cy="390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1.Да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2.Нет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3.Да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4.Да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5.Нет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6.Нет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7480440" cy="12430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равенству –3х≤–45 соответствует числовой  промежуто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(–∞;15)     б)[15;+∞)   в)(–∞;15]      г) (15;+∞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Укажите наибольшее и наименьшее целое число, принадлежащее  промежутк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(–4;12)                                 Б)[–4;0,8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Решить систему неравенст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х–10&gt;1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х–5&gt;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Левая фигурная скобка 4"/>
          <p:cNvSpPr/>
          <p:nvPr/>
        </p:nvSpPr>
        <p:spPr>
          <a:xfrm>
            <a:off x="812880" y="4572000"/>
            <a:ext cx="333360" cy="928800"/>
          </a:xfrm>
          <a:custGeom>
            <a:avLst/>
            <a:gdLst>
              <a:gd name="textAreaLeft" fmla="*/ 213120 w 333360"/>
              <a:gd name="textAreaRight" fmla="*/ 333720 w 333360"/>
              <a:gd name="textAreaTop" fmla="*/ 8640 h 928800"/>
              <a:gd name="textAreaBottom" fmla="*/ 92016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3"/>
                  <a:pt x="10800" y="646"/>
                </a:cubicBezTo>
                <a:lnTo>
                  <a:pt x="10800" y="10154"/>
                </a:lnTo>
                <a:cubicBezTo>
                  <a:pt x="10800" y="10477"/>
                  <a:pt x="5400" y="10800"/>
                  <a:pt x="0" y="10800"/>
                </a:cubicBezTo>
                <a:cubicBezTo>
                  <a:pt x="5400" y="10800"/>
                  <a:pt x="10800" y="11123"/>
                  <a:pt x="10800" y="11446"/>
                </a:cubicBezTo>
                <a:lnTo>
                  <a:pt x="10800" y="20954"/>
                </a:lnTo>
                <a:cubicBezTo>
                  <a:pt x="10800" y="21277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122400" y="281160"/>
            <a:ext cx="8467560" cy="11570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.  [15;+∞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)наибольшее  11; наименьшее  -3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)наибольшее 0; наименьшее  -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 (5;+∞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7480440" cy="12430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ите двойное неравенство (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ассмотреть 2 способа реш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&lt;х–9&lt;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количество натуральных чисел, являющихся решением системы неравенств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,6–6х≤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х+1≤25–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каких  значениях у  значения   двучлена 2y–5 принадлежат промежутку (–1;1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Левая фигурная скобка 3"/>
          <p:cNvSpPr/>
          <p:nvPr/>
        </p:nvSpPr>
        <p:spPr>
          <a:xfrm>
            <a:off x="2308320" y="3629160"/>
            <a:ext cx="299880" cy="957240"/>
          </a:xfrm>
          <a:custGeom>
            <a:avLst/>
            <a:gdLst>
              <a:gd name="textAreaLeft" fmla="*/ 191520 w 299880"/>
              <a:gd name="textAreaRight" fmla="*/ 300240 w 299880"/>
              <a:gd name="textAreaTop" fmla="*/ 7560 h 957240"/>
              <a:gd name="textAreaBottom" fmla="*/ 949680 h 95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2"/>
                  <a:pt x="10800" y="564"/>
                </a:cubicBezTo>
                <a:lnTo>
                  <a:pt x="10800" y="10236"/>
                </a:lnTo>
                <a:cubicBezTo>
                  <a:pt x="10800" y="10518"/>
                  <a:pt x="5400" y="10800"/>
                  <a:pt x="0" y="10800"/>
                </a:cubicBezTo>
                <a:cubicBezTo>
                  <a:pt x="5400" y="10800"/>
                  <a:pt x="10800" y="11082"/>
                  <a:pt x="10800" y="11364"/>
                </a:cubicBezTo>
                <a:lnTo>
                  <a:pt x="10800" y="21036"/>
                </a:lnTo>
                <a:cubicBezTo>
                  <a:pt x="10800" y="21318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-201600" y="360360"/>
            <a:ext cx="74502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"/>
          <p:cNvGraphicFramePr/>
          <p:nvPr/>
        </p:nvGraphicFramePr>
        <p:xfrm>
          <a:off x="0" y="1981080"/>
          <a:ext cx="8229600" cy="4876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398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922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)Решите неравенств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)4+12х&gt;7+13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)-(2-3х)+4(6+х)&gt;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)Решите неравенств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)7-4х&lt;6х-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)-(4-5х)+2(3+х)&lt;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94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)Решите систему неравенств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х+4≤4х+6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-5≤4-2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)Решите систему неравенств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х+3≤6х+7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-1≤5-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508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)Решите двойное неравенст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2 способа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3&lt;2-5х&lt;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)Решите двойное неравенст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2 способа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&lt;1-3х&lt;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82" name="Левая фигурная скобка 10"/>
          <p:cNvSpPr/>
          <p:nvPr/>
        </p:nvSpPr>
        <p:spPr>
          <a:xfrm>
            <a:off x="378000" y="4630680"/>
            <a:ext cx="183960" cy="623880"/>
          </a:xfrm>
          <a:custGeom>
            <a:avLst/>
            <a:gdLst>
              <a:gd name="textAreaLeft" fmla="*/ 117720 w 183960"/>
              <a:gd name="textAreaRight" fmla="*/ 184320 w 183960"/>
              <a:gd name="textAreaTop" fmla="*/ 4680 h 623880"/>
              <a:gd name="textAreaBottom" fmla="*/ 619200 h 6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6"/>
                  <a:pt x="10800" y="531"/>
                </a:cubicBezTo>
                <a:lnTo>
                  <a:pt x="10800" y="10269"/>
                </a:lnTo>
                <a:cubicBezTo>
                  <a:pt x="10800" y="10535"/>
                  <a:pt x="5400" y="10800"/>
                  <a:pt x="0" y="10800"/>
                </a:cubicBezTo>
                <a:cubicBezTo>
                  <a:pt x="5400" y="10800"/>
                  <a:pt x="10800" y="11066"/>
                  <a:pt x="10800" y="11331"/>
                </a:cubicBezTo>
                <a:lnTo>
                  <a:pt x="10800" y="21069"/>
                </a:lnTo>
                <a:cubicBezTo>
                  <a:pt x="10800" y="21335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Левая фигурная скобка 13"/>
          <p:cNvSpPr/>
          <p:nvPr/>
        </p:nvSpPr>
        <p:spPr>
          <a:xfrm>
            <a:off x="4500720" y="4643280"/>
            <a:ext cx="101520" cy="595440"/>
          </a:xfrm>
          <a:custGeom>
            <a:avLst/>
            <a:gdLst>
              <a:gd name="textAreaLeft" fmla="*/ 64800 w 101520"/>
              <a:gd name="textAreaRight" fmla="*/ 101880 w 101520"/>
              <a:gd name="textAreaTop" fmla="*/ 2520 h 595440"/>
              <a:gd name="textAreaBottom" fmla="*/ 592920 h 59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4"/>
                  <a:pt x="10800" y="307"/>
                </a:cubicBezTo>
                <a:lnTo>
                  <a:pt x="10800" y="10493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4"/>
                  <a:pt x="10800" y="11107"/>
                </a:cubicBezTo>
                <a:lnTo>
                  <a:pt x="10800" y="21293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81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0" y="1893960"/>
          <a:ext cx="8156520" cy="4964040"/>
        </p:xfrm>
        <a:graphic>
          <a:graphicData uri="http://schemas.openxmlformats.org/drawingml/2006/table">
            <a:tbl>
              <a:tblPr/>
              <a:tblGrid>
                <a:gridCol w="4078440"/>
                <a:gridCol w="4078080"/>
              </a:tblGrid>
              <a:tr h="11271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794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       а)(-∞;-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)(-3;+∞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        а) (3;+∞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)(-∞;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[-2;3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[-4;3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794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,4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1/3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2:19:40Z</dcterms:created>
  <dc:creator>Кружок</dc:creator>
  <dc:description/>
  <dc:language>en-US</dc:language>
  <cp:lastModifiedBy>DNA7 X86</cp:lastModifiedBy>
  <dcterms:modified xsi:type="dcterms:W3CDTF">2015-01-05T20:40:23Z</dcterms:modified>
  <cp:revision>45</cp:revision>
  <dc:subject/>
  <dc:title>Слайд 1</dc:title>
</cp:coreProperties>
</file>