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6.jpeg" ContentType="image/jpeg"/>
  <Override PartName="/ppt/media/image21.gif" ContentType="image/gif"/>
  <Override PartName="/ppt/media/image19.gif" ContentType="image/gif"/>
  <Override PartName="/ppt/media/image1.png" ContentType="image/png"/>
  <Override PartName="/ppt/media/image3.jpeg" ContentType="image/jpeg"/>
  <Override PartName="/ppt/media/image22.gif" ContentType="image/gi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BE798-8D74-4360-AE5A-C7D00944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DF97D-708F-4D6D-AA45-7456B299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0B5E7-1130-45EC-8B80-BEDCBDB3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ABEDF-F01B-4053-8996-76B2D788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2A14-536E-4901-B75B-344766F7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27CB-B9FA-42CF-AD7F-B55120BB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FF8C-292B-4C48-899E-2DC24C95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89FE-7068-4C5C-BD93-2823C362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DD72-E807-483D-A3CC-722954EE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0A4B-F162-4220-949C-D2E76F27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C36A-673D-4D15-9911-728305D8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4A85B-56AE-427E-9036-3A3A21ED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5BB4-5D34-4036-B92E-44092A9E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0D52-56B3-4798-8D8A-0537CAFD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59A9-412F-409E-A697-B7BFBCE5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B882-1D53-471E-9FA7-A6D4E96B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D28D-D111-40CB-8B73-CF3933BD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20E0E-65CE-4A2F-B3FF-D6C713FE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56115-E00F-4C82-A80C-DDC9B738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3A4D6-5726-4752-ABD4-63CFBF2F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59DA3-D8D4-4FE8-B608-606DD7DF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C89B9-7F4A-471C-9DE7-AF80095C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BCB4E-9ED5-4D23-832C-E30E61CF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0BF72-A454-40DE-83CD-D2F1E2F0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2BB9-8540-459B-A2A3-324A2C620FE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0F4F-3287-4314-8BF4-982894D6E91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килограммов варенья было сварено одной из жительниц Когалыма, если она заготовила 20  литровых бан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ыберите 1-2 из предложений и закончите и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годня я узнал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ыло труд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понял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научи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ыло интересно узнать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ня удивил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е захотелось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&amp;Ncy;&amp;acy;&amp;dcy;&amp;ocy; &amp;rcy;&amp;acy;&amp;scy;&amp;kcy;&amp;icy;&amp;ncy;&amp;ucy;&amp;tcy;&amp;softcy; &amp;mcy;&amp;ocy;&amp;zcy;&amp;gcy;&amp;acy;&amp;mcy;&amp;icy;. &amp;Scy;&amp;mcy;&amp;acy;&amp;jcy;&amp;lcy;&amp;icy;&amp;kcy; &amp;dcy;&amp;ucy;&amp;mcy;&amp;acy;&amp;iecy;&amp;tcy;"/>
          <p:cNvPicPr/>
          <p:nvPr/>
        </p:nvPicPr>
        <p:blipFill>
          <a:blip r:embed="rId1"/>
          <a:stretch/>
        </p:blipFill>
        <p:spPr>
          <a:xfrm>
            <a:off x="7162920" y="5181480"/>
            <a:ext cx="961920" cy="9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894760"/>
            <a:ext cx="35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ить §21-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467480" y="838080"/>
            <a:ext cx="1000080" cy="762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3520" y="5410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04920" y="380880"/>
            <a:ext cx="1380960" cy="16671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2" descr="568698596.gif"/>
          <p:cNvPicPr/>
          <p:nvPr/>
        </p:nvPicPr>
        <p:blipFill>
          <a:blip r:embed="rId4"/>
          <a:stretch/>
        </p:blipFill>
        <p:spPr>
          <a:xfrm>
            <a:off x="6553080" y="41148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&amp;Scy;&amp;mcy;&amp;acy;&amp;jcy;&amp;lcy;&amp;icy;&amp;kcy; &amp;Bcy;&amp;acy;&amp;bcy;&amp;ocy;&amp;chcy;&amp;kcy;&amp;acy; &amp;ncy;&amp;iecy;&amp;ocy;&amp;bcy;&amp;ycy;&amp;chcy;&amp;ncy;&amp;ocy;&amp;jcy; &amp;ocy;&amp;kcy;&amp;rcy;&amp;acy;&amp;scy;&amp;kcy;&amp;icy; &amp;acy;&amp;vcy;&amp;acy;&amp;tcy;&amp;acy;&amp;rcy;"/>
          <p:cNvPicPr/>
          <p:nvPr/>
        </p:nvPicPr>
        <p:blipFill>
          <a:blip r:embed="rId1"/>
          <a:stretch/>
        </p:blipFill>
        <p:spPr>
          <a:xfrm>
            <a:off x="457200" y="304920"/>
            <a:ext cx="1133640" cy="1066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315200" y="502920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2971800" cy="4876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038480" y="0"/>
            <a:ext cx="4572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антовый мост через Об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47920" y="1698480"/>
            <a:ext cx="617220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3880" y="4038480"/>
            <a:ext cx="5105520" cy="2262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24280" y="533520"/>
            <a:ext cx="4172040" cy="3130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85800" y="91440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724280" y="533520"/>
            <a:ext cx="417204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аром может перевезти груз массой 5000 кг. Контейнер с грузом имеет параметры длина 2 м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диусом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,4 м. Сможет ли паром перевезти шесть таких контейнеров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8991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колько 10 литровых бочек потребуется для транспортировки 81 кг ме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04920" y="4038480"/>
            <a:ext cx="3047760" cy="2035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638680" y="4419720"/>
            <a:ext cx="312444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868680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9T18:03:56Z</dcterms:created>
  <dc:creator>GiGA</dc:creator>
  <dc:description/>
  <dc:language>en-US</dc:language>
  <cp:lastModifiedBy>GiGA</cp:lastModifiedBy>
  <dcterms:modified xsi:type="dcterms:W3CDTF">2019-12-08T12:38:51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