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A68-C83A-4727-80D9-7AED908D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1DC-5C68-41E1-81D8-27BE88DE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B3BC-4B0A-4707-9C55-4B5748A4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462-C5E0-4976-9BF3-84503D72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482A-2153-480D-B0E0-1E282A04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B81F-5A2D-4B2A-ABCA-3C0E45D2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1F6-E9DD-4D62-8988-464605FF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EC3-9388-4F1D-84AA-C3C67E7E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E7C-C56E-4E75-AE0E-0A19F43E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66B-3E8C-410A-BB82-998DFC7C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8A11-796F-47F5-95F6-EC1AD639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FCC-0CC7-4E5A-8BE0-9AE62C7C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F219-6651-4B9F-B567-712A9EB637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371600" y="1828800"/>
            <a:ext cx="5257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1143000" y="1600200"/>
            <a:ext cx="5105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Monotype Corsiva"/>
              </a:rPr>
              <a:t>«Специфика обучения и воспитания детей в логопедической группе. Роль семьи в преодолении дефектов реч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5486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Логопедия» - от греч. «логос» (речь, слово), «пайдео» (воспитываю, обучаю)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Воспитание речи»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правления работы с деть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5105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47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равильного звукопроизноше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7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артикуляционных движен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7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й органов речи (губ, щек, язык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7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фонематических процессов, т.е. умения различать на слух звуки речи, слоги, слова в речи, схожие по звучанию, артикуля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7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грамматического строя реч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7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, активизация словарного запаса реч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7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елкой моторики рук, т.е. движений пальчиков (учеными доказано, что развитие мелких движений пальчиков взаимосвязано с развитием речевых зон головного мозга); подготовка руки к письму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7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вязной речи, подразумевающее  умение составлять рассказы, пересказывать тексты, рассказывать стихотворения, загадки, пословиц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47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просодической стороны речи, включающее выработку дикции, выразительности речи, правильного дыхания, работу над правильным ударением, темпом ре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86200" y="2438280"/>
            <a:ext cx="4572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77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Общее недоразвитие речи – это речевое расстройство, при котором у детей нарушается формирование разных компонентов речи: звукопроизношение, словарный запас, грамматический строй, связная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63136665_5f8350820dd8"/>
          <p:cNvPicPr/>
          <p:nvPr/>
        </p:nvPicPr>
        <p:blipFill>
          <a:blip r:embed="rId2"/>
          <a:stretch/>
        </p:blipFill>
        <p:spPr>
          <a:xfrm>
            <a:off x="-152280" y="1676520"/>
            <a:ext cx="4343400" cy="28764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оль семьи, родителей в преодолении речевых нарушений у де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угать ребенка за неправильную реч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вязчиво исправлять неправильное произнош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острять внимание на запинках и повторах слогов и сл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позитивный настрой ребенка на занятия с педагог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авила работы в домашних тетрадя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ди забираются на выходные, возвращаются в понедельни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а развитие мелкой моторики рук (рисование, штриховка и пр.) выполняются карандаш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речевой материал должен быть отработан, т.е. родители должны добиваться правильного и четкого выполнения ребенком задания, даже путем заучи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должны быть прочитаны ребе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адания выполняются до ко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8188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Плюсы посещения логопедической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рекция звукопроиз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грамотной, выразительно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мелкой моторики рук, подготовка руки к письму в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иленная подготовка к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ершенствование психических процессов восприятия, внимания, памяти, воображения и мыш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1828800" y="1828800"/>
            <a:ext cx="3886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Monotype Corsiva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6:26:53Z</dcterms:created>
  <dc:creator>GRAF</dc:creator>
  <dc:description/>
  <dc:language>en-US</dc:language>
  <cp:lastModifiedBy>User</cp:lastModifiedBy>
  <dcterms:modified xsi:type="dcterms:W3CDTF">2019-10-20T20:44:1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