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65E-0BBC-4CD8-8F1F-6CD4FD8C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152-8043-402C-9F63-322FA925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913-6DFB-452B-9CE9-A0CE5BF3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DB6-5933-46D1-96D9-9CF84F6F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166-519A-4379-9B8C-2302266B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1F2-9250-4A74-B8E5-C5C9CFEF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176-0CBF-482F-8AE5-25CBDBD2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8FC-A9D0-4C97-ADD9-74CF642E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3CE-D817-42ED-BF9D-34A6A10E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863-DC58-4E6D-83F6-588662FA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7EB-BD97-405F-9DDD-BC4C5F0E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C3F-57F6-4B99-85EA-1E53664D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4B54-F8BB-48ED-B1C4-350415E0A4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одительское собрание в первой группе раннего возраста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Итоги адаптации детей к детскому саду. Возрастные особенности детей 2-3 ле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ношения со взрослы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новые 010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фото 2017 013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се и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раз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фото 2017 022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новые 013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43164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хочу в детский сад!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чет громко В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Не хочу в детский сад!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чет громко сн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Не хочу в детский сад!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омко он рыд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ё равно его т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а оставля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т неделя прошл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том друг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опять, и опя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льчик тот рыд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Не хочу я домой!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понять таког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юбил детский с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чень мальчик В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3" descr="нужные 004"/>
          <p:cNvPicPr/>
          <p:nvPr/>
        </p:nvPicPr>
        <p:blipFill>
          <a:blip r:embed="rId1"/>
          <a:stretch/>
        </p:blipFill>
        <p:spPr>
          <a:xfrm>
            <a:off x="3635280" y="2133720"/>
            <a:ext cx="55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юбви и терпения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новые 009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403848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ли ребенка в сад 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ма рада, папа рад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мешает им ник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лать это, делать 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жно спать до десят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прогулку не идт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ж забыть на видном мест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пить кофе граммов двест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жно, не в ущерб хвосту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антресолей слезть коту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жно час болтать с подружко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жно печь полдня ватруш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жно поваляться в ванно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ли с книжкой на диване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жно – что б мне помереть! 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левизор посмотреть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базар сходить за сыро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убрать всю-всю квартиру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Это и с ребенком можн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лько очень, очень сложно)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ас прошел, и два, и тр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-то тягостно внутр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з бутуза в доме пуст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з бутуза в доме грустн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у-ка, папа, быстро в сад 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звращай дитё назад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… И опять дрожит весь до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втра снова поведе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Уровни приспособления организ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ологическ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– ребёнок начинает часто боле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сихологическ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– ребёнок может капризничать, плохо есть и спать, он мож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ть агрессивным или подавленным, много плака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циаль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– ребёнок «теряется» в окружающем мире, становится менее самостояте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Длительность периода адапт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ёгк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– около месяца требуется ребёнку, чтобы приспособиться к новым условия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едня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– ребёнок приспосабливается за два месяц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яжёл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– ребёнок приспосабливается за три месяц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чень тяжёл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– около полугода и бол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вигательная акти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фото 2017 050"/>
          <p:cNvPicPr/>
          <p:nvPr/>
        </p:nvPicPr>
        <p:blipFill>
          <a:blip r:embed="rId1"/>
          <a:stretch/>
        </p:blipFill>
        <p:spPr>
          <a:xfrm>
            <a:off x="468360" y="134136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фото 2017 049"/>
          <p:cNvPicPr/>
          <p:nvPr/>
        </p:nvPicPr>
        <p:blipFill>
          <a:blip r:embed="rId1"/>
          <a:stretch/>
        </p:blipFill>
        <p:spPr>
          <a:xfrm>
            <a:off x="684360" y="400536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фото 2017 075"/>
          <p:cNvPicPr/>
          <p:nvPr/>
        </p:nvPicPr>
        <p:blipFill>
          <a:blip r:embed="rId2"/>
          <a:stretch/>
        </p:blipFill>
        <p:spPr>
          <a:xfrm>
            <a:off x="755640" y="141300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новые 001"/>
          <p:cNvPicPr/>
          <p:nvPr/>
        </p:nvPicPr>
        <p:blipFill>
          <a:blip r:embed="rId3"/>
          <a:stretch/>
        </p:blipFill>
        <p:spPr>
          <a:xfrm>
            <a:off x="5435640" y="1413000"/>
            <a:ext cx="324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тие мелкой мото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фото 2017 021"/>
          <p:cNvPicPr/>
          <p:nvPr/>
        </p:nvPicPr>
        <p:blipFill>
          <a:blip r:embed="rId1"/>
          <a:stretch/>
        </p:blipFill>
        <p:spPr>
          <a:xfrm>
            <a:off x="0" y="1916280"/>
            <a:ext cx="4356000" cy="331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новые 015"/>
          <p:cNvPicPr/>
          <p:nvPr/>
        </p:nvPicPr>
        <p:blipFill>
          <a:blip r:embed="rId2"/>
          <a:stretch/>
        </p:blipFill>
        <p:spPr>
          <a:xfrm>
            <a:off x="4500720" y="1930320"/>
            <a:ext cx="464328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воение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фото 2017 024"/>
          <p:cNvPicPr/>
          <p:nvPr/>
        </p:nvPicPr>
        <p:blipFill>
          <a:blip r:embed="rId1"/>
          <a:stretch/>
        </p:blipFill>
        <p:spPr>
          <a:xfrm>
            <a:off x="179280" y="2060640"/>
            <a:ext cx="4316400" cy="2938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фото 2017 069"/>
          <p:cNvPicPr/>
          <p:nvPr/>
        </p:nvPicPr>
        <p:blipFill>
          <a:blip r:embed="rId2"/>
          <a:stretch/>
        </p:blipFill>
        <p:spPr>
          <a:xfrm>
            <a:off x="4500720" y="1125360"/>
            <a:ext cx="4462200" cy="280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новые 003"/>
          <p:cNvPicPr/>
          <p:nvPr/>
        </p:nvPicPr>
        <p:blipFill>
          <a:blip r:embed="rId3"/>
          <a:stretch/>
        </p:blipFill>
        <p:spPr>
          <a:xfrm>
            <a:off x="4500720" y="3933720"/>
            <a:ext cx="44654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ов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фото 2017 023"/>
          <p:cNvPicPr/>
          <p:nvPr/>
        </p:nvPicPr>
        <p:blipFill>
          <a:blip r:embed="rId1"/>
          <a:stretch/>
        </p:blipFill>
        <p:spPr>
          <a:xfrm>
            <a:off x="0" y="1300320"/>
            <a:ext cx="4419720" cy="248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фото 2017 020"/>
          <p:cNvPicPr/>
          <p:nvPr/>
        </p:nvPicPr>
        <p:blipFill>
          <a:blip r:embed="rId2"/>
          <a:stretch/>
        </p:blipFill>
        <p:spPr>
          <a:xfrm>
            <a:off x="4572000" y="1295280"/>
            <a:ext cx="4572000" cy="24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фото 2017 029"/>
          <p:cNvPicPr/>
          <p:nvPr/>
        </p:nvPicPr>
        <p:blipFill>
          <a:blip r:embed="rId3"/>
          <a:stretch/>
        </p:blipFill>
        <p:spPr>
          <a:xfrm>
            <a:off x="4643280" y="4005360"/>
            <a:ext cx="4500720" cy="2852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новые 012"/>
          <p:cNvPicPr/>
          <p:nvPr/>
        </p:nvPicPr>
        <p:blipFill>
          <a:blip r:embed="rId4"/>
          <a:stretch/>
        </p:blipFill>
        <p:spPr>
          <a:xfrm>
            <a:off x="0" y="4005360"/>
            <a:ext cx="4500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9T17:34:29Z</dcterms:created>
  <dc:creator>user</dc:creator>
  <dc:description/>
  <dc:language>en-US</dc:language>
  <cp:lastModifiedBy>OLGA</cp:lastModifiedBy>
  <dcterms:modified xsi:type="dcterms:W3CDTF">2019-12-08T14:34:41Z</dcterms:modified>
  <cp:revision>8</cp:revision>
  <dc:subject/>
  <dc:title>  Родительское собрание в первой группе раннего возраста     «Итоги адаптации детей к детскому саду. Возрастные особенности детей 2-3 лет»</dc:title>
</cp:coreProperties>
</file>