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AAA-3F8D-4995-B64E-6FB36D55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2CF-619B-4BA4-ADF6-3A0405C2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896-D848-49AF-8298-889601E3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5A7-C44E-438D-B965-EC563407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E24-F625-4608-A97F-3CDFF941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05D-E754-41CC-9F2F-531EF01A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DBC-748D-42FF-BAFF-FE300F04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98D-226A-4B8D-ABDF-6938DE5C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6BD-7581-4EA0-A040-A4F9BAD0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501-4C36-4D46-8AD8-57D862EE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F65-D1DF-447D-878E-1169A54F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485-BDE1-4422-BCF4-D79FC6E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2E4F-7440-41D8-B0F7-13CEC9689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вер, англ. –  небольшой сад, разбитый на городской площад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сквер1"/>
          <p:cNvPicPr/>
          <p:nvPr/>
        </p:nvPicPr>
        <p:blipFill>
          <a:blip r:embed="rId1"/>
          <a:stretch/>
        </p:blipFill>
        <p:spPr>
          <a:xfrm>
            <a:off x="1969920" y="19112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истема знаний, помогающих правильно изображать на плоском листе предметы, находящиеся в пространстве, так, как мы видим их в натуре, носит название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ЕРСПЕКТ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24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В начале работы над рисунком надо определить положение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ff"/>
                </a:solidFill>
                <a:uFillTx/>
                <a:latin typeface="Arial"/>
              </a:rPr>
              <a:t>Линия горизонта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всегда лежит на уровне глаз наблюд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Что такое точка сх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8360" y="1822320"/>
            <a:ext cx="40384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сквер2"/>
          <p:cNvPicPr/>
          <p:nvPr/>
        </p:nvPicPr>
        <p:blipFill>
          <a:blip r:embed="rId1"/>
          <a:stretch/>
        </p:blipFill>
        <p:spPr>
          <a:xfrm>
            <a:off x="755640" y="44604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сквер осенью"/>
          <p:cNvPicPr/>
          <p:nvPr/>
        </p:nvPicPr>
        <p:blipFill>
          <a:blip r:embed="rId1"/>
          <a:stretch/>
        </p:blipFill>
        <p:spPr>
          <a:xfrm>
            <a:off x="1523880" y="1190520"/>
            <a:ext cx="60962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сквер с фонтаном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сквер 3"/>
          <p:cNvPicPr/>
          <p:nvPr/>
        </p:nvPicPr>
        <p:blipFill>
          <a:blip r:embed="rId1"/>
          <a:stretch/>
        </p:blipFill>
        <p:spPr>
          <a:xfrm>
            <a:off x="1238400" y="976320"/>
            <a:ext cx="6667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ЛЬВА́Р (франц. boulevard,бастион, оплот) — аллея в городе или улица, обсаженная деревьями. Бульва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ычно возникали на месте крепостных стен или земляных укреп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бульвар"/>
          <p:cNvPicPr/>
          <p:nvPr/>
        </p:nvPicPr>
        <p:blipFill>
          <a:blip r:embed="rId1"/>
          <a:stretch/>
        </p:blipFill>
        <p:spPr>
          <a:xfrm>
            <a:off x="1486080" y="1600200"/>
            <a:ext cx="617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бульвар2"/>
          <p:cNvPicPr/>
          <p:nvPr/>
        </p:nvPicPr>
        <p:blipFill>
          <a:blip r:embed="rId1"/>
          <a:stretch/>
        </p:blipFill>
        <p:spPr>
          <a:xfrm>
            <a:off x="457200" y="433440"/>
            <a:ext cx="82296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5" descr="сквер2"/>
          <p:cNvPicPr/>
          <p:nvPr/>
        </p:nvPicPr>
        <p:blipFill>
          <a:blip r:embed="rId1"/>
          <a:stretch/>
        </p:blipFill>
        <p:spPr>
          <a:xfrm>
            <a:off x="395280" y="165240"/>
            <a:ext cx="820908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спект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перспектива"/>
          <p:cNvPicPr/>
          <p:nvPr/>
        </p:nvPicPr>
        <p:blipFill>
          <a:blip r:embed="rId1"/>
          <a:stretch/>
        </p:blipFill>
        <p:spPr>
          <a:xfrm>
            <a:off x="457200" y="2211480"/>
            <a:ext cx="4038480" cy="3303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Художники знают секреты рис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1) Рельсы сходятся в одной точке, хотя мы знаем, что они параллельны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2) Деревья или фигуры людей, стоящие вдали, кажутся нам ме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3) Постройки или лес вдали мы воспринимаем плоск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7:02:58Z</dcterms:created>
  <dc:creator>User</dc:creator>
  <dc:description/>
  <dc:language>en-US</dc:language>
  <cp:lastModifiedBy>Александр</cp:lastModifiedBy>
  <dcterms:modified xsi:type="dcterms:W3CDTF">2019-12-08T08:50:57Z</dcterms:modified>
  <cp:revision>5</cp:revision>
  <dc:subject/>
  <dc:title>Сквер, англ., небольшой сад, разбитый на городской площади.</dc:title>
</cp:coreProperties>
</file>