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685A-A25B-44C1-B388-1A1A332D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7503-BBF5-4151-A2CD-7F1F4526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AF6-B334-453D-B6D2-E1846BC1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4EB3-6D8C-4179-888E-C696367F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E5BA-EB47-4EDD-9457-AA9A19BF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ADB-F503-45F6-B22C-C51ACD69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B4F2-6590-4035-AD89-27B43802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413B-480C-4C47-B4E3-CD331A0E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B31E-641C-4B51-A3B2-1F335DC3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888-4B94-4E05-B08E-226DD892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CA2-1941-4AC4-8B6C-6646DDF1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63E5-BFFD-425D-A85A-91C1BBC8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41F0-5D1C-4304-A0BE-C0E829E7B8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вер, англ. –  небольшой сад, разбитый на городской площад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сквер1"/>
          <p:cNvPicPr/>
          <p:nvPr/>
        </p:nvPicPr>
        <p:blipFill>
          <a:blip r:embed="rId1"/>
          <a:stretch/>
        </p:blipFill>
        <p:spPr>
          <a:xfrm>
            <a:off x="1969920" y="1911240"/>
            <a:ext cx="5202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Система знаний, помогающих правильно изображать на плоском листе предметы, находящиеся в пространстве, так, как мы видим их в натуре, носит название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ПЕРСПЕКТИ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248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В начале работы над рисунком надо определить положение горизо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ff"/>
                </a:solidFill>
                <a:uFillTx/>
                <a:latin typeface="Arial"/>
              </a:rPr>
              <a:t>Линия горизонта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 всегда лежит на уровне глаз наблюда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Что такое точка сх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68360" y="1822320"/>
            <a:ext cx="40384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сквер2"/>
          <p:cNvPicPr/>
          <p:nvPr/>
        </p:nvPicPr>
        <p:blipFill>
          <a:blip r:embed="rId1"/>
          <a:stretch/>
        </p:blipFill>
        <p:spPr>
          <a:xfrm>
            <a:off x="755640" y="446040"/>
            <a:ext cx="7488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сквер осенью"/>
          <p:cNvPicPr/>
          <p:nvPr/>
        </p:nvPicPr>
        <p:blipFill>
          <a:blip r:embed="rId1"/>
          <a:stretch/>
        </p:blipFill>
        <p:spPr>
          <a:xfrm>
            <a:off x="1523880" y="1190520"/>
            <a:ext cx="609624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сквер с фонтаном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сквер 3"/>
          <p:cNvPicPr/>
          <p:nvPr/>
        </p:nvPicPr>
        <p:blipFill>
          <a:blip r:embed="rId1"/>
          <a:stretch/>
        </p:blipFill>
        <p:spPr>
          <a:xfrm>
            <a:off x="1238400" y="976320"/>
            <a:ext cx="66672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УЛЬВА́Р (франц. boulevard,бастион, оплот) — аллея в городе или улица, обсаженная деревьями. Бульвары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ычно возникали на месте крепостных стен или земляных укреп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бульвар"/>
          <p:cNvPicPr/>
          <p:nvPr/>
        </p:nvPicPr>
        <p:blipFill>
          <a:blip r:embed="rId1"/>
          <a:stretch/>
        </p:blipFill>
        <p:spPr>
          <a:xfrm>
            <a:off x="1486080" y="1600200"/>
            <a:ext cx="6172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бульвар2"/>
          <p:cNvPicPr/>
          <p:nvPr/>
        </p:nvPicPr>
        <p:blipFill>
          <a:blip r:embed="rId1"/>
          <a:stretch/>
        </p:blipFill>
        <p:spPr>
          <a:xfrm>
            <a:off x="457200" y="433440"/>
            <a:ext cx="822960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5" descr="сквер2"/>
          <p:cNvPicPr/>
          <p:nvPr/>
        </p:nvPicPr>
        <p:blipFill>
          <a:blip r:embed="rId1"/>
          <a:stretch/>
        </p:blipFill>
        <p:spPr>
          <a:xfrm>
            <a:off x="395280" y="165240"/>
            <a:ext cx="820908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спекти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перспектива"/>
          <p:cNvPicPr/>
          <p:nvPr/>
        </p:nvPicPr>
        <p:blipFill>
          <a:blip r:embed="rId1"/>
          <a:stretch/>
        </p:blipFill>
        <p:spPr>
          <a:xfrm>
            <a:off x="457200" y="2211480"/>
            <a:ext cx="4038480" cy="3303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Художники знают секреты рис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1) Рельсы сходятся в одной точке, хотя мы знаем, что они параллельны друг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2) Деревья или фигуры людей, стоящие вдали, кажутся нам мень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3) Постройки или лес вдали мы воспринимаем плоск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07:02:58Z</dcterms:created>
  <dc:creator>User</dc:creator>
  <dc:description/>
  <dc:language>en-US</dc:language>
  <cp:lastModifiedBy>Александр</cp:lastModifiedBy>
  <dcterms:modified xsi:type="dcterms:W3CDTF">2019-12-08T08:50:57Z</dcterms:modified>
  <cp:revision>5</cp:revision>
  <dc:subject/>
  <dc:title>Сквер, англ., небольшой сад, разбитый на городской площади.</dc:title>
</cp:coreProperties>
</file>