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700" spc="-1" strike="noStrike">
                <a:solidFill>
                  <a:srgbClr val="972f57"/>
                </a:solidFill>
                <a:latin typeface="Cambria"/>
              </a:rPr>
              <a:t>Click to move the slide</a:t>
            </a:r>
            <a:endParaRPr b="0" lang="en-US" sz="2700" spc="-1" strike="noStrike">
              <a:solidFill>
                <a:srgbClr val="972f57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F5600-D729-4C68-A1A8-9F45AB94348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26A11-69D8-4068-9AB8-E94278062F03}" type="slidenum">
              <a:rPr b="0" lang="ru-RU" sz="12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1E75-F04D-4D23-B943-77590156D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99920" y="456840"/>
            <a:ext cx="75438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700" spc="-1" strike="noStrike">
              <a:solidFill>
                <a:srgbClr val="972f57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99920" y="1904760"/>
            <a:ext cx="7543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99920" y="4133520"/>
            <a:ext cx="7543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0FBC-0B4C-4458-9CF4-B86EF2179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99920" y="456840"/>
            <a:ext cx="75438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700" spc="-1" strike="noStrike">
              <a:solidFill>
                <a:srgbClr val="972f57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99920" y="1904760"/>
            <a:ext cx="3681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600" y="1904760"/>
            <a:ext cx="3681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99920" y="4133520"/>
            <a:ext cx="3681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600" y="4133520"/>
            <a:ext cx="3681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607A-F8AF-43C6-939D-930E095CE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99920" y="456840"/>
            <a:ext cx="75438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700" spc="-1" strike="noStrike">
              <a:solidFill>
                <a:srgbClr val="972f57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99920" y="1904760"/>
            <a:ext cx="2428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50520" y="1904760"/>
            <a:ext cx="2428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01480" y="1904760"/>
            <a:ext cx="2428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99920" y="4133520"/>
            <a:ext cx="2428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50520" y="4133520"/>
            <a:ext cx="2428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01480" y="4133520"/>
            <a:ext cx="2428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5E46-98FC-4F22-9D56-F756707E3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99920" y="456840"/>
            <a:ext cx="75438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700" spc="-1" strike="noStrike">
              <a:solidFill>
                <a:srgbClr val="972f5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99920" y="190476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99920" y="456840"/>
            <a:ext cx="75438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700" spc="-1" strike="noStrike">
              <a:solidFill>
                <a:srgbClr val="972f57"/>
              </a:solidFill>
              <a:latin typeface="Cambr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99920" y="190476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99920" y="456840"/>
            <a:ext cx="75438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700" spc="-1" strike="noStrike">
              <a:solidFill>
                <a:srgbClr val="972f57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99920" y="1904760"/>
            <a:ext cx="3681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5600" y="1904760"/>
            <a:ext cx="3681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99920" y="456840"/>
            <a:ext cx="75438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700" spc="-1" strike="noStrike">
              <a:solidFill>
                <a:srgbClr val="972f57"/>
              </a:solidFill>
              <a:latin typeface="Cambri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99920" y="456840"/>
            <a:ext cx="754380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99920" y="456840"/>
            <a:ext cx="75438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700" spc="-1" strike="noStrike">
              <a:solidFill>
                <a:srgbClr val="972f57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99920" y="1904760"/>
            <a:ext cx="3681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600" y="1904760"/>
            <a:ext cx="3681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99920" y="4133520"/>
            <a:ext cx="3681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99920" y="456840"/>
            <a:ext cx="75438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700" spc="-1" strike="noStrike">
              <a:solidFill>
                <a:srgbClr val="972f57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99920" y="190476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5A9B-07E0-4825-8F59-F6522B3B2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99920" y="456840"/>
            <a:ext cx="75438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700" spc="-1" strike="noStrike">
              <a:solidFill>
                <a:srgbClr val="972f57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99920" y="1904760"/>
            <a:ext cx="3681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600" y="1904760"/>
            <a:ext cx="3681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5600" y="4133520"/>
            <a:ext cx="3681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99920" y="456840"/>
            <a:ext cx="75438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700" spc="-1" strike="noStrike">
              <a:solidFill>
                <a:srgbClr val="972f57"/>
              </a:solidFill>
              <a:latin typeface="Cambr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99920" y="1904760"/>
            <a:ext cx="3681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600" y="1904760"/>
            <a:ext cx="3681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99920" y="4133520"/>
            <a:ext cx="7543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99920" y="456840"/>
            <a:ext cx="75438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700" spc="-1" strike="noStrike">
              <a:solidFill>
                <a:srgbClr val="972f57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99920" y="1904760"/>
            <a:ext cx="7543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99920" y="4133520"/>
            <a:ext cx="7543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99920" y="456840"/>
            <a:ext cx="75438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700" spc="-1" strike="noStrike">
              <a:solidFill>
                <a:srgbClr val="972f57"/>
              </a:solidFill>
              <a:latin typeface="Cambr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99920" y="1904760"/>
            <a:ext cx="3681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600" y="1904760"/>
            <a:ext cx="3681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99920" y="4133520"/>
            <a:ext cx="3681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5600" y="4133520"/>
            <a:ext cx="3681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99920" y="456840"/>
            <a:ext cx="75438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700" spc="-1" strike="noStrike">
              <a:solidFill>
                <a:srgbClr val="972f57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99920" y="1904760"/>
            <a:ext cx="2428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50520" y="1904760"/>
            <a:ext cx="2428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01480" y="1904760"/>
            <a:ext cx="2428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99920" y="4133520"/>
            <a:ext cx="2428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50520" y="4133520"/>
            <a:ext cx="2428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01480" y="4133520"/>
            <a:ext cx="2428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99920" y="456840"/>
            <a:ext cx="75438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700" spc="-1" strike="noStrike">
              <a:solidFill>
                <a:srgbClr val="972f57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799920" y="190476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99920" y="456840"/>
            <a:ext cx="75438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700" spc="-1" strike="noStrike">
              <a:solidFill>
                <a:srgbClr val="972f57"/>
              </a:solidFill>
              <a:latin typeface="Cambr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99920" y="190476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99920" y="456840"/>
            <a:ext cx="75438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700" spc="-1" strike="noStrike">
              <a:solidFill>
                <a:srgbClr val="972f57"/>
              </a:solidFill>
              <a:latin typeface="Cambr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99920" y="1904760"/>
            <a:ext cx="3681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5600" y="1904760"/>
            <a:ext cx="3681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99920" y="456840"/>
            <a:ext cx="75438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700" spc="-1" strike="noStrike">
              <a:solidFill>
                <a:srgbClr val="972f57"/>
              </a:solidFill>
              <a:latin typeface="Cambr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99920" y="456840"/>
            <a:ext cx="75438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700" spc="-1" strike="noStrike">
              <a:solidFill>
                <a:srgbClr val="972f5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99920" y="190476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01C6-383B-4522-BFA7-FCFE53C94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799920" y="456840"/>
            <a:ext cx="754380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99920" y="456840"/>
            <a:ext cx="75438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700" spc="-1" strike="noStrike">
              <a:solidFill>
                <a:srgbClr val="972f57"/>
              </a:solidFill>
              <a:latin typeface="Cambr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99920" y="1904760"/>
            <a:ext cx="3681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5600" y="1904760"/>
            <a:ext cx="3681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799920" y="4133520"/>
            <a:ext cx="3681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99920" y="456840"/>
            <a:ext cx="75438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700" spc="-1" strike="noStrike">
              <a:solidFill>
                <a:srgbClr val="972f57"/>
              </a:solidFill>
              <a:latin typeface="Cambr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99920" y="1904760"/>
            <a:ext cx="3681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5600" y="1904760"/>
            <a:ext cx="3681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5600" y="4133520"/>
            <a:ext cx="3681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99920" y="456840"/>
            <a:ext cx="75438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700" spc="-1" strike="noStrike">
              <a:solidFill>
                <a:srgbClr val="972f57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99920" y="1904760"/>
            <a:ext cx="3681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5600" y="1904760"/>
            <a:ext cx="3681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799920" y="4133520"/>
            <a:ext cx="7543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99920" y="456840"/>
            <a:ext cx="75438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700" spc="-1" strike="noStrike">
              <a:solidFill>
                <a:srgbClr val="972f57"/>
              </a:solidFill>
              <a:latin typeface="Cambr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99920" y="1904760"/>
            <a:ext cx="7543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799920" y="4133520"/>
            <a:ext cx="7543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99920" y="456840"/>
            <a:ext cx="75438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700" spc="-1" strike="noStrike">
              <a:solidFill>
                <a:srgbClr val="972f57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99920" y="1904760"/>
            <a:ext cx="3681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600" y="1904760"/>
            <a:ext cx="3681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799920" y="4133520"/>
            <a:ext cx="3681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5600" y="4133520"/>
            <a:ext cx="3681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99920" y="456840"/>
            <a:ext cx="75438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700" spc="-1" strike="noStrike">
              <a:solidFill>
                <a:srgbClr val="972f57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99920" y="1904760"/>
            <a:ext cx="2428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50520" y="1904760"/>
            <a:ext cx="2428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01480" y="1904760"/>
            <a:ext cx="2428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799920" y="4133520"/>
            <a:ext cx="2428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50520" y="4133520"/>
            <a:ext cx="2428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01480" y="4133520"/>
            <a:ext cx="2428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99920" y="456840"/>
            <a:ext cx="75438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700" spc="-1" strike="noStrike">
              <a:solidFill>
                <a:srgbClr val="972f57"/>
              </a:solidFill>
              <a:latin typeface="Cambr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799920" y="190476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99920" y="456840"/>
            <a:ext cx="75438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700" spc="-1" strike="noStrike">
              <a:solidFill>
                <a:srgbClr val="972f57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99920" y="190476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99920" y="456840"/>
            <a:ext cx="75438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700" spc="-1" strike="noStrike">
              <a:solidFill>
                <a:srgbClr val="972f5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99920" y="1904760"/>
            <a:ext cx="3681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600" y="1904760"/>
            <a:ext cx="3681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05CD-451B-4A14-845F-733B9CBEF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99920" y="456840"/>
            <a:ext cx="75438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700" spc="-1" strike="noStrike">
              <a:solidFill>
                <a:srgbClr val="972f57"/>
              </a:solidFill>
              <a:latin typeface="Cambr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99920" y="1904760"/>
            <a:ext cx="3681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5600" y="1904760"/>
            <a:ext cx="3681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99920" y="456840"/>
            <a:ext cx="75438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700" spc="-1" strike="noStrike">
              <a:solidFill>
                <a:srgbClr val="972f57"/>
              </a:solidFill>
              <a:latin typeface="Cambri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799920" y="456840"/>
            <a:ext cx="754380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99920" y="456840"/>
            <a:ext cx="75438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700" spc="-1" strike="noStrike">
              <a:solidFill>
                <a:srgbClr val="972f57"/>
              </a:solidFill>
              <a:latin typeface="Cambr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99920" y="1904760"/>
            <a:ext cx="3681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5600" y="1904760"/>
            <a:ext cx="3681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799920" y="4133520"/>
            <a:ext cx="3681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99920" y="456840"/>
            <a:ext cx="75438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700" spc="-1" strike="noStrike">
              <a:solidFill>
                <a:srgbClr val="972f57"/>
              </a:solidFill>
              <a:latin typeface="Cambr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99920" y="1904760"/>
            <a:ext cx="3681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5600" y="1904760"/>
            <a:ext cx="3681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65600" y="4133520"/>
            <a:ext cx="3681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99920" y="456840"/>
            <a:ext cx="75438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700" spc="-1" strike="noStrike">
              <a:solidFill>
                <a:srgbClr val="972f57"/>
              </a:solidFill>
              <a:latin typeface="Cambr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99920" y="1904760"/>
            <a:ext cx="3681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5600" y="1904760"/>
            <a:ext cx="3681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799920" y="4133520"/>
            <a:ext cx="7543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99920" y="456840"/>
            <a:ext cx="75438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700" spc="-1" strike="noStrike">
              <a:solidFill>
                <a:srgbClr val="972f57"/>
              </a:solidFill>
              <a:latin typeface="Cambr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99920" y="1904760"/>
            <a:ext cx="7543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799920" y="4133520"/>
            <a:ext cx="7543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99920" y="456840"/>
            <a:ext cx="75438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700" spc="-1" strike="noStrike">
              <a:solidFill>
                <a:srgbClr val="972f57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99920" y="1904760"/>
            <a:ext cx="3681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5600" y="1904760"/>
            <a:ext cx="3681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99920" y="4133520"/>
            <a:ext cx="3681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65600" y="4133520"/>
            <a:ext cx="3681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99920" y="456840"/>
            <a:ext cx="75438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700" spc="-1" strike="noStrike">
              <a:solidFill>
                <a:srgbClr val="972f57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99920" y="1904760"/>
            <a:ext cx="2428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350520" y="1904760"/>
            <a:ext cx="2428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901480" y="1904760"/>
            <a:ext cx="2428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799920" y="4133520"/>
            <a:ext cx="2428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350520" y="4133520"/>
            <a:ext cx="2428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5901480" y="4133520"/>
            <a:ext cx="2428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99920" y="456840"/>
            <a:ext cx="75438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700" spc="-1" strike="noStrike">
              <a:solidFill>
                <a:srgbClr val="972f5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DC15-D4B8-4809-9D68-5431E5AF5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99920" y="456840"/>
            <a:ext cx="754380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1C8B-5234-4D84-9598-0FD262BF8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99920" y="456840"/>
            <a:ext cx="75438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700" spc="-1" strike="noStrike">
              <a:solidFill>
                <a:srgbClr val="972f57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99920" y="1904760"/>
            <a:ext cx="3681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600" y="1904760"/>
            <a:ext cx="3681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99920" y="4133520"/>
            <a:ext cx="3681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0E2D-7804-42E2-96D7-C96FDCCB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99920" y="456840"/>
            <a:ext cx="75438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700" spc="-1" strike="noStrike">
              <a:solidFill>
                <a:srgbClr val="972f57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99920" y="1904760"/>
            <a:ext cx="3681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600" y="1904760"/>
            <a:ext cx="3681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600" y="4133520"/>
            <a:ext cx="3681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9105-09B7-4B7D-905A-C2F55A1E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99920" y="456840"/>
            <a:ext cx="75438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700" spc="-1" strike="noStrike">
              <a:solidFill>
                <a:srgbClr val="972f57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99920" y="1904760"/>
            <a:ext cx="3681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600" y="1904760"/>
            <a:ext cx="3681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99920" y="4133520"/>
            <a:ext cx="7543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1A95-CDA5-4EBF-969E-02D5797C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99920" y="456840"/>
            <a:ext cx="75438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700" spc="-1" strike="noStrike">
                <a:solidFill>
                  <a:srgbClr val="972f57"/>
                </a:solidFill>
                <a:latin typeface="Cambria"/>
              </a:rPr>
              <a:t>Click to edit the title text format</a:t>
            </a:r>
            <a:endParaRPr b="0" lang="en-US" sz="2700" spc="-1" strike="noStrike">
              <a:solidFill>
                <a:srgbClr val="972f5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99920" y="190476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1349"/>
              </a:spcBef>
              <a:buClr>
                <a:srgbClr val="d680a5"/>
              </a:buClr>
              <a:buSzPct val="9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Click to edit the outline text format</a:t>
            </a: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  <a:p>
            <a:pPr lvl="1" marL="411120" indent="-171360">
              <a:lnSpc>
                <a:spcPct val="90000"/>
              </a:lnSpc>
              <a:spcBef>
                <a:spcPts val="1349"/>
              </a:spcBef>
              <a:buClr>
                <a:srgbClr val="d680a5"/>
              </a:buClr>
              <a:buSzPct val="9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Second Outline Level</a:t>
            </a: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  <a:p>
            <a:pPr lvl="2" marL="615960" indent="-171360">
              <a:lnSpc>
                <a:spcPct val="90000"/>
              </a:lnSpc>
              <a:spcBef>
                <a:spcPts val="1349"/>
              </a:spcBef>
              <a:buClr>
                <a:srgbClr val="d680a5"/>
              </a:buClr>
              <a:buSzPct val="9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Third Outline Level</a:t>
            </a: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  <a:p>
            <a:pPr lvl="3" marL="822240" indent="-136440">
              <a:lnSpc>
                <a:spcPct val="90000"/>
              </a:lnSpc>
              <a:spcBef>
                <a:spcPts val="1349"/>
              </a:spcBef>
              <a:buClr>
                <a:srgbClr val="d680a5"/>
              </a:buClr>
              <a:buSzPct val="9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Fourth Outline Level</a:t>
            </a: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  <a:p>
            <a:pPr lvl="4" marL="993600" indent="-101520">
              <a:lnSpc>
                <a:spcPct val="90000"/>
              </a:lnSpc>
              <a:spcBef>
                <a:spcPts val="1349"/>
              </a:spcBef>
              <a:buClr>
                <a:srgbClr val="d680a5"/>
              </a:buClr>
              <a:buSzPct val="9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Fifth Outline Level</a:t>
            </a: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  <a:p>
            <a:pPr lvl="5" marL="993600" indent="-101520">
              <a:lnSpc>
                <a:spcPct val="90000"/>
              </a:lnSpc>
              <a:spcBef>
                <a:spcPts val="1349"/>
              </a:spcBef>
              <a:buClr>
                <a:srgbClr val="595959"/>
              </a:buClr>
              <a:buSzPct val="9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Sixth Outline Level</a:t>
            </a: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  <a:p>
            <a:pPr lvl="6" marL="993600" indent="-101520">
              <a:lnSpc>
                <a:spcPct val="90000"/>
              </a:lnSpc>
              <a:spcBef>
                <a:spcPts val="1349"/>
              </a:spcBef>
              <a:buClr>
                <a:srgbClr val="595959"/>
              </a:buClr>
              <a:buSzPct val="9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Seventh Outline Level</a:t>
            </a: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0280" y="6400440"/>
            <a:ext cx="822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17640" y="6400440"/>
            <a:ext cx="5486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21120" y="6400440"/>
            <a:ext cx="822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DF486-F91B-44D8-8719-13B252C38D16}" type="slidenum"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99920" y="456840"/>
            <a:ext cx="75438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700" spc="-1" strike="noStrike">
                <a:solidFill>
                  <a:srgbClr val="972f57"/>
                </a:solidFill>
                <a:latin typeface="Cambria"/>
              </a:rPr>
              <a:t>Click to edit the title text format</a:t>
            </a:r>
            <a:endParaRPr b="0" lang="en-US" sz="2700" spc="-1" strike="noStrike">
              <a:solidFill>
                <a:srgbClr val="972f57"/>
              </a:solidFill>
              <a:latin typeface="Cambr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99920" y="190476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1349"/>
              </a:spcBef>
              <a:buClr>
                <a:srgbClr val="d680a5"/>
              </a:buClr>
              <a:buSzPct val="9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Click to edit the outline text format</a:t>
            </a: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  <a:p>
            <a:pPr lvl="1" marL="411120" indent="-171360">
              <a:lnSpc>
                <a:spcPct val="90000"/>
              </a:lnSpc>
              <a:spcBef>
                <a:spcPts val="1349"/>
              </a:spcBef>
              <a:buClr>
                <a:srgbClr val="d680a5"/>
              </a:buClr>
              <a:buSzPct val="9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Second Outline Level</a:t>
            </a: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  <a:p>
            <a:pPr lvl="2" marL="615960" indent="-171360">
              <a:lnSpc>
                <a:spcPct val="90000"/>
              </a:lnSpc>
              <a:spcBef>
                <a:spcPts val="1349"/>
              </a:spcBef>
              <a:buClr>
                <a:srgbClr val="d680a5"/>
              </a:buClr>
              <a:buSzPct val="9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Third Outline Level</a:t>
            </a: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  <a:p>
            <a:pPr lvl="3" marL="822240" indent="-136440">
              <a:lnSpc>
                <a:spcPct val="90000"/>
              </a:lnSpc>
              <a:spcBef>
                <a:spcPts val="1349"/>
              </a:spcBef>
              <a:buClr>
                <a:srgbClr val="d680a5"/>
              </a:buClr>
              <a:buSzPct val="9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Fourth Outline Level</a:t>
            </a: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  <a:p>
            <a:pPr lvl="4" marL="993600" indent="-101520">
              <a:lnSpc>
                <a:spcPct val="90000"/>
              </a:lnSpc>
              <a:spcBef>
                <a:spcPts val="1349"/>
              </a:spcBef>
              <a:buClr>
                <a:srgbClr val="d680a5"/>
              </a:buClr>
              <a:buSzPct val="9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Fifth Outline Level</a:t>
            </a: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  <a:p>
            <a:pPr lvl="5" marL="993600" indent="-101520">
              <a:lnSpc>
                <a:spcPct val="90000"/>
              </a:lnSpc>
              <a:spcBef>
                <a:spcPts val="1349"/>
              </a:spcBef>
              <a:buClr>
                <a:srgbClr val="595959"/>
              </a:buClr>
              <a:buSzPct val="9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Sixth Outline Level</a:t>
            </a: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  <a:p>
            <a:pPr lvl="6" marL="993600" indent="-101520">
              <a:lnSpc>
                <a:spcPct val="90000"/>
              </a:lnSpc>
              <a:spcBef>
                <a:spcPts val="1349"/>
              </a:spcBef>
              <a:buClr>
                <a:srgbClr val="595959"/>
              </a:buClr>
              <a:buSzPct val="9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Seventh Outline Level</a:t>
            </a: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99920" y="456840"/>
            <a:ext cx="75438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700" spc="-1" strike="noStrike">
                <a:solidFill>
                  <a:srgbClr val="972f57"/>
                </a:solidFill>
                <a:latin typeface="Cambria"/>
              </a:rPr>
              <a:t>Click to edit the title text format</a:t>
            </a:r>
            <a:endParaRPr b="0" lang="en-US" sz="2700" spc="-1" strike="noStrike">
              <a:solidFill>
                <a:srgbClr val="972f57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99920" y="190476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1349"/>
              </a:spcBef>
              <a:buClr>
                <a:srgbClr val="d680a5"/>
              </a:buClr>
              <a:buSzPct val="9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Click to edit the outline text format</a:t>
            </a: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  <a:p>
            <a:pPr lvl="1" marL="411120" indent="-171360">
              <a:lnSpc>
                <a:spcPct val="90000"/>
              </a:lnSpc>
              <a:spcBef>
                <a:spcPts val="1349"/>
              </a:spcBef>
              <a:buClr>
                <a:srgbClr val="d680a5"/>
              </a:buClr>
              <a:buSzPct val="9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Second Outline Level</a:t>
            </a: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  <a:p>
            <a:pPr lvl="2" marL="615960" indent="-171360">
              <a:lnSpc>
                <a:spcPct val="90000"/>
              </a:lnSpc>
              <a:spcBef>
                <a:spcPts val="1349"/>
              </a:spcBef>
              <a:buClr>
                <a:srgbClr val="d680a5"/>
              </a:buClr>
              <a:buSzPct val="9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Third Outline Level</a:t>
            </a: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  <a:p>
            <a:pPr lvl="3" marL="822240" indent="-136440">
              <a:lnSpc>
                <a:spcPct val="90000"/>
              </a:lnSpc>
              <a:spcBef>
                <a:spcPts val="1349"/>
              </a:spcBef>
              <a:buClr>
                <a:srgbClr val="d680a5"/>
              </a:buClr>
              <a:buSzPct val="9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Fourth Outline Level</a:t>
            </a: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  <a:p>
            <a:pPr lvl="4" marL="993600" indent="-101520">
              <a:lnSpc>
                <a:spcPct val="90000"/>
              </a:lnSpc>
              <a:spcBef>
                <a:spcPts val="1349"/>
              </a:spcBef>
              <a:buClr>
                <a:srgbClr val="d680a5"/>
              </a:buClr>
              <a:buSzPct val="9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Fifth Outline Level</a:t>
            </a: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  <a:p>
            <a:pPr lvl="5" marL="993600" indent="-101520">
              <a:lnSpc>
                <a:spcPct val="90000"/>
              </a:lnSpc>
              <a:spcBef>
                <a:spcPts val="1349"/>
              </a:spcBef>
              <a:buClr>
                <a:srgbClr val="595959"/>
              </a:buClr>
              <a:buSzPct val="9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Sixth Outline Level</a:t>
            </a: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  <a:p>
            <a:pPr lvl="6" marL="993600" indent="-101520">
              <a:lnSpc>
                <a:spcPct val="90000"/>
              </a:lnSpc>
              <a:spcBef>
                <a:spcPts val="1349"/>
              </a:spcBef>
              <a:buClr>
                <a:srgbClr val="595959"/>
              </a:buClr>
              <a:buSzPct val="9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Seventh Outline Level</a:t>
            </a: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99920" y="456840"/>
            <a:ext cx="75438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700" spc="-1" strike="noStrike">
                <a:solidFill>
                  <a:srgbClr val="972f57"/>
                </a:solidFill>
                <a:latin typeface="Cambria"/>
              </a:rPr>
              <a:t>Click to edit the title text format</a:t>
            </a:r>
            <a:endParaRPr b="0" lang="en-US" sz="2700" spc="-1" strike="noStrike">
              <a:solidFill>
                <a:srgbClr val="972f57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99920" y="190476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1349"/>
              </a:spcBef>
              <a:buClr>
                <a:srgbClr val="d680a5"/>
              </a:buClr>
              <a:buSzPct val="9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Click to edit the outline text format</a:t>
            </a: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  <a:p>
            <a:pPr lvl="1" marL="411120" indent="-171360">
              <a:lnSpc>
                <a:spcPct val="90000"/>
              </a:lnSpc>
              <a:spcBef>
                <a:spcPts val="1349"/>
              </a:spcBef>
              <a:buClr>
                <a:srgbClr val="d680a5"/>
              </a:buClr>
              <a:buSzPct val="9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Second Outline Level</a:t>
            </a: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  <a:p>
            <a:pPr lvl="2" marL="615960" indent="-171360">
              <a:lnSpc>
                <a:spcPct val="90000"/>
              </a:lnSpc>
              <a:spcBef>
                <a:spcPts val="1349"/>
              </a:spcBef>
              <a:buClr>
                <a:srgbClr val="d680a5"/>
              </a:buClr>
              <a:buSzPct val="9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Third Outline Level</a:t>
            </a: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  <a:p>
            <a:pPr lvl="3" marL="822240" indent="-136440">
              <a:lnSpc>
                <a:spcPct val="90000"/>
              </a:lnSpc>
              <a:spcBef>
                <a:spcPts val="1349"/>
              </a:spcBef>
              <a:buClr>
                <a:srgbClr val="d680a5"/>
              </a:buClr>
              <a:buSzPct val="9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Fourth Outline Level</a:t>
            </a: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  <a:p>
            <a:pPr lvl="4" marL="993600" indent="-101520">
              <a:lnSpc>
                <a:spcPct val="90000"/>
              </a:lnSpc>
              <a:spcBef>
                <a:spcPts val="1349"/>
              </a:spcBef>
              <a:buClr>
                <a:srgbClr val="d680a5"/>
              </a:buClr>
              <a:buSzPct val="9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Fifth Outline Level</a:t>
            </a: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  <a:p>
            <a:pPr lvl="5" marL="993600" indent="-101520">
              <a:lnSpc>
                <a:spcPct val="90000"/>
              </a:lnSpc>
              <a:spcBef>
                <a:spcPts val="1349"/>
              </a:spcBef>
              <a:buClr>
                <a:srgbClr val="595959"/>
              </a:buClr>
              <a:buSzPct val="9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Sixth Outline Level</a:t>
            </a: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  <a:p>
            <a:pPr lvl="6" marL="993600" indent="-101520">
              <a:lnSpc>
                <a:spcPct val="90000"/>
              </a:lnSpc>
              <a:spcBef>
                <a:spcPts val="1349"/>
              </a:spcBef>
              <a:buClr>
                <a:srgbClr val="595959"/>
              </a:buClr>
              <a:buSzPct val="9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Seventh Outline Level</a:t>
            </a:r>
            <a:endParaRPr b="0" lang="en-US" sz="1800" spc="-1" strike="noStrike">
              <a:solidFill>
                <a:srgbClr val="595959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5013360"/>
            <a:ext cx="6515280" cy="146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mbria"/>
              </a:rPr>
              <a:t>Н.И. Сладков «Весенний гам»</a:t>
            </a:r>
            <a:endParaRPr b="0" lang="en-US" sz="3600" spc="-1" strike="noStrike">
              <a:solidFill>
                <a:srgbClr val="972f57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Box 1"/>
          <p:cNvSpPr/>
          <p:nvPr/>
        </p:nvSpPr>
        <p:spPr>
          <a:xfrm>
            <a:off x="971640" y="1052640"/>
            <a:ext cx="770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едение  Н.И. Сладкова «Весенний гам» называется так, потому что…</a:t>
            </a:r>
            <a:endParaRPr b="0" lang="en-US" sz="6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http://okartiny.ru/assets/images/kartiny/kartina-levitana-vesna-bolshaya-voda.jpg"/>
          <p:cNvPicPr/>
          <p:nvPr/>
        </p:nvPicPr>
        <p:blipFill>
          <a:blip r:embed="rId1"/>
          <a:stretch/>
        </p:blipFill>
        <p:spPr>
          <a:xfrm>
            <a:off x="1187280" y="189000"/>
            <a:ext cx="6912000" cy="518472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3"/>
          <p:cNvSpPr/>
          <p:nvPr/>
        </p:nvSpPr>
        <p:spPr>
          <a:xfrm>
            <a:off x="765000" y="542304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 Левитан  "Весна. Большая вода"</a:t>
            </a: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01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Verdana"/>
              </a:rPr>
              <a:t>Николай Иванович Сладков</a:t>
            </a:r>
            <a:endParaRPr b="0" lang="en-US" sz="3600" spc="-1" strike="noStrike">
              <a:solidFill>
                <a:srgbClr val="972f57"/>
              </a:solidFill>
              <a:latin typeface="Cambria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2362320" y="5943600"/>
            <a:ext cx="48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Verdana"/>
              </a:rPr>
              <a:t>05.01.1920 – 28.06.1996</a:t>
            </a: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835280" y="134136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оветский писатель</a:t>
            </a: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pic>
        <p:nvPicPr>
          <p:cNvPr id="168" name="Picture 7" descr="pisateli_20_13"/>
          <p:cNvPicPr/>
          <p:nvPr/>
        </p:nvPicPr>
        <p:blipFill>
          <a:blip r:embed="rId1"/>
          <a:stretch/>
        </p:blipFill>
        <p:spPr>
          <a:xfrm>
            <a:off x="2987640" y="1844640"/>
            <a:ext cx="3537000" cy="4110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Прямоугольник 6"/>
          <p:cNvSpPr/>
          <p:nvPr/>
        </p:nvSpPr>
        <p:spPr>
          <a:xfrm>
            <a:off x="4284720" y="620640"/>
            <a:ext cx="4290840" cy="55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63650"/>
                </a:solidFill>
                <a:latin typeface="Arial"/>
              </a:rPr>
              <a:t>Николай Иванович Сладков родился 5 января 1920 года в Москве, но всю свою жизнь прожил в Ленинграде, в Царском Селе. Здесь, неподалеку от его дома, было много старых лесопарков, где будущий писатель открыл для себя целый мир, необычайно богатый тайнами природы. Целыми днями он пропадал в самых глухих местах окружающих парков, где всматривался и вслушивался в жизнь леса. Бродя среди старых деревьев, он с детства проникся мудростью природы, научился узнавать по голосам самых разных птиц.</a:t>
            </a:r>
            <a:r>
              <a:rPr b="0" lang="ru-RU" sz="1800" spc="-1" strike="noStrike">
                <a:solidFill>
                  <a:srgbClr val="36365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pic>
        <p:nvPicPr>
          <p:cNvPr id="170" name="Picture 7" descr="Sladkov"/>
          <p:cNvPicPr/>
          <p:nvPr/>
        </p:nvPicPr>
        <p:blipFill>
          <a:blip r:embed="rId1"/>
          <a:stretch/>
        </p:blipFill>
        <p:spPr>
          <a:xfrm>
            <a:off x="755640" y="1197000"/>
            <a:ext cx="3009960" cy="3887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4"/>
          <p:cNvSpPr/>
          <p:nvPr/>
        </p:nvSpPr>
        <p:spPr>
          <a:xfrm>
            <a:off x="826920" y="620640"/>
            <a:ext cx="7417080" cy="26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63650"/>
                </a:solidFill>
                <a:latin typeface="Arial"/>
              </a:rPr>
              <a:t>Мальчику очень хотелось узнать, о чем с ним говорит лес, он очень хотел постигнуть его тайны. Коля стал с упоением читать самые разные книги о природе, а свои собственные наблюдения записывал в свой дневник, в "Тетрадь наблюдений", который начал вести во втором классе. Постепенно в дневнике место коротких записей стали дополнять истории из жизни лесных обитателей. К тому времени лес давно уже стал для него настоящим добрым другом.</a:t>
            </a:r>
            <a:r>
              <a:rPr b="0" lang="ru-RU" sz="18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pic>
        <p:nvPicPr>
          <p:cNvPr id="172" name="Picture 4" descr="http://www.knigisosklada.ru/images/books/2678/big/2678010.jpg"/>
          <p:cNvPicPr/>
          <p:nvPr/>
        </p:nvPicPr>
        <p:blipFill>
          <a:blip r:embed="rId1"/>
          <a:stretch/>
        </p:blipFill>
        <p:spPr>
          <a:xfrm>
            <a:off x="3348000" y="3068640"/>
            <a:ext cx="2171880" cy="27860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http://eois.mskobr.ru/book_images/img_268070.jpg"/>
          <p:cNvPicPr/>
          <p:nvPr/>
        </p:nvPicPr>
        <p:blipFill>
          <a:blip r:embed="rId2"/>
          <a:stretch/>
        </p:blipFill>
        <p:spPr>
          <a:xfrm>
            <a:off x="971640" y="3284640"/>
            <a:ext cx="1939680" cy="3006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http://img.read.ru/covers_rr/big/568632.jpg"/>
          <p:cNvPicPr/>
          <p:nvPr/>
        </p:nvPicPr>
        <p:blipFill>
          <a:blip r:embed="rId3"/>
          <a:stretch/>
        </p:blipFill>
        <p:spPr>
          <a:xfrm>
            <a:off x="6012000" y="3141720"/>
            <a:ext cx="2066760" cy="3166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Николай Сладков"/>
          <p:cNvPicPr/>
          <p:nvPr/>
        </p:nvPicPr>
        <p:blipFill>
          <a:blip r:embed="rId1"/>
          <a:stretch/>
        </p:blipFill>
        <p:spPr>
          <a:xfrm>
            <a:off x="539640" y="1052640"/>
            <a:ext cx="2500560" cy="2288880"/>
          </a:xfrm>
          <a:prstGeom prst="rect">
            <a:avLst/>
          </a:prstGeom>
          <a:ln w="0">
            <a:noFill/>
          </a:ln>
        </p:spPr>
      </p:pic>
      <p:sp>
        <p:nvSpPr>
          <p:cNvPr id="176" name="TextBox 3"/>
          <p:cNvSpPr/>
          <p:nvPr/>
        </p:nvSpPr>
        <p:spPr>
          <a:xfrm>
            <a:off x="3786120" y="257184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7" name="Прямоугольник 4"/>
          <p:cNvSpPr/>
          <p:nvPr/>
        </p:nvSpPr>
        <p:spPr>
          <a:xfrm>
            <a:off x="539640" y="5013360"/>
            <a:ext cx="828684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63650"/>
                </a:solidFill>
                <a:latin typeface="Arial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В молодости он увлекался охотой, но впоследствии отказался от этого занятия. Вместо неё стал заниматься фотоохотой, выдвинул призыв «Не бери в лес ружье, возьми в лес фоторужье».</a:t>
            </a:r>
            <a:endParaRPr b="0" lang="en-US" sz="1900" spc="-1" strike="noStrike">
              <a:solidFill>
                <a:srgbClr val="595959"/>
              </a:solidFill>
              <a:latin typeface="Arial"/>
            </a:endParaRPr>
          </a:p>
        </p:txBody>
      </p:sp>
      <p:pic>
        <p:nvPicPr>
          <p:cNvPr id="178" name="Picture 2" descr="http://img1.labirint.ru/books/151468/big.jpg"/>
          <p:cNvPicPr/>
          <p:nvPr/>
        </p:nvPicPr>
        <p:blipFill>
          <a:blip r:embed="rId2"/>
          <a:stretch/>
        </p:blipFill>
        <p:spPr>
          <a:xfrm>
            <a:off x="3492360" y="1197000"/>
            <a:ext cx="2357640" cy="28447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http://www.etextlib.ru/Content/BookImages/75_cover.jpg"/>
          <p:cNvPicPr/>
          <p:nvPr/>
        </p:nvPicPr>
        <p:blipFill>
          <a:blip r:embed="rId3"/>
          <a:stretch/>
        </p:blipFill>
        <p:spPr>
          <a:xfrm>
            <a:off x="6300720" y="1268280"/>
            <a:ext cx="2071800" cy="27561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Николай Сладков"/>
          <p:cNvPicPr/>
          <p:nvPr/>
        </p:nvPicPr>
        <p:blipFill>
          <a:blip r:embed="rId4"/>
          <a:stretch/>
        </p:blipFill>
        <p:spPr>
          <a:xfrm>
            <a:off x="1042920" y="3716280"/>
            <a:ext cx="1785960" cy="631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4"/>
          <p:cNvSpPr/>
          <p:nvPr/>
        </p:nvSpPr>
        <p:spPr>
          <a:xfrm>
            <a:off x="900000" y="620640"/>
            <a:ext cx="763272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63650"/>
                </a:solidFill>
                <a:latin typeface="Arial"/>
              </a:rPr>
              <a:t>Для того, чтобы оказаться в диком лесу, вовсе необязательно каждый раз брать билет на поезд и ехать в дальние края - можно просто протянуть руку к книжной полке и взять любимую книгу Николая Сладкова, уютно устроиться в любимом уголке и перенестись в прекрасный мир природы... </a:t>
            </a:r>
            <a:endParaRPr b="0" lang="en-US" sz="1900" spc="-1" strike="noStrike">
              <a:solidFill>
                <a:srgbClr val="595959"/>
              </a:solidFill>
              <a:latin typeface="Arial"/>
            </a:endParaRPr>
          </a:p>
        </p:txBody>
      </p:sp>
      <p:pic>
        <p:nvPicPr>
          <p:cNvPr id="182" name="Picture 6" descr="http://static.ozone.ru/multimedia/books_covers/1000148947.jpg"/>
          <p:cNvPicPr/>
          <p:nvPr/>
        </p:nvPicPr>
        <p:blipFill>
          <a:blip r:embed="rId1"/>
          <a:stretch/>
        </p:blipFill>
        <p:spPr>
          <a:xfrm rot="330600">
            <a:off x="6338880" y="3443040"/>
            <a:ext cx="1905120" cy="24098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http://www.libex.ru/dimg/418f4.jpg"/>
          <p:cNvPicPr/>
          <p:nvPr/>
        </p:nvPicPr>
        <p:blipFill>
          <a:blip r:embed="rId2"/>
          <a:stretch/>
        </p:blipFill>
        <p:spPr>
          <a:xfrm rot="21422400">
            <a:off x="1027080" y="3255840"/>
            <a:ext cx="1725480" cy="22114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2" descr="http://www.libex.ru/dimg/34b53.jpg"/>
          <p:cNvPicPr/>
          <p:nvPr/>
        </p:nvPicPr>
        <p:blipFill>
          <a:blip r:embed="rId3"/>
          <a:stretch/>
        </p:blipFill>
        <p:spPr>
          <a:xfrm>
            <a:off x="3635280" y="3068640"/>
            <a:ext cx="1890720" cy="2498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Прямоугольник 2"/>
          <p:cNvSpPr/>
          <p:nvPr/>
        </p:nvSpPr>
        <p:spPr>
          <a:xfrm>
            <a:off x="428760" y="500040"/>
            <a:ext cx="565596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63650"/>
                </a:solidFill>
                <a:latin typeface="Arial"/>
              </a:rPr>
              <a:t>Всего за свою насыщенную приключениями жизнь Николай Иванович написал более 60 книг. В числе самых известных можно назвать такие издания, как:</a:t>
            </a:r>
            <a:endParaRPr b="0" lang="en-US" sz="1900" spc="-1" strike="noStrike">
              <a:solidFill>
                <a:srgbClr val="595959"/>
              </a:solidFill>
              <a:latin typeface="Arial"/>
            </a:endParaRPr>
          </a:p>
        </p:txBody>
      </p:sp>
      <p:pic>
        <p:nvPicPr>
          <p:cNvPr id="186" name="Picture 2" descr="http://www.libex.ru/dimg/1691a.jpg"/>
          <p:cNvPicPr/>
          <p:nvPr/>
        </p:nvPicPr>
        <p:blipFill>
          <a:blip r:embed="rId1"/>
          <a:stretch/>
        </p:blipFill>
        <p:spPr>
          <a:xfrm>
            <a:off x="6443640" y="549360"/>
            <a:ext cx="1857240" cy="24811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http://www.bookriver.ru/img/covers/390191.jpg"/>
          <p:cNvPicPr/>
          <p:nvPr/>
        </p:nvPicPr>
        <p:blipFill>
          <a:blip r:embed="rId2"/>
          <a:stretch/>
        </p:blipFill>
        <p:spPr>
          <a:xfrm>
            <a:off x="468360" y="2133720"/>
            <a:ext cx="1905120" cy="23810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http://www.knigosklad.ru/det/bd1424.jpg"/>
          <p:cNvPicPr/>
          <p:nvPr/>
        </p:nvPicPr>
        <p:blipFill>
          <a:blip r:embed="rId3"/>
          <a:stretch/>
        </p:blipFill>
        <p:spPr>
          <a:xfrm>
            <a:off x="2627280" y="2349360"/>
            <a:ext cx="1825560" cy="24274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http://pictures.bookshop.ua/TitleBooks/bs0003706716.jpg"/>
          <p:cNvPicPr/>
          <p:nvPr/>
        </p:nvPicPr>
        <p:blipFill>
          <a:blip r:embed="rId4"/>
          <a:stretch/>
        </p:blipFill>
        <p:spPr>
          <a:xfrm>
            <a:off x="4572000" y="1989000"/>
            <a:ext cx="1792440" cy="23036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2" descr="http://static.ozone.ru/multimedia/books_covers/1000574223.jpg"/>
          <p:cNvPicPr/>
          <p:nvPr/>
        </p:nvPicPr>
        <p:blipFill>
          <a:blip r:embed="rId5"/>
          <a:stretch/>
        </p:blipFill>
        <p:spPr>
          <a:xfrm>
            <a:off x="6948360" y="3213000"/>
            <a:ext cx="1563840" cy="221472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11"/>
          <p:cNvSpPr/>
          <p:nvPr/>
        </p:nvSpPr>
        <p:spPr>
          <a:xfrm>
            <a:off x="250920" y="5084640"/>
            <a:ext cx="7561080" cy="14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63650"/>
                </a:solidFill>
                <a:latin typeface="Arial"/>
              </a:rPr>
              <a:t>За книгу "Подводная газета" Николай Иванович был удостоен Государственной премии имени Н. К. Крупской.</a:t>
            </a:r>
            <a:endParaRPr b="0" lang="en-US" sz="1900" spc="-1" strike="noStrike">
              <a:solidFill>
                <a:srgbClr val="595959"/>
              </a:solidFill>
              <a:latin typeface="Arial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63650"/>
                </a:solidFill>
                <a:latin typeface="Arial"/>
              </a:rPr>
              <a:t>Умер Николай Иванович Сладков 28 июня 1996 года в возрасте 76 лет.</a:t>
            </a:r>
            <a:endParaRPr b="0" lang="en-US" sz="19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Прямоугольник 1"/>
          <p:cNvSpPr/>
          <p:nvPr/>
        </p:nvSpPr>
        <p:spPr>
          <a:xfrm>
            <a:off x="539640" y="3500280"/>
            <a:ext cx="828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м</a:t>
            </a:r>
            <a:endParaRPr b="0" lang="en-US" sz="4800" spc="-1" strike="noStrike">
              <a:solidFill>
                <a:srgbClr val="59595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мон, галдеж, шум; </a:t>
            </a:r>
            <a:endParaRPr b="0" lang="en-US" sz="4000" spc="-1" strike="noStrike">
              <a:solidFill>
                <a:srgbClr val="59595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лман, крик, ор, лай, оранье, галдень, гул</a:t>
            </a:r>
            <a:endParaRPr b="0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pic>
        <p:nvPicPr>
          <p:cNvPr id="193" name="Picture 2" descr="http://jpghoto.ru/img/picture/Jun/20/fce5c95a983853c2b89fc739dd356663/8.jpg"/>
          <p:cNvPicPr/>
          <p:nvPr/>
        </p:nvPicPr>
        <p:blipFill>
          <a:blip r:embed="rId1"/>
          <a:stretch/>
        </p:blipFill>
        <p:spPr>
          <a:xfrm>
            <a:off x="2987640" y="404640"/>
            <a:ext cx="3168720" cy="316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8T17:42:40Z</dcterms:created>
  <dc:creator>Ирина</dc:creator>
  <dc:description/>
  <dc:language>en-US</dc:language>
  <cp:lastModifiedBy>Пользователь Windows</cp:lastModifiedBy>
  <dcterms:modified xsi:type="dcterms:W3CDTF">2019-12-08T13:17:15Z</dcterms:modified>
  <cp:revision>24</cp:revision>
  <dc:subject/>
  <dc:title>Слайд 1</dc:title>
</cp:coreProperties>
</file>