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8B4-BC64-4CBC-8B36-2362BFE6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847-7FF6-4995-9C9B-34C2ACF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CE6-168E-4027-B54D-6A758669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FE9-7BCB-4AAA-9807-AD222B9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92DDD-5752-4B12-A162-261404F4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B848-FCA3-4E58-A493-3BDE216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1A16B-D594-4CCA-AD21-30694417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16FE0-2335-4214-B4E1-04D69C4F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3F17C-C3A8-4893-9EF1-45545A37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0B224-570C-4183-8D76-B9C0D42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64571-D41B-42EE-8B6E-3837C724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78D-30BC-4D58-B531-107FB9BF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0DD67-FDAF-4C1E-BFF1-07E729EE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4B298-09D2-41F4-BA2A-574662F6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3A14F-9592-4988-BA20-EAF6D869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3FE30-BE1A-47F3-AFC3-D6FA6844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78892-913C-4F6A-9F4E-EDFF4592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B42A-2A29-4D66-8495-02E91B3E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EC78-6064-4194-A329-80B01E23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1448-74A4-496A-9813-C43961C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E95F-19DA-470B-A2C4-8E816F16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9C77-14CB-4A21-9F19-A3635B79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B02-16EB-4B4D-909A-24A22470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79CC-20D7-4A21-AEBE-C97685E3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5071-ED25-4142-9152-FF262477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4618-DBC1-45A9-B026-CCB956E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EA46-5FD5-42F3-8B57-7C9C33D5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D413-FB24-42A1-82AC-8237F3CB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F187-377D-4175-8BAC-EFF4A970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C40C-F386-4FA5-9E7A-8F909EE0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1D8-CBDE-43BF-9BA2-D0818F4C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673-1ECA-4649-8585-3311E7DC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007-9114-40BB-B76D-2EC335B3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315-FE43-45AA-9F9F-76DE7F6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78C-D1DA-4F72-B4B4-8ED3C28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AEF-F7A3-4A9A-A8F6-4479CBDF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61AC-CCBD-415A-ABC4-2929753B4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05D7-2FA1-48E9-98E9-814D6722B4D1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2B3F-A559-436D-9511-D4F083B2DB9F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Геометрия 9 класс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847960" cy="222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Вычислить площадь фигуры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2562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Найти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-1103" t="13464" r="0" b="15623"/>
          <a:stretch/>
        </p:blipFill>
        <p:spPr>
          <a:xfrm>
            <a:off x="1403280" y="1700280"/>
            <a:ext cx="3168720" cy="151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13138" r="8543" b="8164"/>
          <a:stretch/>
        </p:blipFill>
        <p:spPr>
          <a:xfrm>
            <a:off x="1496880" y="3933720"/>
            <a:ext cx="307512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7800" y="1341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ы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6320" y="342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у А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а, СА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 =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0920" y="2908440"/>
                <a:ext cx="21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75120" y="160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7840" y="19731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49480" y="20131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7880" y="161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6060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20289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4240" y="1617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768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9320" y="202896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872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0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907920"/>
            <a:ext cx="1944720" cy="151308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22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1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241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57800" y="13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3440" y="40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53640" y="229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34160" y="885960"/>
            <a:ext cx="533520" cy="1536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336600">
            <a:off x="6406920" y="2239920"/>
            <a:ext cx="28908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419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9600" y="122544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4960" y="1297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27640" y="905040"/>
            <a:ext cx="1413000" cy="1514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38920" y="2058840"/>
            <a:ext cx="28764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50160" y="2155680"/>
            <a:ext cx="214200" cy="2574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1240" y="24922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56000" y="2887560"/>
                <a:ext cx="22320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72360" y="2889360"/>
                <a:ext cx="2232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3789360"/>
                <a:ext cx="3413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03640" y="3716280"/>
                <a:ext cx="3457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4653000"/>
                <a:ext cx="24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653000"/>
                <a:ext cx="2528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47640" y="5084640"/>
                <a:ext cx="18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508464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19640" y="5950080"/>
                <a:ext cx="2692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835280" y="3645000"/>
            <a:ext cx="504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3573360"/>
            <a:ext cx="50328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3573360"/>
            <a:ext cx="50328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96000" y="3573360"/>
            <a:ext cx="36036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89720"/>
            <a:ext cx="719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280" y="5589720"/>
            <a:ext cx="647640" cy="503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076640"/>
            <a:ext cx="0" cy="180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1973160"/>
            <a:ext cx="360360" cy="4320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2089080"/>
            <a:ext cx="50292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440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89760" y="2089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57960" y="2989440"/>
            <a:ext cx="432000" cy="7272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13680" y="30607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123</cp:lastModifiedBy>
  <dcterms:modified xsi:type="dcterms:W3CDTF">2010-02-07T13:39:44Z</dcterms:modified>
  <cp:revision>5</cp:revision>
  <dc:subject/>
  <dc:title>Слайд 1</dc:title>
</cp:coreProperties>
</file>