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F20-9B3F-40BF-9F06-C860CDF0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3C4-386C-47AF-A5A1-401C99A9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831-72A2-4A9F-A465-D0567E5C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EC0-2DF5-441A-A142-50E2AAD4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33478-7FB0-4B86-9D62-A6F8E44B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03796-8760-4D9D-9429-D9658617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7C5C0-10EC-4402-9D11-0CC3858B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FE9BE-EC1B-4DBB-B890-9817543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FAC32-9216-461B-BF2D-4E87ACBD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928DF-1521-4CA2-884B-E042BD5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B515B-84CA-4FB2-B0B3-710464BF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2EA-A96B-4B0C-86F9-35F646A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6289C-D6EB-43BC-BE95-F8905F2A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0195B-2E84-4DBC-9FB9-6B4342D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AD831-51F1-4774-AB5B-96B02F41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D8EFB-07A3-442C-B3B4-652D8554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4A726-9153-40E5-8B46-7C8597E5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86A3-81C2-44CA-944F-5A563525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2EEF-4E94-4127-B358-75C5F00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A50D-1768-4EA6-9A00-8168106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9F88-AB5A-42D9-8368-F5F307DE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AD93-F418-49D9-9391-F0E7EF58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A9D-56B7-4AF3-9CD0-723DF12D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01CB-86E2-48D1-97F5-96A49857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A8E0-D899-4720-9DEC-8F39D225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2896-0126-43D9-96AC-00FC9CAB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8669-FBEF-42F0-AB81-3D42739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E2C19-8F74-4D7D-BBAE-BE906E0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4EBD-BB53-427D-8B16-21792F12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9C26-088C-4A64-82C6-94C01A1F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C3B-4771-469F-AC40-CB44BAF5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380-6E85-44E4-92FB-4F06E9D3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09A-7220-4456-9E25-1B771888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2C4-1710-4945-BB1E-D8E7D037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104-CBBC-420C-88E5-C143982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BF8-2DA4-4235-A20B-D27461DA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2667-0B93-4131-B3D7-FC817ED70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F7D1-13D8-4E2F-AABC-48F60272FBF7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CB7C-4392-4680-8341-3BD96CB50660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Теорема синусов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Геометрия 9 класс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847960" cy="2228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Вычислить площадь фигуры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2562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Найти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-1103" t="13464" r="0" b="15623"/>
          <a:stretch/>
        </p:blipFill>
        <p:spPr>
          <a:xfrm>
            <a:off x="1403280" y="1700280"/>
            <a:ext cx="3168720" cy="151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13138" r="8543" b="8164"/>
          <a:stretch/>
        </p:blipFill>
        <p:spPr>
          <a:xfrm>
            <a:off x="1496880" y="3933720"/>
            <a:ext cx="307512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7800" y="1341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ы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6320" y="342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у А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Формулировка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роны треугольника пропорциональны синусам противолежащи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433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69480" y="47084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47991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9520" y="435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5224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424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46600" y="43527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4932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2096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44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980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038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а, СА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 =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0920" y="2908440"/>
                <a:ext cx="2197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75120" y="160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7840" y="19731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49480" y="20131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7880" y="161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6060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20289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4240" y="1617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5768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9320" y="202896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872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708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907920"/>
            <a:ext cx="1944720" cy="151308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22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1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241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57800" y="13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3440" y="40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53640" y="229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34160" y="885960"/>
            <a:ext cx="533520" cy="1536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336600">
            <a:off x="6406920" y="2239920"/>
            <a:ext cx="28908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2419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29600" y="122544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4960" y="1297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27640" y="905040"/>
            <a:ext cx="1413000" cy="1514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38920" y="2058840"/>
            <a:ext cx="28764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50160" y="2155680"/>
            <a:ext cx="214200" cy="2574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1240" y="24922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56000" y="2887560"/>
                <a:ext cx="22320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72360" y="2889360"/>
                <a:ext cx="2232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3789360"/>
                <a:ext cx="34131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003640" y="3716280"/>
                <a:ext cx="3457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32000" y="4653000"/>
                <a:ext cx="24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653000"/>
                <a:ext cx="2528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47640" y="5084640"/>
                <a:ext cx="18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5084640"/>
                <a:ext cx="17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19640" y="5950080"/>
                <a:ext cx="2692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835280" y="3645000"/>
            <a:ext cx="504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3573360"/>
            <a:ext cx="50328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3573360"/>
            <a:ext cx="50328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96000" y="3573360"/>
            <a:ext cx="36036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5589720"/>
            <a:ext cx="71928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280" y="5589720"/>
            <a:ext cx="647640" cy="503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076640"/>
            <a:ext cx="0" cy="1800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6240" y="1973160"/>
            <a:ext cx="360360" cy="4320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= 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8800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В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356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188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71840" y="27669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6056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34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36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920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677960"/>
            <a:ext cx="53316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3336600">
            <a:off x="2382480" y="303192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356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0516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0880" y="2089080"/>
            <a:ext cx="50292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03560" y="1696680"/>
            <a:ext cx="141264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8200" y="21319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3244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388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13800" y="21337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321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62960" y="213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5824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5844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38960" y="167796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3336600">
            <a:off x="7012080" y="3031920"/>
            <a:ext cx="28872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3244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440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89760" y="2089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32440" y="169668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0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3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101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272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4149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72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5880" y="3794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68240" y="4165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420516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6320" y="39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1440" y="551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4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744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8720" y="5300640"/>
            <a:ext cx="11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472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3080" y="57340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4520" y="47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78520" y="4508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9440" y="450864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5080" y="4941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3800" y="4941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2160" y="546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98520" y="530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2580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520" y="573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3440" y="61149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44200" y="3762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6560" y="41338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8200" y="417348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8700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88280" y="414972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6100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744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653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724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05600" y="491976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58160" y="4508640"/>
            <a:ext cx="14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2580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02320" y="538956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65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24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7080" y="522936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3880" y="538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801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3920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91400" y="5229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4160" y="5380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602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85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77080" y="6021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≈ 5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шение стороны треугольника к синусу противолежащего угла равно диаметру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768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0760" y="4853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00" y="49435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60440" y="449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352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516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57880" y="4497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6024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3224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6108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0520" y="469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27880" y="4697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9040" y="40338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24320" y="51577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54920" y="513252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9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22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4038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1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= 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9640" y="2944800"/>
                <a:ext cx="1871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156360" y="26719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7800" y="39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89800" y="295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2180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86160" y="31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2160" y="216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82000" y="405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2880" y="2649600"/>
            <a:ext cx="533520" cy="153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4183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57960" y="2989440"/>
            <a:ext cx="432000" cy="7272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13680" y="30607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6360" y="266832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9040" y="25560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124320" y="36799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54920" y="3654360"/>
            <a:ext cx="7128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9800" y="34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95280" y="3933720"/>
                <a:ext cx="36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95280" y="5084640"/>
                <a:ext cx="2851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0:08:23Z</dcterms:created>
  <dc:creator>123</dc:creator>
  <dc:description/>
  <dc:language>en-US</dc:language>
  <cp:lastModifiedBy>123</cp:lastModifiedBy>
  <dcterms:modified xsi:type="dcterms:W3CDTF">2010-02-07T13:39:44Z</dcterms:modified>
  <cp:revision>5</cp:revision>
  <dc:subject/>
  <dc:title>Слайд 1</dc:title>
</cp:coreProperties>
</file>