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602-DC80-45AB-81EC-F9AF6077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A12-25F4-48D9-A132-3B1720E3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053-9249-47C9-AD82-BA726C95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4E0-070B-421B-946D-C2CC1E6D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002-4B8C-4BCD-B0AE-A3355834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264-A743-4F7D-AACB-CBC8C5E3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436-1C24-4D66-A6BE-EE12B6A6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5D4-EA98-4610-8302-F8CD57B8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E78-3AED-44DD-BCAC-95B5562A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03E-AD35-4E39-A5AD-B9A48136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709-ED90-4891-A90E-38AD9DAE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FF8-F71A-40D6-8A63-510B912C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F264-B7C0-498D-9BE5-F86907835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4562640"/>
            <a:ext cx="5208840" cy="1585800"/>
          </a:xfrm>
          <a:prstGeom prst="parallelogram">
            <a:avLst>
              <a:gd name="adj" fmla="val 56448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2274840"/>
            <a:ext cx="2830680" cy="3508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66cc"/>
              </a:gs>
              <a:gs pos="50000">
                <a:srgbClr val="ffffff"/>
              </a:gs>
              <a:gs pos="100000">
                <a:srgbClr val="ff66cc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4320" y="4788000"/>
            <a:ext cx="2827440" cy="1017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1731960"/>
            <a:ext cx="5208480" cy="1585800"/>
          </a:xfrm>
          <a:prstGeom prst="parallelogram">
            <a:avLst>
              <a:gd name="adj" fmla="val 5644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54320" y="2071800"/>
            <a:ext cx="2827440" cy="10191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981760" y="2523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154320" y="2523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757840" y="286200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529240" y="2977920"/>
            <a:ext cx="0" cy="33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78240" y="286200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78240" y="3317760"/>
            <a:ext cx="0" cy="226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52720" y="2995560"/>
            <a:ext cx="0" cy="2714760"/>
            <a:chOff x="3852720" y="2995560"/>
            <a:chExt cx="0" cy="2714760"/>
          </a:xfrm>
        </p:grpSpPr>
        <p:sp>
          <p:nvSpPr>
            <p:cNvPr id="53" name=""/>
            <p:cNvSpPr/>
            <p:nvPr/>
          </p:nvSpPr>
          <p:spPr>
            <a:xfrm flipV="1">
              <a:off x="3852720" y="299556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52720" y="3335400"/>
              <a:ext cx="0" cy="23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529240" y="33177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57840" y="3317760"/>
            <a:ext cx="0" cy="226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1052640"/>
            <a:ext cx="0" cy="5661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5080" y="18432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7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"/>
                <a:ea typeface="Arial Unicode MS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18432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213080" y="3066840"/>
            <a:ext cx="0" cy="2714400"/>
            <a:chOff x="4213080" y="3066840"/>
            <a:chExt cx="0" cy="2714400"/>
          </a:xfrm>
        </p:grpSpPr>
        <p:sp>
          <p:nvSpPr>
            <p:cNvPr id="62" name=""/>
            <p:cNvSpPr/>
            <p:nvPr/>
          </p:nvSpPr>
          <p:spPr>
            <a:xfrm flipV="1">
              <a:off x="4213080" y="306684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13080" y="3406680"/>
              <a:ext cx="0" cy="23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221080" y="3067200"/>
            <a:ext cx="0" cy="2665080"/>
            <a:chOff x="5221080" y="3067200"/>
            <a:chExt cx="0" cy="2665080"/>
          </a:xfrm>
        </p:grpSpPr>
        <p:sp>
          <p:nvSpPr>
            <p:cNvPr id="65" name=""/>
            <p:cNvSpPr/>
            <p:nvPr/>
          </p:nvSpPr>
          <p:spPr>
            <a:xfrm flipV="1">
              <a:off x="5221080" y="30672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21080" y="3400560"/>
              <a:ext cx="0" cy="23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005440" y="3066840"/>
            <a:ext cx="0" cy="2714400"/>
            <a:chOff x="5005440" y="3066840"/>
            <a:chExt cx="0" cy="2714400"/>
          </a:xfrm>
        </p:grpSpPr>
        <p:sp>
          <p:nvSpPr>
            <p:cNvPr id="68" name=""/>
            <p:cNvSpPr/>
            <p:nvPr/>
          </p:nvSpPr>
          <p:spPr>
            <a:xfrm flipV="1">
              <a:off x="5005440" y="306684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05440" y="3406680"/>
              <a:ext cx="0" cy="23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16360" y="2058840"/>
            <a:ext cx="0" cy="2714760"/>
            <a:chOff x="4716360" y="2058840"/>
            <a:chExt cx="0" cy="2714760"/>
          </a:xfrm>
        </p:grpSpPr>
        <p:sp>
          <p:nvSpPr>
            <p:cNvPr id="71" name=""/>
            <p:cNvSpPr/>
            <p:nvPr/>
          </p:nvSpPr>
          <p:spPr>
            <a:xfrm flipV="1">
              <a:off x="4716360" y="20588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16360" y="3066840"/>
              <a:ext cx="0" cy="170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68720" y="2131920"/>
            <a:ext cx="0" cy="2714760"/>
            <a:chOff x="4068720" y="2131920"/>
            <a:chExt cx="0" cy="2714760"/>
          </a:xfrm>
        </p:grpSpPr>
        <p:sp>
          <p:nvSpPr>
            <p:cNvPr id="74" name=""/>
            <p:cNvSpPr/>
            <p:nvPr/>
          </p:nvSpPr>
          <p:spPr>
            <a:xfrm flipV="1">
              <a:off x="4068720" y="21319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68720" y="3139920"/>
              <a:ext cx="0" cy="170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565440" y="2203200"/>
            <a:ext cx="0" cy="2714400"/>
            <a:chOff x="3565440" y="2203200"/>
            <a:chExt cx="0" cy="2714400"/>
          </a:xfrm>
        </p:grpSpPr>
        <p:sp>
          <p:nvSpPr>
            <p:cNvPr id="77" name=""/>
            <p:cNvSpPr/>
            <p:nvPr/>
          </p:nvSpPr>
          <p:spPr>
            <a:xfrm flipV="1">
              <a:off x="3565440" y="2203200"/>
              <a:ext cx="0" cy="1007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65440" y="3211200"/>
              <a:ext cx="0" cy="17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292720" y="2131920"/>
            <a:ext cx="0" cy="2714760"/>
            <a:chOff x="5292720" y="2131920"/>
            <a:chExt cx="0" cy="2714760"/>
          </a:xfrm>
        </p:grpSpPr>
        <p:sp>
          <p:nvSpPr>
            <p:cNvPr id="80" name=""/>
            <p:cNvSpPr/>
            <p:nvPr/>
          </p:nvSpPr>
          <p:spPr>
            <a:xfrm flipV="1">
              <a:off x="5292720" y="21319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3139920"/>
              <a:ext cx="0" cy="170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67240" y="51958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2565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62064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407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050560" y="386064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050560" y="4221000"/>
            <a:ext cx="17305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62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нование цили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48360" y="5157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нование цили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2133720"/>
            <a:ext cx="11527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580000" y="5229360"/>
            <a:ext cx="1440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3500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илиндрическая поверх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3640" y="386064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ь цили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419640" y="594972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18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нятие 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Цилиндр – тело, ограниченное цилиндрической поверхностью и двумя кру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0" t="51644" r="39696" b="0"/>
          <a:stretch/>
        </p:blipFill>
        <p:spPr>
          <a:xfrm>
            <a:off x="539640" y="4581360"/>
            <a:ext cx="2016360" cy="1752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меры моделей цилиндра в окружающе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084720" y="4581360"/>
            <a:ext cx="1920960" cy="133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556000" y="1989000"/>
          <a:ext cx="27432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19890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324000" y="126828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6156360" y="1268280"/>
            <a:ext cx="2397240" cy="2397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2843280" y="4076640"/>
            <a:ext cx="2976480" cy="239076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3203640" y="1125360"/>
            <a:ext cx="2590560" cy="2500200"/>
            <a:chOff x="3203640" y="1125360"/>
            <a:chExt cx="2590560" cy="2500200"/>
          </a:xfrm>
        </p:grpSpPr>
        <p:sp>
          <p:nvSpPr>
            <p:cNvPr id="219" name=""/>
            <p:cNvSpPr/>
            <p:nvPr/>
          </p:nvSpPr>
          <p:spPr>
            <a:xfrm>
              <a:off x="3851280" y="1125360"/>
              <a:ext cx="138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БАРАБ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8"/>
            <a:stretch/>
          </p:blipFill>
          <p:spPr>
            <a:xfrm>
              <a:off x="3203640" y="1268280"/>
              <a:ext cx="2590560" cy="235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43280" y="3718080"/>
            <a:ext cx="2087640" cy="647640"/>
          </a:xfrm>
          <a:prstGeom prst="ellipse">
            <a:avLst/>
          </a:prstGeom>
          <a:gradFill rotWithShape="0">
            <a:gsLst>
              <a:gs pos="0">
                <a:srgbClr val="ffff00">
                  <a:alpha val="43137"/>
                </a:srgbClr>
              </a:gs>
              <a:gs pos="100000">
                <a:srgbClr val="757500">
                  <a:alpha val="41176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1341360"/>
            <a:ext cx="2087640" cy="3024360"/>
          </a:xfrm>
          <a:prstGeom prst="can">
            <a:avLst>
              <a:gd name="adj" fmla="val 25000"/>
            </a:avLst>
          </a:prstGeom>
          <a:solidFill>
            <a:srgbClr val="ffff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2920" y="1701720"/>
            <a:ext cx="100800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1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155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2920" y="1701720"/>
            <a:ext cx="1440" cy="22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1280" y="364644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1701720"/>
            <a:ext cx="28083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 = OA –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 = O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0846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образующие цилиндра перпендикулярны основаниям, то такой цилиндр называется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ямым круговым цил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Цилиндр – тело, ограниченное цилиндрической поверхностью и двумя кру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100320" cy="3311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5148360" y="1773360"/>
            <a:ext cx="3448080" cy="336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5445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й цили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клонный цили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руг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илинд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71640" y="1628640"/>
            <a:ext cx="2448000" cy="3673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633800">
            <a:off x="684000" y="2349000"/>
            <a:ext cx="2943000" cy="2233800"/>
          </a:xfrm>
          <a:prstGeom prst="parallelogram">
            <a:avLst>
              <a:gd name="adj" fmla="val 6680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633800">
            <a:off x="684000" y="2349000"/>
            <a:ext cx="2943000" cy="2233800"/>
          </a:xfrm>
          <a:prstGeom prst="parallelogram">
            <a:avLst>
              <a:gd name="adj" fmla="val 6680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4365720"/>
            <a:ext cx="2448000" cy="936360"/>
          </a:xfrm>
          <a:prstGeom prst="ellipse">
            <a:avLst/>
          </a:prstGeom>
          <a:noFill/>
          <a:ln w="2844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197000"/>
            <a:ext cx="0" cy="489744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124000" y="53017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24000" y="1197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м способом можно получить цилинд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907920"/>
            <a:ext cx="46796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образуется вращением одной пары противоположных сторон прямоуголь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цилиндрическая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образуется вращением другой пары противоположных стор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два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628640"/>
            <a:ext cx="2448000" cy="93672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700360" y="1341360"/>
            <a:ext cx="3457440" cy="3672000"/>
            <a:chOff x="2700360" y="1341360"/>
            <a:chExt cx="3457440" cy="3672000"/>
          </a:xfrm>
        </p:grpSpPr>
        <p:grpSp>
          <p:nvGrpSpPr>
            <p:cNvPr id="125" name=""/>
            <p:cNvGrpSpPr/>
            <p:nvPr/>
          </p:nvGrpSpPr>
          <p:grpSpPr>
            <a:xfrm>
              <a:off x="2700360" y="1341360"/>
              <a:ext cx="3457440" cy="3672000"/>
              <a:chOff x="2700360" y="1341360"/>
              <a:chExt cx="3457440" cy="3672000"/>
            </a:xfrm>
          </p:grpSpPr>
          <p:sp>
            <p:nvSpPr>
              <p:cNvPr id="126" name=""/>
              <p:cNvSpPr/>
              <p:nvPr/>
            </p:nvSpPr>
            <p:spPr>
              <a:xfrm>
                <a:off x="4427640" y="1341360"/>
                <a:ext cx="1730160" cy="3672000"/>
              </a:xfrm>
              <a:prstGeom prst="rect">
                <a:avLst/>
              </a:prstGeom>
              <a:solidFill>
                <a:srgbClr val="ff66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00360" y="1341360"/>
                <a:ext cx="3456000" cy="3672000"/>
              </a:xfrm>
              <a:custGeom>
                <a:avLst/>
                <a:gdLst/>
                <a:ahLst/>
                <a:rect l="l" t="t" r="r" b="b"/>
                <a:pathLst>
                  <a:path w="1089" h="2313">
                    <a:moveTo>
                      <a:pt x="0" y="0"/>
                    </a:moveTo>
                    <a:lnTo>
                      <a:pt x="1089" y="0"/>
                    </a:lnTo>
                    <a:lnTo>
                      <a:pt x="1089" y="2313"/>
                    </a:lnTo>
                    <a:lnTo>
                      <a:pt x="0" y="231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427640" y="1341360"/>
              <a:ext cx="172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27640" y="5013360"/>
              <a:ext cx="172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360" y="1341360"/>
              <a:ext cx="0" cy="367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00360" y="692280"/>
            <a:ext cx="3527280" cy="4897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2f5e"/>
              </a:gs>
              <a:gs pos="50000">
                <a:srgbClr val="ff66cc">
                  <a:alpha val="24313"/>
                </a:srgbClr>
              </a:gs>
              <a:gs pos="100000">
                <a:srgbClr val="752f5e"/>
              </a:gs>
            </a:gsLst>
            <a:lin ang="10800000"/>
          </a:gra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609300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илиндр – фигура (тело) 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-340920" y="405000"/>
            <a:ext cx="4570200" cy="3887640"/>
            <a:chOff x="-340920" y="405000"/>
            <a:chExt cx="4570200" cy="3887640"/>
          </a:xfrm>
        </p:grpSpPr>
        <p:sp>
          <p:nvSpPr>
            <p:cNvPr id="134" name=""/>
            <p:cNvSpPr/>
            <p:nvPr/>
          </p:nvSpPr>
          <p:spPr>
            <a:xfrm>
              <a:off x="879120" y="1076040"/>
              <a:ext cx="1847520" cy="264636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9619400">
              <a:off x="-252000" y="1469880"/>
              <a:ext cx="4392720" cy="1627200"/>
            </a:xfrm>
            <a:prstGeom prst="parallelogram">
              <a:avLst>
                <a:gd name="adj" fmla="val 68951"/>
              </a:avLst>
            </a:prstGeom>
            <a:solidFill>
              <a:srgbClr val="ffccff"/>
            </a:solidFill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79120" y="2009520"/>
              <a:ext cx="0" cy="1401840"/>
            </a:xfrm>
            <a:prstGeom prst="line">
              <a:avLst/>
            </a:prstGeom>
            <a:ln w="28440">
              <a:solidFill>
                <a:srgbClr val="00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120" y="1076040"/>
              <a:ext cx="1847520" cy="674280"/>
            </a:xfrm>
            <a:prstGeom prst="ellipse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27000" y="1439280"/>
              <a:ext cx="0" cy="134784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9633800">
              <a:off x="668880" y="1591200"/>
              <a:ext cx="2221560" cy="1609200"/>
            </a:xfrm>
            <a:prstGeom prst="parallelogram">
              <a:avLst>
                <a:gd name="adj" fmla="val 7000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14360" y="1699560"/>
              <a:ext cx="0" cy="196884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37760" y="1128240"/>
              <a:ext cx="0" cy="1970280"/>
            </a:xfrm>
            <a:prstGeom prst="line">
              <a:avLst/>
            </a:prstGeom>
            <a:ln w="28440">
              <a:solidFill>
                <a:srgbClr val="00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9120" y="1076040"/>
              <a:ext cx="1847520" cy="674280"/>
            </a:xfrm>
            <a:prstGeom prst="ellipse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9120" y="3047760"/>
              <a:ext cx="1847520" cy="674640"/>
            </a:xfrm>
            <a:prstGeom prst="ellipse">
              <a:avLst/>
            </a:prstGeom>
            <a:noFill/>
            <a:ln w="28440">
              <a:solidFill>
                <a:srgbClr val="0066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8880" y="765000"/>
              <a:ext cx="0" cy="352764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748880" y="3722040"/>
              <a:ext cx="0" cy="56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748880" y="764640"/>
              <a:ext cx="0" cy="56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003640" y="189000"/>
            <a:ext cx="3841920" cy="3816360"/>
            <a:chOff x="5003640" y="189000"/>
            <a:chExt cx="3841920" cy="3816360"/>
          </a:xfrm>
        </p:grpSpPr>
        <p:grpSp>
          <p:nvGrpSpPr>
            <p:cNvPr id="148" name=""/>
            <p:cNvGrpSpPr/>
            <p:nvPr/>
          </p:nvGrpSpPr>
          <p:grpSpPr>
            <a:xfrm>
              <a:off x="5003640" y="582840"/>
              <a:ext cx="3841920" cy="3366000"/>
              <a:chOff x="5003640" y="582840"/>
              <a:chExt cx="3841920" cy="336600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640" y="3051720"/>
                <a:ext cx="3841920" cy="897120"/>
              </a:xfrm>
              <a:prstGeom prst="parallelogram">
                <a:avLst>
                  <a:gd name="adj" fmla="val 107063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68520" y="1536120"/>
                <a:ext cx="1654200" cy="22428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68520" y="3219840"/>
                <a:ext cx="1654200" cy="559080"/>
              </a:xfrm>
              <a:prstGeom prst="ellipse">
                <a:avLst/>
              </a:prstGeom>
              <a:noFill/>
              <a:ln w="28440">
                <a:solidFill>
                  <a:srgbClr val="00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03640" y="1310400"/>
                <a:ext cx="3841920" cy="898560"/>
              </a:xfrm>
              <a:prstGeom prst="parallelogram">
                <a:avLst>
                  <a:gd name="adj" fmla="val 106891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520" y="582840"/>
                <a:ext cx="1654200" cy="14018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68520" y="1368000"/>
                <a:ext cx="1654200" cy="6166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68520" y="1704240"/>
                <a:ext cx="0" cy="504720"/>
              </a:xfrm>
              <a:prstGeom prst="line">
                <a:avLst/>
              </a:prstGeom>
              <a:ln w="28440">
                <a:solidFill>
                  <a:srgbClr val="00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23080" y="1704240"/>
                <a:ext cx="0" cy="504720"/>
              </a:xfrm>
              <a:prstGeom prst="line">
                <a:avLst/>
              </a:prstGeom>
              <a:ln w="28440">
                <a:solidFill>
                  <a:srgbClr val="0066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895800" y="189000"/>
              <a:ext cx="0" cy="381636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763640" y="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ечения 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14972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чение плоскостью, проходящей через ось –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осевое сечени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7640" y="4076640"/>
            <a:ext cx="47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чение плоскостью, параллельной основаниям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305320"/>
            <a:ext cx="43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рямоугольни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одна сторона которого равн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сот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цилиндра, другая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иаметру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4869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равный основаниям цили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76480" y="255600"/>
            <a:ext cx="0" cy="439092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076480" y="3936600"/>
            <a:ext cx="0" cy="70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076480" y="255240"/>
            <a:ext cx="0" cy="70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928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лоскостью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араллель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си 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3097080"/>
            <a:ext cx="2195640" cy="908280"/>
          </a:xfrm>
          <a:prstGeom prst="ellipse">
            <a:avLst/>
          </a:prstGeom>
          <a:noFill/>
          <a:ln w="2844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852640"/>
            <a:ext cx="43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рямоугольни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одна сторона которого равн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сот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цилиндра, другая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лине хорды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480200">
            <a:off x="539640" y="1557000"/>
            <a:ext cx="3961080" cy="2016000"/>
          </a:xfrm>
          <a:prstGeom prst="parallelogram">
            <a:avLst>
              <a:gd name="adj" fmla="val 71962"/>
            </a:avLst>
          </a:prstGeom>
          <a:solidFill>
            <a:srgbClr val="ffccff">
              <a:alpha val="55000"/>
            </a:srgbClr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390800">
            <a:off x="1423800" y="1477440"/>
            <a:ext cx="2522520" cy="1938600"/>
          </a:xfrm>
          <a:prstGeom prst="parallelogram">
            <a:avLst>
              <a:gd name="adj" fmla="val 7605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692280"/>
            <a:ext cx="2184480" cy="32940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6156000" y="907560"/>
            <a:ext cx="2737080" cy="3609000"/>
            <a:chOff x="6156000" y="907560"/>
            <a:chExt cx="2737080" cy="3609000"/>
          </a:xfrm>
        </p:grpSpPr>
        <p:sp>
          <p:nvSpPr>
            <p:cNvPr id="173" name=""/>
            <p:cNvSpPr/>
            <p:nvPr/>
          </p:nvSpPr>
          <p:spPr>
            <a:xfrm>
              <a:off x="7164360" y="1411200"/>
              <a:ext cx="1728720" cy="259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4360" y="3355920"/>
              <a:ext cx="1728720" cy="649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53440" y="198756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1700280"/>
              <a:ext cx="0" cy="20160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028000" y="90756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8028000" y="364500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53440" y="3716280"/>
              <a:ext cx="574560" cy="2160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092720" y="3716280"/>
              <a:ext cx="865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156000" y="1700280"/>
              <a:ext cx="187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6360" y="3716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170028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48360" y="4148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4720" y="2133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707800">
              <a:off x="7740720" y="36450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6303960" y="2560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0920" y="189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оков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1700280"/>
            <a:ext cx="4824360" cy="201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134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1640" y="378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37893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292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ертка боковой поверхности цилиндра –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прямоугольни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одна из смежных сторон которого            равн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соте (длине образующей) цилинд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    а другая равн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лине окружност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58770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боковой поверхности цилиндра равна площади его развер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1989000"/>
            <a:ext cx="4824360" cy="201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5280" y="162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4076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4076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48428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213372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Bodoni MT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602136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бо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= 2</a:t>
            </a:r>
            <a:r>
              <a:rPr b="1" lang="el-GR" sz="3600" spc="-1" strike="noStrike">
                <a:solidFill>
                  <a:srgbClr val="ff0000"/>
                </a:solidFill>
                <a:latin typeface="Bodoni MT"/>
              </a:rPr>
              <a:t>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6021360"/>
            <a:ext cx="3958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полн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= 2</a:t>
            </a:r>
            <a:r>
              <a:rPr b="1" lang="el-GR" sz="3600" spc="-1" strike="noStrike">
                <a:solidFill>
                  <a:srgbClr val="ff0000"/>
                </a:solidFill>
                <a:latin typeface="Bodoni MT"/>
              </a:rPr>
              <a:t>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+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09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076640"/>
            <a:ext cx="1655640" cy="16560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2060640"/>
            <a:ext cx="331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 –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диус основания цилинд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 -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549360"/>
            <a:ext cx="50036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АВВ</a:t>
            </a:r>
            <a:r>
              <a:rPr b="1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 baseline="-24000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А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АВ 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Bodoni MT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4724280"/>
            <a:ext cx="50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пол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ос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000000"/>
                </a:solidFill>
                <a:latin typeface="Bodoni MT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2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260280"/>
            <a:ext cx="1655640" cy="16560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7:26:52Z</dcterms:created>
  <dc:creator>Nataly</dc:creator>
  <dc:description/>
  <dc:language>en-US</dc:language>
  <cp:lastModifiedBy>Nataly</cp:lastModifiedBy>
  <dcterms:modified xsi:type="dcterms:W3CDTF">2008-01-12T21:42:20Z</dcterms:modified>
  <cp:revision>16</cp:revision>
  <dc:subject/>
  <dc:title>Слайд 1</dc:title>
</cp:coreProperties>
</file>