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747-4092-4A35-B893-FA18B2E6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39A-EAEB-4DF5-AA21-97C9DA9A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C0B53-5D81-4C9C-8B38-5DD9FC4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A61CB-F26F-446E-999C-3E90ABA1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D238B-C963-4A3C-B1CA-F958AF1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3DCF3-8A3D-4133-B930-36DC1D2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10E5C-3E32-4D97-A217-705D62A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8551E-C392-4F4D-A6B6-8C1C023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41DB2-4F95-41D6-8F59-0ED5C73F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0C27E-A6A7-4D3A-8799-46258D6D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4000D-9DB0-429A-9CE1-B8F728FA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21C5A-2421-4BF0-8D32-59305D5F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50C-2495-4C32-9E3D-18AB2E99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3CCA8-5E90-4D58-83D9-D723759D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90D09-FC9A-42AE-A6EF-76636EA5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10EF4-8193-41FD-939D-96892026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1916D-D4ED-4495-A1F6-E090F005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D55A3-5BD5-4C40-B719-C3AAE77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2CAD1-2DFA-40B8-B51A-4AF8640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413D9-59AD-4740-92E6-4701AEA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89397-31D8-42DF-A75E-3B6B303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7D875-2BAC-4632-906A-B645E18B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A4E2A-7552-401A-B246-F68EF083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044-8962-402A-BBCE-D1FE26D9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21E29-B341-4DF6-89F6-ED3E4614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0B3F-9158-460A-88A2-4A8D38A0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9E3D-F6ED-45D6-A2AA-5B2E5F1C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85A07-6855-4AB2-9577-FEAD9427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6CD89-701C-402B-B0BA-2C9C1D40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E83FD-1846-413E-BC89-86A6CA33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694A1-A3F7-442C-8620-E299B261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3F87-2779-430B-8347-3813AC4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2B5BF-5A78-4174-AF11-76310D4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F079-06AC-4DF8-8569-D9DAEC1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688-9B0C-4D31-B5BA-9F9565D9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4ED32-5E54-4177-89F2-D2FEF1F7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B010-158A-42B4-8DD1-73C1FD16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58BF-5C30-4326-ABF1-E565462B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18A14-ECAA-4A61-8FAE-4385C0B1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2323A-F7F1-4470-B952-9D3DEC2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6136D-75E6-4094-80E7-475027B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72CD6-6B62-43CB-9549-5C37AAF7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1E7C9-DB3A-49D6-99A3-F495805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D71D6-E598-4404-90ED-F3F1AFF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462E9-B147-4AB9-86C0-4EA4EB9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D735-8884-4832-8854-F89BF75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18F1B-A153-4493-A246-2EDF952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325EA-4737-4D49-A1F2-AB88529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1E651-035B-4A2C-878E-451F5774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76ADE-6357-4C8F-A6AC-E9A22C4C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0C05A-7A1D-4D75-8822-4E9C6917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86C6-BA54-49E9-AFCD-89EB38A6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7F13-82EC-474B-9DE8-049D6D75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771-5D70-41E3-9436-6840C0F6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B56D-893E-45D5-8925-C1EC0F5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5CFD-CE99-4121-ACD3-AAF2F45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977-07C3-4478-AA5F-55E110C5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F26-3582-486C-A596-AFA7D2A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725-E676-4513-9B86-734E7F7D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69EC-B75F-4E1D-A0C5-C709E62E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C2C-EB53-4CA9-98C0-F0BCC7A6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B904-E2E8-423C-BE1A-40C6F638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C43D-6DBE-4E25-9E6D-ADB214EF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84EF-9050-42FD-8E40-4A47B018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753D-36B5-48F6-B0F2-DDFF9617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3DBE-A41A-434B-B55F-F396ABB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2B16-7E48-433D-9862-6C497D53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4C9-37BC-4218-9313-5DC7B71E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E92E-B7EF-4AF4-8A04-66741CFC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0DDA-77DF-452D-82C4-F1DB259E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C9EF-6C12-4965-855F-1F4D1CF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A93A-5DB0-4141-AB3A-DB8ED322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B935-80B0-4453-85A3-22C9B9D9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6E4E-9C08-4B21-BC68-D9543CBD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7575-45CF-4821-A87C-14432A7F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334A-AD99-448D-8EDF-59FC247B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55D2-4878-4ECE-B979-F86C145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5E07-A9FE-477D-B060-C555F88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F89-AD0B-4C83-8621-45495744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4DE4-086B-4866-8AD5-08CE7DC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17E6-4B24-41CF-BF63-4D9738C4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2CE7-8F76-471E-A741-98FF1D95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9F20-D455-464C-B90F-FDE24802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C7B8-42D0-4104-9A9E-EAC71505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E39C-661A-41B4-93A2-3A11D1E4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6832-200B-4415-A3EB-9530E66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6BCD-F862-4D8D-9D1A-42ED44FE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B1D44-704C-4A8B-B10B-9A4F9FAF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C5A6-C55C-440E-A9F8-78B98035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11B-3E9E-4DEF-87D6-825FF04D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5CCE-BD0A-4936-8414-29C0A67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961E-FABC-4BB9-B273-D9E961EA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15ECE-D090-43A0-9BE4-C1788A8C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1C27-E308-4F3B-AFA9-D2547DC3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5D46-789E-4615-84DD-4E34B7FB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1880-70A5-4A68-B9A7-1A72103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F106-4371-408B-919B-4DA1DB0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6CF7-9F1E-43B5-85FB-1056C46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9B7D-D438-4584-A0C5-1E36FFC8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9D17-CE28-452F-B5B0-F5FFFF13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526-89ED-4377-8521-C0AE225D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7D975-BAE5-4942-B3E7-C83C9D74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9EF6-46D5-4A6E-93F8-FF861B22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B0FE-4C21-4711-B829-9B5E8B2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7FA5F-5840-4D09-97CF-73808475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EB63B-9209-4652-8B41-BE607B3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4F5B-B94C-415B-B6A7-3F051F67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7CA6-4496-4933-BDAC-1BCF49EB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1011-FBE9-46A9-B0B8-3668EF8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70BED-78F1-4A03-B79C-E3B088F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6B2F-C738-4BB6-971B-53B9FBC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C67-0475-44EE-B814-3E096A5E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6F8AE-563A-4E7E-A197-44213B69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5D8E7-6C56-4E70-9326-7210797E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2784-EF10-451C-9009-56B64AFE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4A8A-B87C-410D-8110-01BADBC9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150D-E616-4010-BCD5-B817BAD9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E879C-3F5C-4896-9434-74543C77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354EB-CAEC-463B-8B4A-6FB33DD8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C8A3-6051-4AC8-9798-1C548495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86DD-4C9A-4052-990D-F20003A8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B7B5-6952-41C5-A730-EE0AF10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7AF-9EA5-497F-9286-62C1176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126A9-E031-4B8F-9F1F-F2954E47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5098-D5CB-4726-AEEA-B80E85A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7C17-3A24-4C12-85FF-5ED787EB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93F1-B8AF-4884-95E1-C9B60E3D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DCBF-BCC1-4E84-B0DA-999EBF8C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2307E-A87F-42EA-81A2-7BC902AE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D507-D01F-4642-B2D9-D5D060A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21ED-C66D-4FB8-A42E-2F6CF4A1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02EF-0855-4760-88A1-23A9EE7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67DDB-07FE-49F9-8BBE-9732C7C2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ECF-B480-4727-BB24-5EC1409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F076E-8E85-4DAE-9557-817F1644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5B29-9073-4155-B2E7-87C78B3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47A3-B2A0-4C37-8516-71408181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B756B-7AD9-47B7-A580-6BECCD6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532E6-83E7-48BE-8FE3-75F1D1B7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C237-3E86-4817-B8B1-DE7E9B27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E556-712D-4306-BAF9-FA1BC68E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8D3A0-DBD8-4752-9CFD-B79A569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8D044-7393-48CC-A934-C2D79A4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BF10A-8B5E-4A3F-BCBE-B32B4754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F4AC-4036-46CB-93A9-407F3310C325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09F5-94CA-474B-8085-F21EF6883331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1E1F-35FB-4242-89FF-7148FFA076E1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485E-DA05-4BA1-B653-7F4518EC987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85A-159F-4E3C-9D7F-E4987E74DB11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0AE0-1094-422F-9C35-784DD7E9F9C1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1814-325D-4623-8FD0-453AAD607DA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296-F065-4CA6-B1F9-338C573CBE1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989A-1574-4862-946B-F289F0BCDAEE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C5E-6D47-4C1B-8144-72D3DBC40A9E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3E15-3069-4902-970A-EFCF83F01D3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A36A-4BDE-484F-93AA-DA320C1D6CC8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ЦИРК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643960" cy="4929480"/>
          </a:xfrm>
          <a:prstGeom prst="rect">
            <a:avLst/>
          </a:prstGeom>
          <a:ln w="0">
            <a:noFill/>
          </a:ln>
        </p:spPr>
      </p:pic>
      <p:pic>
        <p:nvPicPr>
          <p:cNvPr id="608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" descr=""/>
          <p:cNvPicPr/>
          <p:nvPr/>
        </p:nvPicPr>
        <p:blipFill>
          <a:blip r:embed="rId3"/>
          <a:stretch/>
        </p:blipFill>
        <p:spPr>
          <a:xfrm>
            <a:off x="214200" y="1357200"/>
            <a:ext cx="8643960" cy="4929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4"/>
          <a:stretch/>
        </p:blipFill>
        <p:spPr>
          <a:xfrm>
            <a:off x="214200" y="1357200"/>
            <a:ext cx="8643960" cy="49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В цирке выступают: КЛОУНЫ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68580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ДРЕССИРОВЩИКИ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554120" y="2070000"/>
            <a:ext cx="599904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ДРЕССИРОВАННЫЕ       ЖИВОТНЫЕ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792936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ВОЗДУШНЫЕ  ГИМНАСТЫ</a:t>
            </a: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 </a:t>
            </a: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АКРОБАТЫ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601640" y="1841400"/>
            <a:ext cx="59040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ФОКУСНИКИ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506600" y="1527120"/>
            <a:ext cx="60944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b2627"/>
                </a:solidFill>
                <a:latin typeface="Georgia"/>
              </a:rPr>
              <a:t>СИЛАЧИ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71438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15:21Z</dcterms:created>
  <dc:creator>User</dc:creator>
  <dc:description/>
  <dc:language>en-US</dc:language>
  <cp:lastModifiedBy>User</cp:lastModifiedBy>
  <dcterms:modified xsi:type="dcterms:W3CDTF">2019-12-08T15:33:37Z</dcterms:modified>
  <cp:revision>15</cp:revision>
  <dc:subject/>
  <dc:title>ЦИРК</dc:title>
</cp:coreProperties>
</file>