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572-7696-4544-9F66-2FC1A1F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09F-6914-465D-82F0-3F3FE750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8162-A7ED-47A1-9F88-20F16486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4183D-5E18-4EE8-B2C5-8054819C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1E891-0D62-4986-BE6A-51F0EF4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2528D-F99D-4E89-8264-48E3286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019F6-B943-44A5-AAC9-1AD3D20A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80A8A-9966-48AC-A8E6-AA189BFE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5A661-6D3A-4346-90AC-7374B4E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713B6-42E3-4890-A3E0-8F323ECD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C2F24-99CD-4B48-BBD5-F264A0E3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C8A-28A3-456D-9401-2E884073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8ED-DB4A-4E16-93FA-B9DEC79A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4677-E700-4431-9EF6-C513B256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A547-5C84-4E3E-BC05-6DD0452A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5F91-EAB8-4862-9CB7-FF022898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9D65-D3BA-498F-A004-9EFB4DE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0998-3CE9-4835-BE75-DFF026B2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94A-5113-4788-A4EE-84A3A4A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DBEA-C464-4857-863C-40AAD32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457-E8EF-4817-9C8C-668CAE89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661-96D3-4676-BBFD-3103730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F219-A443-4210-91E4-62F36B4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062E-5ACC-4A2F-AB3D-4F39FEAE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A185-F8DD-4F8B-9213-9DAD477E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3B3F-75C3-4725-ADCE-FD204EB2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C3672-ADE6-470F-A853-A33B090E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7D97-DBAB-47FC-81A0-8A6C0200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5535-FCFC-46BE-99BC-89DA6543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758D-D62C-4410-A342-11A24FA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774B-9AEE-4584-B7AE-00D40458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F1D-FAEE-49B6-B081-CD8191C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5674-96CE-4ACE-9416-482C3FF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6E61-4DC9-4321-BA82-0E7AE2FF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9AA4-8B25-4BAA-9D4D-EED0FDB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EA21-8DA0-4602-9A33-DC2970E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0A9F-D029-4796-9C67-B07D2DD4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34EC-7312-4951-B581-34B2DBF5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653E-99DF-4B71-A0FE-F6329B7F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211D-89F5-4EAC-8749-DAFF169E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19EB-CF5B-4AAC-8ADA-6E89006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A3AB-EA6E-4F84-8403-75D48C1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E6F-50F8-44E5-9231-67C815AC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8417-5469-42C0-BDBE-4E0C9AC4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96E3-3342-45E3-9A33-8E68B033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FA1B-7CE0-41D8-AB59-A7E69EFF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7D24-35A2-492C-AADB-1BBBF48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757B-A187-4E6B-87A2-24129CE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1775C-7609-49F3-B072-1C82FD2A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0B47-3DFE-4213-8851-183FE0CF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B241-C1BF-4478-9117-0842FE99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5DCD-4E19-4468-AF0C-E087D5D1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CEEC-980D-45E4-B8EB-BD49C3C9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8CD-E143-47B2-A508-6CB0253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67475-17B3-477B-8716-0CE32915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98595-682B-43E1-8B6E-DEE1EAE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8929-E8A5-460D-A9C2-3603000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7966-56DB-41EC-B97E-F75CA4C3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5C51-9EBD-47A8-B8AF-17E91B86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E796-AD3D-4489-8DEE-44DAEC8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57F7-59F1-48FB-9460-C5348F0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DA22-F8A6-402E-91FC-7BF11EBA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97AD-8D6D-48E0-841D-612F681F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69998-5986-416E-9E4B-5DC28B0B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1FD-C448-44EF-8D76-F93E6510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01A0-3B6F-412E-87AC-84D8B10C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FF69-3F48-4157-8EDB-A67CAE80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83168-CF6B-4379-97CB-CCFBBE94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E3F7-A545-491E-9E4C-929017E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1B43-6E40-4D20-A9A0-8E313C2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A980-5C4F-470F-BC55-6D068D2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64CA3-5047-467D-AAAE-D1DB85F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DD63-60AF-4247-A816-C038DF72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40FA-FF4D-42FD-B090-86C2D13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7F1F-5F43-4D2D-AACE-031D9D0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D1A-26AB-4850-9186-1CDD7D7C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84F7-0545-4281-AACB-FB250A5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2B26D-FE18-43F8-84B7-996070E7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54419-100B-4D4F-A24A-B6EB3700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7AC1-0563-4CC1-B7BC-D50AB2AC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DE549-EB69-4132-81FB-DB360D7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40983-555E-4ADA-AAEC-F021540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ECEFE-1E6B-420A-A4C9-2D475C7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74C3-97A9-4C66-840B-C238C710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F96D-702F-4A81-BD03-7956468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46079-2719-4634-AA03-C8E0317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B95-B05D-4893-AF6B-07D9514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16C84-58E9-4F66-AEAF-5A6034D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137F-C3A4-49C8-A7AC-EDE6C97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1A26-F255-47A0-9E09-3785CB77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3F451-87FF-4761-AA2E-7947212E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CAB4-6F14-450B-AFF7-93ABA611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26EEE-CD6B-4B2F-BA97-ECACEBD7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FA537-4F20-47C4-B2F5-B28AFBE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9FEAE-D0AD-4469-A294-360FFA3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4C7C1-190A-4452-8E9F-B85618C1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E7728-0DA2-40DD-9912-B54A4866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C19-BB25-46BF-B49F-0CC8B3D1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79727-1883-4712-A74D-E7AFEE13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A9DD-BCC1-4633-B334-402B91B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884E-E001-4656-9100-D02B3D38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F2B0-DC99-4F94-8C9C-A838E8E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7678-B1E9-453A-A1A3-3F98E69E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5B16-F248-43E3-BA69-2E126CAC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C0BC9-C764-4740-BE16-AB5D193D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AE1CA-2339-4EE3-8931-E047C5A0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220F2-9ECB-474B-92B1-80C2444A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2C1B4-5DCA-4DD9-8F6E-AE0458EE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A75D-BF44-4EB4-900F-A8D6A1EBA2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94B-B17F-4F6D-A54D-3940295047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576F-1BB8-4936-874A-3462171BE2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9D42-A431-4845-A944-774044E21A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FDD6-1A73-431D-B8E7-F4D3990FAE5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73AD-CCB9-4BE4-8745-EAA9CC377F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97E-049D-4DFB-B580-4C3E548651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9C1F-8AFD-48BF-9E7F-0584FE3EBE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8C0F-FAEF-4769-AD25-2819E026D2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9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http://worldjourney.ru/uploads/posts/2012-12/1356107110_great_pyramid_of_giza2.jpg"/>
          <p:cNvPicPr/>
          <p:nvPr/>
        </p:nvPicPr>
        <p:blipFill>
          <a:blip r:embed="rId2"/>
          <a:stretch/>
        </p:blipFill>
        <p:spPr>
          <a:xfrm>
            <a:off x="-6480" y="2567160"/>
            <a:ext cx="5085000" cy="42973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3" descr="http://worldjourney.ru/uploads/posts/2012-12/1356107110_great_pyramid_of_giza2.jpg"/>
          <p:cNvPicPr/>
          <p:nvPr/>
        </p:nvPicPr>
        <p:blipFill>
          <a:blip r:embed="rId3"/>
          <a:srcRect l="58693" t="0" r="0" b="0"/>
          <a:stretch/>
        </p:blipFill>
        <p:spPr>
          <a:xfrm>
            <a:off x="5500800" y="2643120"/>
            <a:ext cx="3176640" cy="40323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5214960" y="2643120"/>
            <a:ext cx="3929040" cy="5214960"/>
          </a:xfrm>
          <a:prstGeom prst="rect">
            <a:avLst/>
          </a:prstGeom>
          <a:gradFill rotWithShape="0">
            <a:gsLst>
              <a:gs pos="0">
                <a:srgbClr val="ffffff">
                  <a:alpha val="4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7"/>
          <p:cNvSpPr/>
          <p:nvPr/>
        </p:nvSpPr>
        <p:spPr>
          <a:xfrm>
            <a:off x="1210320" y="333360"/>
            <a:ext cx="748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Franklin Gothic Book"/>
              </a:rPr>
              <a:t>Урок геометрии в 7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Franklin Gothic Book"/>
              </a:rPr>
              <a:t>Решение задач по те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Franklin Gothic Book"/>
              </a:rPr>
              <a:t>«Смежные и вертикальные уг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Franklin Gothic Book"/>
              </a:rPr>
              <a:t>Перпендикулярные прям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906 2.48555E-006 L -3.05556E-006 2.48555E-006 E">
                                      <p:cBhvr>
                                        <p:cTn id="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8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6840" cy="50022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2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Franklin Gothic Book"/>
              </a:rPr>
              <a:t>Геометрия является самым могущественным средством для изощрения наших умственных способностей и дает нам возможность правильно мыслить и рас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1476360" y="6130800"/>
            <a:ext cx="6121440" cy="7272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2484360" y="83664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Л   У  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2411280" y="155736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У   Г  О  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1835280" y="2276640"/>
            <a:ext cx="44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Г   Р  А  Д  У  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1547640" y="2924280"/>
            <a:ext cx="55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С  М  Е Ж  Н Ы 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1"/>
          <p:cNvSpPr/>
          <p:nvPr/>
        </p:nvSpPr>
        <p:spPr>
          <a:xfrm>
            <a:off x="900000" y="37162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Г   Е  О М  Е Т   Р  И  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971640" y="44370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А  С  Т  Р  О Л  Я   Б  И 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50920" y="515772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ВЕ  Р  Т   И К  А  Л  Ь  Н  Ы 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1547640" y="609300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5400" spc="-1" strike="noStrike">
                <a:solidFill>
                  <a:srgbClr val="7030a0"/>
                </a:solidFill>
                <a:latin typeface="Franklin Gothic Book"/>
              </a:rPr>
              <a:t>Г    А   Л  И   Л   Е   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285920" y="571680"/>
            <a:ext cx="4824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1.  Часть прямой, ограниченная с одной стороны точкой, а с другой стороны - бескон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6"/>
          <p:cNvSpPr/>
          <p:nvPr/>
        </p:nvSpPr>
        <p:spPr>
          <a:xfrm>
            <a:off x="642960" y="1428840"/>
            <a:ext cx="6985080" cy="93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2.Геометрическая фигура, образованная двумя  лучами, выходящими из одной 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2071800" y="2000160"/>
            <a:ext cx="381636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3.Единица измерения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8"/>
          <p:cNvSpPr/>
          <p:nvPr/>
        </p:nvSpPr>
        <p:spPr>
          <a:xfrm>
            <a:off x="285840" y="2786040"/>
            <a:ext cx="6985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7. </a:t>
            </a: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4.Два угла с общей вершиной, одна из сторон которых — общая. Что за уг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9"/>
          <p:cNvSpPr/>
          <p:nvPr/>
        </p:nvSpPr>
        <p:spPr>
          <a:xfrm>
            <a:off x="500040" y="3786120"/>
            <a:ext cx="7777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5. Раздела математики. Наука, которая появилась в Древней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0"/>
          <p:cNvSpPr/>
          <p:nvPr/>
        </p:nvSpPr>
        <p:spPr>
          <a:xfrm>
            <a:off x="1000080" y="4357800"/>
            <a:ext cx="6553080" cy="93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6.Прибор для измерения углов на мес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21"/>
          <p:cNvSpPr/>
          <p:nvPr/>
        </p:nvSpPr>
        <p:spPr>
          <a:xfrm>
            <a:off x="571680" y="5143680"/>
            <a:ext cx="7848360" cy="93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7.Стороны одного угла являются продолжениями сторон другого. Что за уг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-273240" y="404640"/>
            <a:ext cx="934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Зада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межные углы относятся как 1:2. Найдите э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межные уг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-632160" y="3214800"/>
            <a:ext cx="1035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Franklin Gothic Book"/>
              </a:rPr>
              <a:t>Зада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дин из углов, образовавшихся при пересеч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вух прямых, равен 21˚. Найдите остальные уг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" descr="C:\Users\НР\Desktop\Школьный кроссворд\shkolnye_kartinki_uchenikam.jpg"/>
          <p:cNvPicPr/>
          <p:nvPr/>
        </p:nvPicPr>
        <p:blipFill>
          <a:blip r:embed="rId1"/>
          <a:stretch/>
        </p:blipFill>
        <p:spPr>
          <a:xfrm>
            <a:off x="5643720" y="1484280"/>
            <a:ext cx="2612880" cy="187488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428760" y="5143680"/>
            <a:ext cx="814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.З. Э.Н.Балая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«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стр.20, №14 стр.21, №15 стр.24, №21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«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стр.20, №8 стр.20, №2 стр.23, №9 стр.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«3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стр.20, №7 стр.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934920" y="1507320"/>
            <a:ext cx="758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Сегодня  на уроке я повторил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Сегодня на уроке я узнал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Мне было сложно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http://5klass.net/datas/geometrija/Geometrija-parallelogramm-8-klass/0016-016-Itogi-uroka.jpg"/>
          <p:cNvPicPr/>
          <p:nvPr/>
        </p:nvPicPr>
        <p:blipFill>
          <a:blip r:embed="rId1"/>
          <a:srcRect l="0" t="52504" r="0" b="6551"/>
          <a:stretch/>
        </p:blipFill>
        <p:spPr>
          <a:xfrm>
            <a:off x="0" y="3976560"/>
            <a:ext cx="9144000" cy="2881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1842840" y="64296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Подведе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0:58:16Z</dcterms:created>
  <dc:creator>НР</dc:creator>
  <dc:description/>
  <dc:language>en-US</dc:language>
  <cp:lastModifiedBy>Наталья</cp:lastModifiedBy>
  <dcterms:modified xsi:type="dcterms:W3CDTF">2019-12-08T20:36:25Z</dcterms:modified>
  <cp:revision>75</cp:revision>
  <dc:subject/>
  <dc:title>Монич Татьяна Евгеньевна учитель математики</dc:title>
</cp:coreProperties>
</file>