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6.gif" ContentType="image/gif"/>
  <Override PartName="/ppt/media/image4.png" ContentType="image/png"/>
  <Override PartName="/ppt/media/image24.gif" ContentType="image/gif"/>
  <Override PartName="/ppt/media/image11.gif" ContentType="image/gif"/>
  <Override PartName="/ppt/media/image28.gif" ContentType="image/gif"/>
  <Override PartName="/ppt/media/image8.png" ContentType="image/png"/>
  <Override PartName="/ppt/media/image30.gif" ContentType="image/gif"/>
  <Override PartName="/ppt/media/image27.gif" ContentType="image/gif"/>
  <Override PartName="/ppt/media/image7.png" ContentType="image/png"/>
  <Override PartName="/ppt/media/image9.gif" ContentType="image/gif"/>
  <Override PartName="/ppt/media/image10.gif" ContentType="image/gif"/>
  <Override PartName="/ppt/media/image12.gif" ContentType="image/gif"/>
  <Override PartName="/ppt/media/image13.gif" ContentType="image/gif"/>
  <Override PartName="/ppt/media/image31.gif" ContentType="image/gif"/>
  <Override PartName="/ppt/media/image32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5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25.gif" ContentType="image/gif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B70-665F-4AC4-8C48-A1EDAC5F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031-2A42-4CD5-AE5E-45FD6DF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30581-5132-43DA-9FAA-C7F5F3C0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E8FC3-CADA-4962-BEE8-02522842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13B84-9D4F-4814-864E-60C77597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D57E-29A6-4E48-840A-EB4B24D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87152-98BE-4AA1-BD61-2581804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8CEFE-9325-4B63-B2A0-B481E8C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3CE05-D180-4C08-AFF9-AC71AE98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0D29C-B247-40A2-8183-40F0FF39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4048D-2A12-4C28-8D60-31AB3AC2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2B58D-BAE5-4024-85A5-0D0B0BEC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A7C-26C6-482C-88AF-43ECA7DE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2A38F-80E6-4487-9A57-D93A937A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85E91-F875-43E2-B52D-A87C9756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0E861-B189-480D-8616-954C6F3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84ACD-A2B2-4639-B089-0301562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1A7F6-1D5B-4707-8666-F0746677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D3973-686F-47C7-9CC7-37B3807E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B0421-C989-4596-91F0-1CF92B8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A1476-B234-4032-A099-DA4FF9D0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B5675-CAA4-4845-97C5-43BFB55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FEA37-9133-4C6D-B168-DD5CBD35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83B-4431-487E-B56A-E7F4D8BE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96A96-2A29-4ED9-9AF4-BCE16929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BA36D-9E09-44F4-A96D-40EB5173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10034-43B0-4D95-9A05-452C214F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91F47-6CAE-4425-A201-4F433EB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A665E-883D-4158-99A5-98A00773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6886D-4BA2-48BD-9130-4451B36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AC7C7-86A1-49BA-AD4E-D9EE72A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3B80E-431F-4286-9209-F4B000CB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E3D6B-6C38-4637-A350-44C59AA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CA49C-D566-4F29-A95C-18240CB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A6AA-F169-4DBA-A23F-DA04CC06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1D781-8B0D-45B6-B133-C55D75B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5A7A7-3FD6-4B42-AD51-4E2AE11C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25172-2077-4AA0-BA19-383E66F8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980-3E88-4871-BD8B-8D7B14AF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02EA-4EA0-4B80-9A38-E693F28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9314-9810-4328-988D-F4EAF299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EB54-6310-41C6-B1B4-BA9FD715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C7A-74E7-4CBF-BB99-8FEF3AC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553E-D460-4CDF-9F63-7E5E697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2A0-4B4A-4526-B75D-4413E5D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EF26-37E8-4354-BE3A-A74A1B6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3893-7BEB-4E32-8833-5244B1DE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6316-648E-4E51-8E6E-FCFB09F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79D-DA61-4B04-9CEC-D8DE57D0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8AD1-DC73-4B3B-93E0-E91835F2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EA44-13FC-4EDF-B2EE-DC252DD2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74AF-A3C7-4A3F-9DC6-277966BD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44CD-534C-48E6-BC9A-A00B410F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5067-1536-4B01-8FA4-EC7FEC92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E9FC-5697-47F9-BF95-27ACB2D2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DB4-FAD2-4263-A9B5-8F8874B1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E9ED-9D6D-46F6-95E0-85F6E693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7A9F-EFB3-4B05-A7F0-6B08ADCB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F594-D352-49CA-ACAB-0A79EEBC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466F-63A6-4571-961C-7A71026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CD23-D6F6-41A4-9F7E-50E456B6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C596-BE1A-4B49-A96F-B3946907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DBC4-05F5-418A-9B58-45C268D4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6E1D-7CB7-4D0D-A71E-B8BED5D1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11B9-BBCD-4DB5-8F2D-DFE10A43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53AAE-0927-4BDB-8726-57FD7AB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193-FF6A-402C-B8E8-8FF91D7C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75E2-0EAB-4137-83A6-903B6039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9A4D-3F7B-4449-8059-259F96AC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3D38-6596-4AC4-B3AE-8C3E6C47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64E8-EA6C-4BAF-9E1B-F2AF2A7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3102-77FC-48D6-B8F9-FC83E5A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51F6-F7AC-4632-8EA9-33E4AF9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64CD-AEC8-42F6-B3F1-0FF59E04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6166D-E791-474B-9654-4ED9F73A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5279-67FB-490C-AFCB-08FDC907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2603-0EE0-44A8-B628-9FDBBBC1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D06-0911-4A94-BCC3-7CB79316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4893-8DC1-4182-930E-645558B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30B4-6C76-4487-9143-FD9B31E7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A96A-C3D4-4F84-9ABE-7226219B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80AC-F287-45FE-9A38-D2F8AFE2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5F851-4624-43D8-8204-FC54F92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6F7B-95F8-418B-864B-549A04A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0354-6B81-485B-9823-6974AA0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A409-AD0C-4958-BA99-9CB35E9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8195A-71F6-4DBF-9589-F2968EBF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1694-530D-42AD-97EF-86551BDB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8AB-E444-40C1-BB5D-707BA3B0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D201-A3CF-497A-BF72-370D68D5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A9EF7-5891-4CEA-AF02-14B306A9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AD3C-8A03-466F-BDD2-78963E38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D357-6FDB-4339-807D-12D387CB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C5A4-1B92-46C9-AF0E-03F28EC5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97D4F-308F-4E07-93FC-B409CC36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D8FD-EBE4-457B-B3F7-143AA0D8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96C88-3900-4C2E-BC8A-184F97A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7AE5-EF27-4136-B5D1-B80961E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01E7-8E6F-4C58-B8A6-66647B3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C0C-90EF-44D4-84E7-84EA6AE0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A464-704F-46F1-BA62-B85EF4FC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92AB9-AAD2-420A-A7B8-2BD660C7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4B3A-3995-4C0C-8230-05FC3B11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3F10-91CC-4207-A694-6EC58DDD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1C2B-1927-4D0B-9E8F-044C819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4723-2C2A-443C-B420-396B18CE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54E23-5BBB-4A2D-B4DC-866AAC59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AF4A2-D60F-49C9-A86E-315A2769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D51F0-1B92-4CA2-A584-EAC6CF0F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6B904-8685-49E3-8F2F-92F1FBBF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53B-4C02-4F4B-933E-890E038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FB8C-70DF-4C33-8A92-D7201E7B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EF1F-E560-4A1C-8D3E-13ECEDF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FA775-F760-4F75-877B-60EE14A1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4B5AC-7555-4BBC-8F01-3EC29182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040C2-8B96-4715-AA71-2074D057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8B548-DF1A-4DCC-80EA-7489C81E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EB79-655F-4996-973A-716DD14B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A5D3B-BDB1-49E1-B914-716E7B0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7442B-412E-4101-B8F4-2D9C001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E2868-C3D0-42E1-B03A-8E7AEDA3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561-B020-4497-91D8-7C461579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3E9C-F517-419D-AB22-8DD1C1CD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D6213-B0CC-4ECE-ACDE-FD46172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60388-C1D8-4A84-96F7-E041F5D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231FE-7F51-47D2-B0A5-95E16B1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4D919-C7C4-4719-9187-AAC5A1EC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3390F-12AA-40AD-81FC-AAB535B5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015A-17AA-49C5-A9FA-A8030500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F1C7A-C993-402F-9B97-581703DA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9ABAB-61B1-49D6-9830-CF2C2422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459AF-11F2-4EEB-AFA1-35953D7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0086-71D9-4B79-BEBF-808E04FF81E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5515287-6B0F-4E02-BA40-6AF4ADEDC3D4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25F-F028-4B52-81B1-0086CD1EAF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1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2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D53-6CE5-4926-84D2-2F4C44F7F36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0906D3F-C2CD-47B7-954F-0F004C5AD4DF}" type="datetime10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2ADD-A640-4B4A-A22F-4FA22F9730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sm_book.png"/>
          <p:cNvPicPr/>
          <p:nvPr/>
        </p:nvPicPr>
        <p:blipFill>
          <a:blip r:embed="rId4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da1f28"/>
            </a:solidFill>
            <a:miter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0CE8-FA9B-425F-899F-25D8AB5C577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5D270E9-3CBD-4A4F-A2E9-B17F3D353E7B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DC41-2927-490B-A109-52FCD5CD4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6F2-D61E-4963-825A-30346AEB1A7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C020889-2C19-4C2A-B2F2-297797C9B5B8}" type="datetime10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634E-DD62-4445-9CFF-E3EDAFD5B7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F679-AB5F-47AC-B5E9-EDD55DE093F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8185887-E0EC-4F06-B4DC-03C4EF62C149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337B-4D1B-47D3-B664-C094D0215F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77F2-9166-48D6-9C59-777E9ED008C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9D5E187-42DC-4184-A8C4-A09FCEA532FF}" type="datetime10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3908-6229-4332-99D2-CC90002179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5B5D-E6F3-4A2A-B9BA-1199F4F2735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132AC8C-5B1F-44A4-9DD5-D28ED6F20C7E}" type="datetime10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E77F-BB5C-4593-8D3D-C1CED9869C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C3C3-137F-46C9-A32C-44EAA5DB7AB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51ED1E2-FCD6-4551-8A3A-95DDD7645330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939-B4E0-4DAD-873D-D9A07B487C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8194-2A4F-4769-95A5-58E86113819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A80E4FD-E23A-4940-B3AC-15CBB5BAD644}" type="datetime10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9B27-6A3D-4D30-8416-1C6478EDA1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52F-D8EB-42B2-AD8C-1962338937D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0CE1BD1-A29D-4649-9C32-DD45BF2BA1C6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4D80-7E1E-431C-9F2D-848681DA82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D7D-2B85-41CE-970B-7EECB5EF83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A399989-B23B-44A4-A1E4-79823EE13811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5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055D-5B66-432F-B610-6975290F9C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6492960" cy="2219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http://s57.radikal.ru/i157/1208/a9/19cb97926306.gif"/>
          <p:cNvPicPr/>
          <p:nvPr/>
        </p:nvPicPr>
        <p:blipFill>
          <a:blip r:embed="rId2"/>
          <a:stretch/>
        </p:blipFill>
        <p:spPr>
          <a:xfrm>
            <a:off x="428760" y="4500720"/>
            <a:ext cx="2205000" cy="15508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http://i053.radikal.ru/1208/cf/335af1da8dcd.gif"/>
          <p:cNvPicPr/>
          <p:nvPr/>
        </p:nvPicPr>
        <p:blipFill>
          <a:blip r:embed="rId3"/>
          <a:stretch/>
        </p:blipFill>
        <p:spPr>
          <a:xfrm>
            <a:off x="3419640" y="4122720"/>
            <a:ext cx="2089080" cy="1776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http://s019.radikal.ru/i610/1208/0e/c3eb8b34ae67.gif"/>
          <p:cNvPicPr/>
          <p:nvPr/>
        </p:nvPicPr>
        <p:blipFill>
          <a:blip r:embed="rId4"/>
          <a:stretch/>
        </p:blipFill>
        <p:spPr>
          <a:xfrm>
            <a:off x="6012000" y="3390840"/>
            <a:ext cx="2292120" cy="22114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http://s018.radikal.ru/i527/1208/e1/0ab7cea5e68a.gif"/>
          <p:cNvPicPr/>
          <p:nvPr/>
        </p:nvPicPr>
        <p:blipFill>
          <a:blip r:embed="rId5"/>
          <a:stretch/>
        </p:blipFill>
        <p:spPr>
          <a:xfrm>
            <a:off x="7143840" y="21420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517" name="TextBox 6"/>
          <p:cNvSpPr/>
          <p:nvPr/>
        </p:nvSpPr>
        <p:spPr>
          <a:xfrm>
            <a:off x="785880" y="264312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аринова Олеся Сергеевна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МКОУ «Бороздиновская СОШ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http://s56.radikal.ru/i151/1208/53/ecf46bcdf551.gif"/>
          <p:cNvPicPr/>
          <p:nvPr/>
        </p:nvPicPr>
        <p:blipFill>
          <a:blip r:embed="rId1"/>
          <a:stretch/>
        </p:blipFill>
        <p:spPr>
          <a:xfrm>
            <a:off x="216000" y="2492280"/>
            <a:ext cx="2334960" cy="324036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"/>
          <p:cNvSpPr/>
          <p:nvPr/>
        </p:nvSpPr>
        <p:spPr>
          <a:xfrm>
            <a:off x="2843280" y="404640"/>
            <a:ext cx="590544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w Cen MT"/>
              </a:rPr>
              <a:t>Замените следующие словосочетания одним словом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ничный лист - ……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варищ по работе - …….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 городского транспорта - ………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улярная игра на льду - ……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тивный бег - ……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трудник журнала- ………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ин из видов игры в мяч - ……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животных - …………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сунки в журнале, газете, книге- ………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ещение в школе- ………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возной проезд, прорытый под землёй – ………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идетельство об окончании школы – …………….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1"/>
          <p:cNvSpPr/>
          <p:nvPr/>
        </p:nvSpPr>
        <p:spPr>
          <a:xfrm>
            <a:off x="250920" y="412920"/>
            <a:ext cx="46083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Отгадайте, о чем идет речь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- травянистое расте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цветком сиреневого цвета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переставьте ударение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ревращуся я в конфету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-  сборник карт; от ударени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исят два моих значен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чу - преображусь в назв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 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естящей, шелковистой ткан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1" name="Picture 2" descr="http://s017.radikal.ru/i410/1208/d0/e5273aa616db.gif"/>
          <p:cNvPicPr/>
          <p:nvPr/>
        </p:nvPicPr>
        <p:blipFill>
          <a:blip r:embed="rId1"/>
          <a:stretch/>
        </p:blipFill>
        <p:spPr>
          <a:xfrm>
            <a:off x="4932360" y="765000"/>
            <a:ext cx="3527280" cy="2899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http://s018.radikal.ru/i522/1208/59/51695ee12da7.gif"/>
          <p:cNvPicPr/>
          <p:nvPr/>
        </p:nvPicPr>
        <p:blipFill>
          <a:blip r:embed="rId2"/>
          <a:stretch/>
        </p:blipFill>
        <p:spPr>
          <a:xfrm>
            <a:off x="4643280" y="4229280"/>
            <a:ext cx="3635640" cy="21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324000" y="333360"/>
            <a:ext cx="720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1. Куда смотрит волк. Сколько его не корми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а) на волчицу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б) на козлят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w Cen MT"/>
              </a:rPr>
              <a:t>в) в лес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г) в миск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2. Какая птица, согласно народной поговорке, должна клюнуть человека, чтобы он начал проявлять повышенную активность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а) жар-птица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w Cen MT"/>
              </a:rPr>
              <a:t>б) жареный петух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w Cen MT"/>
              </a:rPr>
              <a:t>в) </a:t>
            </a: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гадкий утёнок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г) цыплёнок табак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3. Кто должен свистнуть, чтобы нечто несбыточное произошло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а) Соловей-разбойник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w Cen MT"/>
              </a:rPr>
              <a:t>б) рак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в) полицейский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г) щук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4" name="Picture 2" descr="http://s019.radikal.ru/i636/1208/dd/28d2ff0b0dbe.gif"/>
          <p:cNvPicPr/>
          <p:nvPr/>
        </p:nvPicPr>
        <p:blipFill>
          <a:blip r:embed="rId1"/>
          <a:stretch/>
        </p:blipFill>
        <p:spPr>
          <a:xfrm>
            <a:off x="4859280" y="4724280"/>
            <a:ext cx="3749760" cy="1729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http://s019.radikal.ru/i614/1208/19/568f5b5acd68.gif"/>
          <p:cNvPicPr/>
          <p:nvPr/>
        </p:nvPicPr>
        <p:blipFill>
          <a:blip r:embed="rId2"/>
          <a:stretch/>
        </p:blipFill>
        <p:spPr>
          <a:xfrm>
            <a:off x="6300720" y="142920"/>
            <a:ext cx="1986120" cy="1987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http://s001.radikal.ru/i195/1208/75/b873dde678a6.gif"/>
          <p:cNvPicPr/>
          <p:nvPr/>
        </p:nvPicPr>
        <p:blipFill>
          <a:blip r:embed="rId3"/>
          <a:stretch/>
        </p:blipFill>
        <p:spPr>
          <a:xfrm>
            <a:off x="6875640" y="2097000"/>
            <a:ext cx="19317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1"/>
          <p:cNvSpPr/>
          <p:nvPr/>
        </p:nvSpPr>
        <p:spPr>
          <a:xfrm>
            <a:off x="324000" y="333360"/>
            <a:ext cx="72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4. На чём приносит новости сорока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а) на лапах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w Cen MT"/>
              </a:rPr>
              <a:t>б) на хвосте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в) на крыльях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г) на блюдечк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5. Кого, согласно русской поговорке, ноги кормят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а) коня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б) сапожника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в) бегуна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w Cen MT"/>
              </a:rPr>
              <a:t>г) волк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6. Кого согласно поговорке только девятая смерть донимает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а) лису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б) слона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w Cen MT"/>
              </a:rPr>
              <a:t>в) кошку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w Cen MT"/>
              </a:rPr>
              <a:t>г) таракан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8" name="Picture 2" descr="http://s017.radikal.ru/i425/1208/38/ba0afa42213d.gif"/>
          <p:cNvPicPr/>
          <p:nvPr/>
        </p:nvPicPr>
        <p:blipFill>
          <a:blip r:embed="rId1"/>
          <a:stretch/>
        </p:blipFill>
        <p:spPr>
          <a:xfrm>
            <a:off x="5580000" y="378936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http://s017.radikal.ru/i408/1208/2d/cd6dc644f87d.gif"/>
          <p:cNvPicPr/>
          <p:nvPr/>
        </p:nvPicPr>
        <p:blipFill>
          <a:blip r:embed="rId2"/>
          <a:stretch/>
        </p:blipFill>
        <p:spPr>
          <a:xfrm>
            <a:off x="6221520" y="598320"/>
            <a:ext cx="2604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Прямоугольник 1"/>
          <p:cNvSpPr/>
          <p:nvPr/>
        </p:nvSpPr>
        <p:spPr>
          <a:xfrm>
            <a:off x="2771640" y="404640"/>
            <a:ext cx="597708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Каким предложением – простым или сложным – является стихотворение А. Фета? Докажит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утро, радость эта, эта мощь и дня, и света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т синий свод,  эти стаи, эти птицы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т крик и вереницы, этот говор вод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и нивы и берёзы, эти капли – эти слёзы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т пух – не лист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и горы, эти долы, эти мошки, эти пчёлы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т зык и свист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и зори без затменья, этот вздох ночной селенья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 ночь без сна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 дробь и эти трели, это всё – весн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1" name="Picture 2" descr="http://s019.radikal.ru/i629/1208/be/3bc014e8f690.gif"/>
          <p:cNvPicPr/>
          <p:nvPr/>
        </p:nvPicPr>
        <p:blipFill>
          <a:blip r:embed="rId1"/>
          <a:stretch/>
        </p:blipFill>
        <p:spPr>
          <a:xfrm>
            <a:off x="155520" y="2997360"/>
            <a:ext cx="3695760" cy="3695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http://s017.radikal.ru/i434/1208/6c/e931aa3d3b10.gif"/>
          <p:cNvPicPr/>
          <p:nvPr/>
        </p:nvPicPr>
        <p:blipFill>
          <a:blip r:embed="rId2"/>
          <a:stretch/>
        </p:blipFill>
        <p:spPr>
          <a:xfrm>
            <a:off x="5645160" y="4314960"/>
            <a:ext cx="2521080" cy="22255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http://s017.radikal.ru/i432/1208/56/372c8a76d8d1.gif"/>
          <p:cNvPicPr/>
          <p:nvPr/>
        </p:nvPicPr>
        <p:blipFill>
          <a:blip r:embed="rId3"/>
          <a:stretch/>
        </p:blipFill>
        <p:spPr>
          <a:xfrm>
            <a:off x="395280" y="549360"/>
            <a:ext cx="22176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1"/>
          <p:cNvSpPr/>
          <p:nvPr/>
        </p:nvSpPr>
        <p:spPr>
          <a:xfrm>
            <a:off x="1476360" y="0"/>
            <a:ext cx="727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Какое грамматическое правило положено в основу рассказа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Почему он так назван? Предложите своё названи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Tw Cen MT"/>
              </a:rPr>
              <a:t>Сила любв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дую и упрямую частицу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юбил благородный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Глаго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Трудной и печальной была эта любовь. Он говорил: «Люблю». А она ему отвечала, что не любит. Он признавался: «Верю», а она не верил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иц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икогда не подходила к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голу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близко и писалась от него только отдельно. Однако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го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был постоянным в своих чувствах. Вот однажды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говорит ему: «Я отвечу тебе взаимностью, если покажешь, что жить без меня не можешь»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дохнул печально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го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отправился скитаться по Словарям да Учебникам. Когда же он возвратился к своей любимой, она, как обычно, отскочила от него с криком: «Негодую! Ненавижу!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друг замерла от неожиданности: на этот раз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гол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стался рядом. Так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гол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л, что в некоторых случаях, действительно, жить без неё не може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5" name="Picture 2" descr="http://s07.radikal.ru/i180/1208/c7/1095d872fa5f.gif"/>
          <p:cNvPicPr/>
          <p:nvPr/>
        </p:nvPicPr>
        <p:blipFill>
          <a:blip r:embed="rId1"/>
          <a:stretch/>
        </p:blipFill>
        <p:spPr>
          <a:xfrm>
            <a:off x="3851280" y="4800600"/>
            <a:ext cx="4772160" cy="1868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http://s018.radikal.ru/i508/1208/98/1d62945dc2a7.gif"/>
          <p:cNvPicPr/>
          <p:nvPr/>
        </p:nvPicPr>
        <p:blipFill>
          <a:blip r:embed="rId2"/>
          <a:stretch/>
        </p:blipFill>
        <p:spPr>
          <a:xfrm>
            <a:off x="0" y="838080"/>
            <a:ext cx="19144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1"/>
          <p:cNvSpPr/>
          <p:nvPr/>
        </p:nvSpPr>
        <p:spPr>
          <a:xfrm>
            <a:off x="1612800" y="333360"/>
            <a:ext cx="58118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Выпишите родственные слов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w Cen MT"/>
              </a:rPr>
              <a:t>Подберите ещё родственные слова к данны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в России рождён. Родила меня мать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ру яблок и в пору созревшего хлеб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елела мне песню в дорогу позвать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дала в изголовье мне синее небо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в России рождён. И куда ни пойди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б мои не лежали дороги земные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ё, что в сердце ношу, что вместилось в груди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зову необъятнейшим словом РОССИЯ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. Островой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2" descr="http://s017.radikal.ru/i426/1208/cd/4e888b12f51e.gif"/>
          <p:cNvPicPr/>
          <p:nvPr/>
        </p:nvPicPr>
        <p:blipFill>
          <a:blip r:embed="rId1"/>
          <a:stretch/>
        </p:blipFill>
        <p:spPr>
          <a:xfrm>
            <a:off x="7424640" y="1052640"/>
            <a:ext cx="1695600" cy="1800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http://i080.radikal.ru/1208/81/d883253630ef.gif"/>
          <p:cNvPicPr/>
          <p:nvPr/>
        </p:nvPicPr>
        <p:blipFill>
          <a:blip r:embed="rId2"/>
          <a:stretch/>
        </p:blipFill>
        <p:spPr>
          <a:xfrm>
            <a:off x="-181080" y="3220920"/>
            <a:ext cx="2198880" cy="3264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http://s017.radikal.ru/i413/1208/3e/c02e723db8a5.gif"/>
          <p:cNvPicPr/>
          <p:nvPr/>
        </p:nvPicPr>
        <p:blipFill>
          <a:blip r:embed="rId3"/>
          <a:stretch/>
        </p:blipFill>
        <p:spPr>
          <a:xfrm>
            <a:off x="2484360" y="4581360"/>
            <a:ext cx="2813040" cy="1589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http://s003.radikal.ru/i203/1208/45/6e6e7c8c6242.gif"/>
          <p:cNvPicPr/>
          <p:nvPr/>
        </p:nvPicPr>
        <p:blipFill>
          <a:blip r:embed="rId4"/>
          <a:stretch/>
        </p:blipFill>
        <p:spPr>
          <a:xfrm>
            <a:off x="6012000" y="4311720"/>
            <a:ext cx="24796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http://i082.radikal.ru/1208/da/01f3f75d32ab.gif"/>
          <p:cNvPicPr/>
          <p:nvPr/>
        </p:nvPicPr>
        <p:blipFill>
          <a:blip r:embed="rId1"/>
          <a:stretch/>
        </p:blipFill>
        <p:spPr>
          <a:xfrm>
            <a:off x="6372360" y="3860640"/>
            <a:ext cx="2608200" cy="2608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http://i011.radikal.ru/1208/68/35a3909f4d56.gif"/>
          <p:cNvPicPr/>
          <p:nvPr/>
        </p:nvPicPr>
        <p:blipFill>
          <a:blip r:embed="rId2"/>
          <a:stretch/>
        </p:blipFill>
        <p:spPr>
          <a:xfrm>
            <a:off x="324000" y="189000"/>
            <a:ext cx="3408120" cy="20048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http://s51.radikal.ru/i134/1208/84/b8421a3760be.gif"/>
          <p:cNvPicPr/>
          <p:nvPr/>
        </p:nvPicPr>
        <p:blipFill>
          <a:blip r:embed="rId3"/>
          <a:stretch/>
        </p:blipFill>
        <p:spPr>
          <a:xfrm>
            <a:off x="755640" y="2852640"/>
            <a:ext cx="4286160" cy="33530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1"/>
          <p:cNvSpPr/>
          <p:nvPr/>
        </p:nvSpPr>
        <p:spPr>
          <a:xfrm rot="20115000">
            <a:off x="4279320" y="1193040"/>
            <a:ext cx="43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ПАСИБО ЗА УЧАСТИЕ!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0:32:17Z</dcterms:created>
  <dc:creator/>
  <dc:description/>
  <cp:keywords/>
  <dc:language>en-US</dc:language>
  <cp:lastModifiedBy/>
  <dcterms:modified xsi:type="dcterms:W3CDTF">2019-12-08T12:32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