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A3C-2EAC-43C0-AD9B-A6D976A0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B47B-84BE-462C-B9BD-33E809BB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331-4883-4E35-8F56-C811831B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71E5-4D6D-40AA-A635-7D755D01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6194-0EE5-47B6-9804-93DC03D7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ED5-9B27-46EC-B7BA-4470C660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879E-9F1A-4235-A21E-65D314D3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327-38CF-448E-9C91-839F1EF2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7CE-20AC-492D-A1C6-1C357CFB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972-C1F4-41C7-BF62-C571C308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4570-C5D4-4986-8F53-246AE705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57C0-826F-40C2-8D74-1802012D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4406-359B-47B6-96EF-0341729B3D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на дорог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6028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кторина п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м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Управляющая кнопка: документ 4">
            <a:hlinkClick r:id="" action="ppaction://hlinkshowjump?jump=lastslide"/>
          </p:cNvPr>
          <p:cNvSpPr/>
          <p:nvPr/>
        </p:nvSpPr>
        <p:spPr>
          <a:xfrm>
            <a:off x="8317080" y="595008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Less" w="21600" h="25209">
                <a:moveTo>
                  <a:pt x="5273" y="5790"/>
                </a:moveTo>
                <a:lnTo>
                  <a:pt x="12271" y="5790"/>
                </a:lnTo>
                <a:lnTo>
                  <a:pt x="16327" y="9288"/>
                </a:lnTo>
                <a:lnTo>
                  <a:pt x="16327" y="19420"/>
                </a:lnTo>
                <a:lnTo>
                  <a:pt x="5273" y="19420"/>
                </a:lnTo>
                <a:close/>
              </a:path>
              <a:path fill="darken" w="21600" h="25209">
                <a:moveTo>
                  <a:pt x="12271" y="5790"/>
                </a:moveTo>
                <a:lnTo>
                  <a:pt x="16327" y="9288"/>
                </a:lnTo>
                <a:lnTo>
                  <a:pt x="12271" y="92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ожет ли пешеход двигаться по автомагистра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760" y="20718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о крайней левой поло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10.jpg"/>
          <p:cNvPicPr/>
          <p:nvPr/>
        </p:nvPicPr>
        <p:blipFill>
          <a:blip r:embed="rId5"/>
          <a:stretch/>
        </p:blipFill>
        <p:spPr>
          <a:xfrm>
            <a:off x="3714840" y="4070520"/>
            <a:ext cx="485784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то может первым начать движение (для машин горит красный свет)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Зелёна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еше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иня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9.jpg"/>
          <p:cNvPicPr/>
          <p:nvPr/>
        </p:nvPicPr>
        <p:blipFill>
          <a:blip r:embed="rId5"/>
          <a:stretch/>
        </p:blipFill>
        <p:spPr>
          <a:xfrm>
            <a:off x="3857760" y="4140360"/>
            <a:ext cx="475776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 ли водитель красной машины въехать на пешеходный переход, если за ним образовался затор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760" y="26431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Да, если на переходе нет пеше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3" descr="7.jpg"/>
          <p:cNvPicPr/>
          <p:nvPr/>
        </p:nvPicPr>
        <p:blipFill>
          <a:blip r:embed="rId5"/>
          <a:stretch/>
        </p:blipFill>
        <p:spPr>
          <a:xfrm>
            <a:off x="3571920" y="4643280"/>
            <a:ext cx="50972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" descr="1.jpg"/>
          <p:cNvPicPr/>
          <p:nvPr/>
        </p:nvPicPr>
        <p:blipFill>
          <a:blip r:embed="rId5"/>
          <a:stretch/>
        </p:blipFill>
        <p:spPr>
          <a:xfrm>
            <a:off x="3143160" y="4214880"/>
            <a:ext cx="559764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1430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2.jpg"/>
          <p:cNvPicPr/>
          <p:nvPr/>
        </p:nvPicPr>
        <p:blipFill>
          <a:blip r:embed="rId5"/>
          <a:stretch/>
        </p:blipFill>
        <p:spPr>
          <a:xfrm>
            <a:off x="3071880" y="4143240"/>
            <a:ext cx="55008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3.jpg"/>
          <p:cNvPicPr/>
          <p:nvPr/>
        </p:nvPicPr>
        <p:blipFill>
          <a:blip r:embed="rId5"/>
          <a:stretch/>
        </p:blipFill>
        <p:spPr>
          <a:xfrm>
            <a:off x="3224160" y="4214880"/>
            <a:ext cx="54151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3" descr="4.jpg"/>
          <p:cNvPicPr/>
          <p:nvPr/>
        </p:nvPicPr>
        <p:blipFill>
          <a:blip r:embed="rId5"/>
          <a:stretch/>
        </p:blipFill>
        <p:spPr>
          <a:xfrm>
            <a:off x="3429000" y="4305240"/>
            <a:ext cx="521496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28564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 и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5.jpg"/>
          <p:cNvPicPr/>
          <p:nvPr/>
        </p:nvPicPr>
        <p:blipFill>
          <a:blip r:embed="rId5"/>
          <a:stretch/>
        </p:blipFill>
        <p:spPr>
          <a:xfrm>
            <a:off x="3286080" y="4214880"/>
            <a:ext cx="531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Где должны двигаться группы дет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071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олько по тротуарам и пешеходным дорожкам, а при их отсутствии – по обочин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о тротуа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Только по пешеходным дорож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Управляющая кнопка: справка 3">
            <a:hlinkClick r:id="rId4" action="ppaction://hlinksldjump"/>
          </p:cNvPr>
          <p:cNvSpPr/>
          <p:nvPr/>
        </p:nvSpPr>
        <p:spPr>
          <a:xfrm>
            <a:off x="14292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Где пассажир обязан производить посадку и высадку в (из) транспортного средст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 любом 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Со стороны тротуара или обочины и только после полной остановки транспортного сре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о стороны проезжей ч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гут ли дети до 12-летнего возраста ездить на заднем сиденье мотоцикл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50020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Могут, но только с использованием специальных детских удерживающих устрой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29" h="21600">
                <a:moveTo>
                  <a:pt x="14070" y="14281"/>
                </a:moveTo>
                <a:lnTo>
                  <a:pt x="14070" y="12323"/>
                </a:lnTo>
                <a:cubicBezTo>
                  <a:pt x="14070" y="11496"/>
                  <a:pt x="14400" y="10800"/>
                  <a:pt x="15001" y="10800"/>
                </a:cubicBezTo>
                <a:cubicBezTo>
                  <a:pt x="16132" y="10800"/>
                  <a:pt x="17029" y="9434"/>
                  <a:pt x="17029" y="7849"/>
                </a:cubicBezTo>
                <a:cubicBezTo>
                  <a:pt x="17029" y="5534"/>
                  <a:pt x="15175" y="3794"/>
                  <a:pt x="12964" y="3794"/>
                </a:cubicBezTo>
                <a:cubicBezTo>
                  <a:pt x="10754" y="3794"/>
                  <a:pt x="9082" y="5534"/>
                  <a:pt x="9082" y="7849"/>
                </a:cubicBezTo>
                <a:lnTo>
                  <a:pt x="10936" y="7849"/>
                </a:lnTo>
                <a:cubicBezTo>
                  <a:pt x="10936" y="6709"/>
                  <a:pt x="11859" y="5821"/>
                  <a:pt x="12964" y="5821"/>
                </a:cubicBezTo>
                <a:cubicBezTo>
                  <a:pt x="14070" y="5821"/>
                  <a:pt x="15001" y="6709"/>
                  <a:pt x="15001" y="7849"/>
                </a:cubicBezTo>
                <a:cubicBezTo>
                  <a:pt x="15001" y="8589"/>
                  <a:pt x="14531" y="9320"/>
                  <a:pt x="14070" y="9320"/>
                </a:cubicBezTo>
                <a:cubicBezTo>
                  <a:pt x="12964" y="9320"/>
                  <a:pt x="11859" y="10800"/>
                  <a:pt x="11859" y="12323"/>
                </a:cubicBezTo>
                <a:lnTo>
                  <a:pt x="11859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ому должен уступить дорогу водитель при выезде на дорогу с прилегающей территор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ранспортным средствам и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Имеет преимущества перед транспортными средствами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при ДТП обязан сделать водитель, причастный к н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071800"/>
            <a:ext cx="8229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родолжить 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Остановить транспортное средство, включить аварийную световую сигнализацию и выставить знак аварийной остан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крыться с места происше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разрешает движение только пешеход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3" descr="12.jpg"/>
          <p:cNvPicPr/>
          <p:nvPr/>
        </p:nvPicPr>
        <p:blipFill>
          <a:blip r:embed="rId1"/>
          <a:stretch/>
        </p:blipFill>
        <p:spPr>
          <a:xfrm>
            <a:off x="1571760" y="2071800"/>
            <a:ext cx="6073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Главная дорога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11.jpg"/>
          <p:cNvPicPr/>
          <p:nvPr/>
        </p:nvPicPr>
        <p:blipFill>
          <a:blip r:embed="rId1"/>
          <a:stretch/>
        </p:blipFill>
        <p:spPr>
          <a:xfrm>
            <a:off x="1000080" y="2071800"/>
            <a:ext cx="6997680" cy="18572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2000160" y="42861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 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Движение запрещено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4357800"/>
            <a:ext cx="822960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14.jpg"/>
          <p:cNvPicPr/>
          <p:nvPr/>
        </p:nvPicPr>
        <p:blipFill>
          <a:blip r:embed="rId1"/>
          <a:stretch/>
        </p:blipFill>
        <p:spPr>
          <a:xfrm>
            <a:off x="1857240" y="2286000"/>
            <a:ext cx="506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Железнодорожный переезд со шлагбаумом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457164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15.jpg"/>
          <p:cNvPicPr/>
          <p:nvPr/>
        </p:nvPicPr>
        <p:blipFill>
          <a:blip r:embed="rId1"/>
          <a:stretch/>
        </p:blipFill>
        <p:spPr>
          <a:xfrm>
            <a:off x="1428840" y="2500200"/>
            <a:ext cx="6102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Реверсивное движение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Управляющая кнопка: справка 3"/>
          <p:cNvSpPr/>
          <p:nvPr/>
        </p:nvSpPr>
        <p:spPr>
          <a:xfrm>
            <a:off x="28584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3" descr="13.jpg"/>
          <p:cNvPicPr/>
          <p:nvPr/>
        </p:nvPicPr>
        <p:blipFill>
          <a:blip r:embed="rId1"/>
          <a:stretch/>
        </p:blipFill>
        <p:spPr>
          <a:xfrm>
            <a:off x="1714680" y="2071800"/>
            <a:ext cx="5727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Управляющая кнопка: домой 4"/>
          <p:cNvSpPr/>
          <p:nvPr/>
        </p:nvSpPr>
        <p:spPr>
          <a:xfrm>
            <a:off x="7596360" y="573264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13177" y="3837"/>
                </a:moveTo>
                <a:lnTo>
                  <a:pt x="15753" y="6448"/>
                </a:ln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lnTo>
                  <a:pt x="20140" y="10800"/>
                </a:lnTo>
                <a:lnTo>
                  <a:pt x="18486" y="10800"/>
                </a:lnTo>
                <a:lnTo>
                  <a:pt x="18486" y="17989"/>
                </a:lnTo>
                <a:lnTo>
                  <a:pt x="7867" y="17989"/>
                </a:lnTo>
                <a:lnTo>
                  <a:pt x="7867" y="10800"/>
                </a:lnTo>
                <a:lnTo>
                  <a:pt x="6214" y="10800"/>
                </a:lnTo>
                <a:close/>
              </a:path>
              <a:path fill="darkenLess" w="26353" h="21600">
                <a:moveTo>
                  <a:pt x="15753" y="6448"/>
                </a:move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close/>
              </a:path>
              <a:path fill="darkenLess" w="26353" h="21600">
                <a:moveTo>
                  <a:pt x="12254" y="14299"/>
                </a:moveTo>
                <a:lnTo>
                  <a:pt x="14099" y="14299"/>
                </a:lnTo>
                <a:lnTo>
                  <a:pt x="14099" y="17989"/>
                </a:lnTo>
                <a:lnTo>
                  <a:pt x="18486" y="17989"/>
                </a:lnTo>
                <a:lnTo>
                  <a:pt x="18486" y="10800"/>
                </a:lnTo>
                <a:lnTo>
                  <a:pt x="7867" y="10800"/>
                </a:lnTo>
                <a:lnTo>
                  <a:pt x="7867" y="17989"/>
                </a:lnTo>
                <a:lnTo>
                  <a:pt x="1225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Е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Управляющая кнопка: домой 4"/>
          <p:cNvSpPr/>
          <p:nvPr/>
        </p:nvSpPr>
        <p:spPr>
          <a:xfrm>
            <a:off x="7740720" y="5661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11868" y="3837"/>
                </a:moveTo>
                <a:lnTo>
                  <a:pt x="14444" y="6448"/>
                </a:ln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lnTo>
                  <a:pt x="18831" y="10800"/>
                </a:lnTo>
                <a:lnTo>
                  <a:pt x="17177" y="10800"/>
                </a:lnTo>
                <a:lnTo>
                  <a:pt x="17177" y="17989"/>
                </a:lnTo>
                <a:lnTo>
                  <a:pt x="6558" y="17989"/>
                </a:lnTo>
                <a:lnTo>
                  <a:pt x="6558" y="10800"/>
                </a:lnTo>
                <a:lnTo>
                  <a:pt x="4905" y="10800"/>
                </a:lnTo>
                <a:close/>
              </a:path>
              <a:path fill="darkenLess" w="23735" h="21600">
                <a:moveTo>
                  <a:pt x="14444" y="6448"/>
                </a:move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close/>
              </a:path>
              <a:path fill="darkenLess" w="23735" h="21600">
                <a:moveTo>
                  <a:pt x="10945" y="14299"/>
                </a:moveTo>
                <a:lnTo>
                  <a:pt x="12790" y="14299"/>
                </a:lnTo>
                <a:lnTo>
                  <a:pt x="12790" y="17989"/>
                </a:lnTo>
                <a:lnTo>
                  <a:pt x="17177" y="17989"/>
                </a:lnTo>
                <a:lnTo>
                  <a:pt x="17177" y="10800"/>
                </a:lnTo>
                <a:lnTo>
                  <a:pt x="6558" y="10800"/>
                </a:lnTo>
                <a:lnTo>
                  <a:pt x="6558" y="17989"/>
                </a:lnTo>
                <a:lnTo>
                  <a:pt x="10945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е движение транспортных средств установлено в Российской Федерац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214440"/>
            <a:ext cx="82296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Пра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Ле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В обои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85840" y="62866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ЬНЫЕ ОТВ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29600" cy="4614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1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357120" y="21420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483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ольная игра «Я – пешеход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тинки и схемы дорожных ситуаций из личного архива ав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перекрёсто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Место пересечения, примыкания или разветвление дорог на одном уровне, ограниченное воображаемыми линиями, соединяющими соответственно противоположные, наиболее удалённые от центра перекрёстка начала закруглений проезжих ча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Выезды с прилегающих террито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Управляющая кнопка: справка 3">
            <a:hlinkClick r:id="rId3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главная доро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Дорога, на которой предоставлено право преимущественного проезда нерегулируемых перекрёс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Дорога с твёрдым покрытием (асфальт и т.п.) по отношению к грунт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Оба вышеперечисленных опред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тротуа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Элемент дороги, предназначенный для движения безрельсовых транспортных 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Элемент дороги, предназначенный для движения пешеходов и примыкающий к проезжей части или отделённый от неё газон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Элемент дороги, предназначенный для движения маршрутных транспортных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Управляющая кнопка: справка 3">
            <a:hlinkClick r:id="rId5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е транспортное средство называется маршрутн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7859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Транспортное средство, кроме мопеда, приводимое в движение двигателе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Устройство, предназначенное для перевозки по дорогам людей, грузов или оборудования, установленного на нё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Транспортное средство общего пользования (автобус, троллейбус, трамвай), предназначенное для перевозки по дорогам людей и движущееся по установленному маршруту с обозначенными местами остановок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 какой полосе дороги должны двигаться велосипедис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о той, на которой меньше всего трансп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о крайней пра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По крайней ле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6.jpg"/>
          <p:cNvPicPr/>
          <p:nvPr/>
        </p:nvPicPr>
        <p:blipFill>
          <a:blip r:embed="rId5"/>
          <a:stretch/>
        </p:blipFill>
        <p:spPr>
          <a:xfrm>
            <a:off x="3886200" y="4572000"/>
            <a:ext cx="47577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 каком рисунке машины не нарушают правила дорожного движ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14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а ле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 пра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 обоих рисун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8.jpg"/>
          <p:cNvPicPr/>
          <p:nvPr/>
        </p:nvPicPr>
        <p:blipFill>
          <a:blip r:embed="rId5"/>
          <a:stretch/>
        </p:blipFill>
        <p:spPr>
          <a:xfrm>
            <a:off x="3571920" y="4143240"/>
            <a:ext cx="48434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29:00Z</dcterms:created>
  <dc:creator>Владелец</dc:creator>
  <dc:description/>
  <dc:language>en-US</dc:language>
  <cp:lastModifiedBy>Пользователь Windows</cp:lastModifiedBy>
  <dcterms:modified xsi:type="dcterms:W3CDTF">2014-10-26T19:47:40Z</dcterms:modified>
  <cp:revision>33</cp:revision>
  <dc:subject/>
  <dc:title>Слайд 1</dc:title>
</cp:coreProperties>
</file>