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821-D3FB-4FAD-8BF9-A4A5A03A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D8AC-6333-4D1F-A500-1B7A298B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87D9-DD9D-4B14-850F-30A07078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8AE-0AE9-43DF-A7C3-DD03BAD4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1D6A-D73A-44D2-AFE5-63B25D9F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53B2-F9FA-42CB-8961-18D9801C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2B56-2343-46CE-89A4-B140367E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FC2F-C8B0-44F6-92F3-A31C5BE5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58D9-5BC2-4B0E-A3AE-E77BFA1E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E131-C531-460E-A6FE-B71387FE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D04D-BD6B-4872-81F2-BC4A7B7A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5045-9BCF-4CE0-878B-6AD39212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1FC8-CFB5-41D4-8965-094E2EDB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6E61-B24A-4471-8922-CAE0E790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FEF3-0971-4EBE-8377-21AF51DC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A0E8-1F39-48EB-8C5F-F6F9D7D2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F314-6AFC-4E21-9AA9-7628D62A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38578F-49EC-4BF4-A428-F5D30CBA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1217F-9F7C-49ED-8AF2-9199FF83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9B6D2-EE4E-426A-AF53-2B15E8F4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788FA-752A-46B3-9B1E-887E002D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DCB47-4D3B-46F3-8569-2FEDD36D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F71-7D9F-49C3-A3BD-5EA9F2E0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515A2-D612-4271-92B2-FA247060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3E8C3-B721-4654-919F-EB496643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A3FAE-A761-4BB8-AB82-30C8807F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EF657-E03B-4A11-A901-1D1444B4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56516-7514-41A3-946D-D637FCF1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50731-6067-4680-AE64-0AE8122A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C5B63-A600-414F-B489-C3F92872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2C5F1-0AF7-41D9-98BB-82E6E697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72FE2-1DE7-47D5-A6F6-61AFE041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BE47A-B707-4319-864F-7E83F6E9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584-2CC9-4F54-BE25-41348E7B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19165-FF2A-4AA6-B642-7C82D3FC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D277D-E36F-42AB-AEEA-5B426C62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B94B4-50B3-4979-92D4-6F7281DB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2DA8C-9175-4060-A4C7-13C63E89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FE317-BFD2-41AF-AEA5-2ED8F4B0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BC7E8-60A5-4897-A55C-8A3D371D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6DF8F-B63F-4453-9651-CE0E815F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A2D9C-374C-48C6-9DBD-4239B31F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CEE8E-AE73-48D8-B912-A120D58E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594B-B0EA-469A-AADC-937CF6D1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22B3-54A1-4990-81F8-10812A95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CA3-9A56-497E-A99E-1AD9DA9A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132-7B7E-47AA-886F-B8BE041D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2D9-9BCD-4D2C-B8F5-224895E9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2CBA-E752-4C06-BC79-77FE1AC676D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D323-CEE4-4642-9E85-E78396D4582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2B72-03D4-40E3-949A-A89EB7F4139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1D56-3834-4A60-8949-4495407F670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2960" y="40428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Возрастные особенност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шестиклассни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500200" y="1857240"/>
            <a:ext cx="4214880" cy="8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ff9ff"/>
                </a:solidFill>
                <a:latin typeface="Georgia"/>
              </a:rPr>
              <a:t>Подростковый возраст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Стрелка вниз 10"/>
          <p:cNvSpPr/>
          <p:nvPr/>
        </p:nvSpPr>
        <p:spPr>
          <a:xfrm rot="19617600">
            <a:off x="6081840" y="3022200"/>
            <a:ext cx="357120" cy="928800"/>
          </a:xfrm>
          <a:prstGeom prst="downArrow">
            <a:avLst>
              <a:gd name="adj1" fmla="val 42852"/>
              <a:gd name="adj2" fmla="val 50017"/>
            </a:avLst>
          </a:prstGeom>
          <a:solidFill>
            <a:srgbClr val="eff9ff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Стрелка вниз 11"/>
          <p:cNvSpPr/>
          <p:nvPr/>
        </p:nvSpPr>
        <p:spPr>
          <a:xfrm rot="2036400">
            <a:off x="2800080" y="3021120"/>
            <a:ext cx="357120" cy="928440"/>
          </a:xfrm>
          <a:prstGeom prst="downArrow">
            <a:avLst>
              <a:gd name="adj1" fmla="val 43676"/>
              <a:gd name="adj2" fmla="val 49998"/>
            </a:avLst>
          </a:prstGeom>
          <a:solidFill>
            <a:srgbClr val="eff9ff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785880" y="3857760"/>
            <a:ext cx="31431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ладший подростковый возра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11-12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5286240" y="3929040"/>
            <a:ext cx="31435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тарший подростковый возра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14-16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5"/>
          <p:cNvSpPr/>
          <p:nvPr/>
        </p:nvSpPr>
        <p:spPr>
          <a:xfrm>
            <a:off x="3160800" y="5715000"/>
            <a:ext cx="357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ризис – в 13 л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713880"/>
            <a:ext cx="8229600" cy="585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ладшие подростки драчливы, проявляют элементы жестокости и агрессивности, могут попасть под чужое влияние, попасть в уличные преступные группировки, то есть подвержены внушаемости и ведомости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этом возрасте проявляются элементы деструктивного поведения (тяга к курению, воровству, обмануть и т.д.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ладшие подростки энергичны, порой не дисциплинированны, тревожны, очень активны, особенно проявляют активность при выполнении классных, общественных поручений, при уборке кабинета, школьной территории и т.д. (что говорит о высокой физиологической энергии), правда эта активность может уступить место утомляемости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28400" y="714240"/>
            <a:ext cx="8429400" cy="600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Желание сохранить тайны и секреты у них соседствует с неумением хранить эти тайны и секреты от окружающих, младшие подростки часто ябедничают друг на друга, начинают давать друг другу “прозвища”, которые сохраняются вплоть до окончания школы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 многих младших подростков наблюдается завышенная самооценка своих возможностей (“я все могу сделать сам”), эгоистическое самоутверждение, при котором ребенок радуется, если у одноклассника неприятности, если одноклассник оказался униженным или менее успешным чем он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ладшие подростки очень ранимы и обидчивы. Очень любят бравировать вещами, предметами, нарядами, которые есть только у них, но отсутствуют у остальных товарищей. Весьма активно в младшем подростковом возрасте идет формирование “малых групп”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В моральной сфере две особенности заслуживают пристального внима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71468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 Переоценка ценностей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Устойчивые “автономные” моральные взгляды, суждения и оценки, независимые от случайных влиян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днако мораль подростка не имеет опоры в моральных убеждениях, еще не складывается в мировоззрение, потому может легко изменяться под влиянием сверстник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тиворечивость морального развития характеризуется следующим типичным проявлением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Georgia"/>
              </a:rPr>
              <a:t>Подростки исключительно эгоистичны, считают себя центром Вселенной и, в то же время ни в один из последующих периодов своей жизни они не способны на такую преданность и самопожертвовани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огда поведение подростков по отношению к другим людям грубо и бесцеремонно, хотя сами они неимоверно ранимы. Их настроение колеблется между сияющим оптимизмом и самым мрачным пессимизмом. Иногда они трудятся с неиссякаемым энтузиазмом, а иногда медлительны и апатичны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571680" y="714240"/>
            <a:ext cx="7929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Times New Roman"/>
              </a:rPr>
              <a:t>В подростковом возрасте отношение к семье в целом и к родителям изменяется в следующих направлениях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. Появляются критика, сомнения и противодействие ценностям, установкам и образу действий взрослы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. Эмоциональные связи с семьей ослабеваю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. Родители как образец для ориентации и идентификации отступают на второй план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4. В целом уменьшается влияние семьи, хотя, по сути, она остается важной референтной группо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ем не менее, появляются ростки нового позитивного отношения к родителям, как и в целом к взрослым развивается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тремление помочь им, разделить с ними радость и горе. Взрослые же, как показывают исследования, в лучшем случае сами готовы проявить сочувствие по отношению к подростку, но совершенно не готовы принять подобное отношение с его сторон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rebuchet MS"/>
              </a:rPr>
              <a:t>Советы психолога</a:t>
            </a:r>
            <a:endParaRPr b="0" lang="en-US" sz="6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928440"/>
            <a:ext cx="822960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Многое давая ребенку, родители вправе много и спрашивать с него. Он может и должен быть внимателен ко всем членам семьи. Атмосфера в семье должна быть такой, чтобы чуткость и отзывчивость становились у него привычкой, своего рода потребностью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Только в обстановке взаимного уважения, взаимной заботы и помощи, доверия и искренности уважительное отношение к людям станет привычной формой поведения подростк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642600"/>
            <a:ext cx="822960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Ошибку совершают те родители, которые, боясь перегрузки детей в учении, освобождают их от каких-либо обязанностей в семье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Это крайность, приводящая, как правило, к нежелательным последствиям: развиваются эгоизм, пренебрежение к труду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Расширяя обязанности подростка, нельзя забывать о том, что он должен иметь в семье и определенный, более широкий, чем младший школьник, круг прав. Основанием для этого служат его возрастающие возможности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Подросток может участвовать в обсуждении семейных и общественных дел, в разговорах и беседах о литературе, искусстве. Уважительно относитесь к его мнению. Если он заблуждается, поспорьте с ним, но не отмахивайтесь: «Мал еще рассуждать об этом!»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Подросток чутко реагирует на отношение к нему взрослых в семье и готов активно отстаивать свое главное право — право на уважение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571680" y="8571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В подростковом возрасте возникает повышенный интерес к внутреннему миру человека, к его чувствам и переживаниям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одросток стремится ответить на вопрос: что значит быть взрослым? Он проводит параллели между своими поступками и поведением взрослых, начинает нетерпимо относиться к тому, на что раньше не всегда обращал внимание: к действительным или мнимым попыткам взрослых ущемить его достоинство или право, к тону приказа или излишнему проявлению родительской нежности. Его может обидеть как то, так и другое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одростки зорко подмечают отдельные промахи и недостатки взрослых. При этом они непосредственны и искренни; и если мы, взрослые, честно признаемся в своей ошибке, а при надобности и извинимся, то авторитет наш нисколько не пострадает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одростки задают взрослым множество вопросов, многим хотят с ними поделиться. Равнодушие взрослых для них мучительно. Взрослые должны проявлять постоянный интерес к учебе подростка, к его труду, увлечениям, переживаниям и мечтам и в то же время беседовать с ним о своей работе, друзьях, интересах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857160"/>
            <a:ext cx="822960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огда подросток идет к вам с вопросами или сомнениями, не говорите ему «нет», не ссылайтесь на занятость и отсутствие времени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тремление ребенка поговорить с родителями по душам надо всячески поддерживать и укреплять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удовлетворенная потребность поделиться с отцом или матерью сокровенными мыслями и переживаниями заставляет подростка искать «поверенного» вне семьи. Им может оказаться человек случайный, с сомнительной репутацией, который поведет подростка по неверному пути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 таких случаях задуматься над своими взаимоотношениями с сыном или дочерью заставляют родителей уже какие-либо серьезные проступки детей. Иногда это бывает слишком поздно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999720"/>
            <a:ext cx="822960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оскольку подростковый возраст - это период интенсивного формирования самооценки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, очень важно, чтобы в семье правильно относились к успехам и возможностям ребенк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Если захваливание ведет к самоуверенности и зазнайству, то недооценка возможностей и способностей подростка может привести к развитию пассивности, замкнутости, неуверенности в себ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взрослость"/>
          <p:cNvPicPr/>
          <p:nvPr/>
        </p:nvPicPr>
        <p:blipFill>
          <a:blip r:embed="rId1"/>
          <a:stretch/>
        </p:blipFill>
        <p:spPr>
          <a:xfrm>
            <a:off x="5214960" y="3714840"/>
            <a:ext cx="3692520" cy="2286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5214960" y="192888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2652"/>
                </a:solidFill>
                <a:latin typeface="Tahoma"/>
              </a:rPr>
              <a:t>В период 11-1</a:t>
            </a:r>
            <a:r>
              <a:rPr b="1" lang="en-US" sz="1800" spc="-1" strike="noStrike">
                <a:solidFill>
                  <a:srgbClr val="502652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502652"/>
                </a:solidFill>
                <a:latin typeface="Tahoma"/>
              </a:rPr>
              <a:t> лет начинается так называемый переходный возрас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Что происходит с моим ребенком?!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500040" y="1571760"/>
            <a:ext cx="4071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ростковый возраст самый трудный для учителей и родителей, самый критический для самих подростков. Переход к периоду младшего подросткового возраста сопровождается резкой ломкой психики, получивший название “подросткового кризиса”, когда учебная деятельность перестает оказывать то влияние на развитие, которое она имела в предыдущий период, а ведущей деятельностью становится общение со сверстниками, психологическое отдаление от взрослых, с частыми конфликт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857160"/>
            <a:ext cx="822960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ледует бережно, с пониманием относиться к внутреннему миру подростка, его переживаниям, увлечениям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йте выслушать подростка, согласиться с ним, если он прав, переубедить, если ошибается. Требования, предъявляемые подростку, должны быть разумно аргументированы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ткровенность, доверие должны быть взаимными, только тогда между вами и подростком не будет стены недомолвок, тайн, непонимани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4"/>
          <p:cNvSpPr/>
          <p:nvPr/>
        </p:nvSpPr>
        <p:spPr>
          <a:xfrm>
            <a:off x="324000" y="189000"/>
            <a:ext cx="8280360" cy="3887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262740"/>
              </a:gs>
              <a:gs pos="50000">
                <a:srgbClr val="53548a"/>
              </a:gs>
              <a:gs pos="100000">
                <a:srgbClr val="26274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сматривайтесь чаще к свое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шестиклассни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этот период, ведь он уже не ребено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 и до взрослого ему еще далеко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5" descr="подражание"/>
          <p:cNvPicPr/>
          <p:nvPr/>
        </p:nvPicPr>
        <p:blipFill>
          <a:blip r:embed="rId1"/>
          <a:stretch/>
        </p:blipFill>
        <p:spPr>
          <a:xfrm>
            <a:off x="3059280" y="3789360"/>
            <a:ext cx="2844720" cy="2844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42960" y="713880"/>
            <a:ext cx="8229600" cy="10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Самое важное для ребенка – это общение!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428760" y="185724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уйте д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лог правильно, не выпытывая информацию, рассказывая о своих проблемах. Таким образом вы подадите пример самораскры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6" descr="с род"/>
          <p:cNvPicPr/>
          <p:nvPr/>
        </p:nvPicPr>
        <p:blipFill>
          <a:blip r:embed="rId1"/>
          <a:stretch/>
        </p:blipFill>
        <p:spPr>
          <a:xfrm>
            <a:off x="2571840" y="3429000"/>
            <a:ext cx="410508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24456"/>
                </a:solidFill>
                <a:latin typeface="Trebuchet MS"/>
              </a:rPr>
              <a:t>Старайтесь не ругать ребенка в случае неудачи, а помогите ему разобраться в причинах случившегося!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3" name="Picture 5" descr="с родителями"/>
          <p:cNvPicPr/>
          <p:nvPr/>
        </p:nvPicPr>
        <p:blipFill>
          <a:blip r:embed="rId1"/>
          <a:stretch/>
        </p:blipFill>
        <p:spPr>
          <a:xfrm>
            <a:off x="324000" y="2205000"/>
            <a:ext cx="3620880" cy="4653000"/>
          </a:xfrm>
          <a:prstGeom prst="rect">
            <a:avLst/>
          </a:prstGeom>
          <a:ln w="0">
            <a:noFill/>
          </a:ln>
        </p:spPr>
      </p:pic>
      <p:sp>
        <p:nvSpPr>
          <p:cNvPr id="274" name="Line 6"/>
          <p:cNvSpPr/>
          <p:nvPr/>
        </p:nvSpPr>
        <p:spPr>
          <a:xfrm>
            <a:off x="250920" y="2060640"/>
            <a:ext cx="3816360" cy="4797360"/>
          </a:xfrm>
          <a:prstGeom prst="line">
            <a:avLst/>
          </a:prstGeom>
          <a:ln w="792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7"/>
          <p:cNvSpPr/>
          <p:nvPr/>
        </p:nvSpPr>
        <p:spPr>
          <a:xfrm flipH="1">
            <a:off x="178920" y="2205000"/>
            <a:ext cx="3745080" cy="4653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572000" y="235728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аще хвалите ребенка и проявляйте любов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9" descr="подражание 2"/>
          <p:cNvPicPr/>
          <p:nvPr/>
        </p:nvPicPr>
        <p:blipFill>
          <a:blip r:embed="rId2"/>
          <a:stretch/>
        </p:blipFill>
        <p:spPr>
          <a:xfrm>
            <a:off x="4786200" y="3429000"/>
            <a:ext cx="3556080" cy="3251160"/>
          </a:xfrm>
          <a:prstGeom prst="rect">
            <a:avLst/>
          </a:prstGeom>
          <a:ln w="0">
            <a:noFill/>
          </a:ln>
        </p:spPr>
      </p:pic>
      <p:sp>
        <p:nvSpPr>
          <p:cNvPr id="278" name="Line 10"/>
          <p:cNvSpPr/>
          <p:nvPr/>
        </p:nvSpPr>
        <p:spPr>
          <a:xfrm>
            <a:off x="4929120" y="3500280"/>
            <a:ext cx="3527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8429760" y="3500280"/>
            <a:ext cx="0" cy="3141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2"/>
          <p:cNvSpPr/>
          <p:nvPr/>
        </p:nvSpPr>
        <p:spPr>
          <a:xfrm>
            <a:off x="4929120" y="3429000"/>
            <a:ext cx="0" cy="3213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3"/>
          <p:cNvSpPr/>
          <p:nvPr/>
        </p:nvSpPr>
        <p:spPr>
          <a:xfrm>
            <a:off x="4857840" y="6643800"/>
            <a:ext cx="3600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Приучайте ребенка к систематическому труду!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3" name="Picture 5" descr="труд"/>
          <p:cNvPicPr/>
          <p:nvPr/>
        </p:nvPicPr>
        <p:blipFill>
          <a:blip r:embed="rId1"/>
          <a:stretch/>
        </p:blipFill>
        <p:spPr>
          <a:xfrm>
            <a:off x="250920" y="1989000"/>
            <a:ext cx="4681440" cy="3511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труд2"/>
          <p:cNvPicPr/>
          <p:nvPr/>
        </p:nvPicPr>
        <p:blipFill>
          <a:blip r:embed="rId2"/>
          <a:stretch/>
        </p:blipFill>
        <p:spPr>
          <a:xfrm>
            <a:off x="5500800" y="1428840"/>
            <a:ext cx="3254400" cy="5182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Создайте дома обстановку нетерпимости к курению и употреблению алкоголя!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6" name="Picture 5" descr="против курения"/>
          <p:cNvPicPr/>
          <p:nvPr/>
        </p:nvPicPr>
        <p:blipFill>
          <a:blip r:embed="rId1"/>
          <a:stretch/>
        </p:blipFill>
        <p:spPr>
          <a:xfrm>
            <a:off x="250920" y="1989000"/>
            <a:ext cx="4608360" cy="31291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alcohol"/>
          <p:cNvPicPr/>
          <p:nvPr/>
        </p:nvPicPr>
        <p:blipFill>
          <a:blip r:embed="rId2"/>
          <a:stretch/>
        </p:blipFill>
        <p:spPr>
          <a:xfrm>
            <a:off x="5724360" y="208116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7"/>
          <p:cNvSpPr/>
          <p:nvPr/>
        </p:nvSpPr>
        <p:spPr>
          <a:xfrm>
            <a:off x="4788000" y="5013360"/>
            <a:ext cx="1079280" cy="936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1908000" y="6093000"/>
            <a:ext cx="68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низится риск приобретения вредных привыч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0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Не забывайте о личном примере!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1" name="Picture 5" descr="ругань"/>
          <p:cNvPicPr/>
          <p:nvPr/>
        </p:nvPicPr>
        <p:blipFill>
          <a:blip r:embed="rId1"/>
          <a:stretch/>
        </p:blipFill>
        <p:spPr>
          <a:xfrm>
            <a:off x="250920" y="2060640"/>
            <a:ext cx="3749760" cy="412920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6"/>
          <p:cNvSpPr/>
          <p:nvPr/>
        </p:nvSpPr>
        <p:spPr>
          <a:xfrm>
            <a:off x="4643280" y="2428920"/>
            <a:ext cx="388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дросток порой воспринимает очень болезненно перебранку своих родителей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rebuchet MS"/>
              </a:rPr>
              <a:t>Советы психолог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35684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К ребенку следует отнестись с пониманием и не бросаться сразу наказывать их за какую-нибудь оплошность. Психолог Т. Васильева советует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Georgia"/>
              </a:rPr>
              <a:t>не наказывать ребенка и не ругать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когда он болен, испытывает какие-либо недомогания или еще не совсем оправился после болезни – психика особо уязвима, реакция непредсказуема; когда ест, после сна, перед сном, во время игры, во время работы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разу после физической или душевной травмы (падение, драка, несчастный случай, плохая отметка, любая неудача, недоразумение или конфликт), пусть даже в этой травме или неудаче виноват только он сам; нужно, по крайней мере, переждать, пока утихнет острая боль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rebuchet MS"/>
              </a:rPr>
              <a:t>Советы психолог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0040" y="128556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когда не справился с делом, со своим страхом, с невнимательностью, с ленью, с подвижностью, с любовью, с любым своим недостатком или достоинством, прилагая искренние старания справиться, хотя и не в полной мере, когда проявляется неспособность, бестолковость, неловкость, глупость, нетерпение, просто неопытность – короче, во всех случаях, когда что-либо не получается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когда внутренние мотивы поступка, самого пустякового или самого страшного, нам непонятны или сомнительны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когда мы сами не в себе, не в духе, когда устали, огорчены или раздражены по каким-то своим причинам, когда больны, когда наша собственная неуравновешенность еще не взята нами под надежный контроль, не преодолена. И в этом состоянии гнев всегда несправедлив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5"/>
          <p:cNvSpPr/>
          <p:nvPr/>
        </p:nvSpPr>
        <p:spPr>
          <a:xfrm>
            <a:off x="1428840" y="1143000"/>
            <a:ext cx="612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83818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rebuchet MS"/>
              </a:rPr>
              <a:t>Советы психолог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713880" y="1499760"/>
            <a:ext cx="785844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страивайте позитивные отношения  между вами и подростко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еседуя с подростком сдерживайте свой критицизм и создавайте позитивизм в общении с ним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удьте одновременно тверды и добры. Взрослый должен быть дружелюбным и не выступать в роли судь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блюдайте баланс самостоятельности и контрол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ддерживайте подростка. В отличие от награды поддержка нужна даже  тогда, когда он не достигает  успеха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мейте  мужество. Изменение поведения требует практики и терп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емонстрируйте взаимное уважение. Взрослый должен демонстрировать доверие к подростку, уверенность  в нем и уважение к нему как к личност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14240" y="5214960"/>
            <a:ext cx="783144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случае появления у ребенка необычной манеры поведения проанализируйте причины ее появления, при необходимости обратитесь к психологу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5975280" y="1413000"/>
            <a:ext cx="3168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11-12 лет практически все дети пересекают рубеж подросткового возрас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500040" y="571680"/>
            <a:ext cx="5403960" cy="1514160"/>
          </a:xfrm>
          <a:prstGeom prst="downArrowCallout">
            <a:avLst>
              <a:gd name="adj1" fmla="val 76012"/>
              <a:gd name="adj2" fmla="val 76022"/>
              <a:gd name="adj3" fmla="val 16667"/>
              <a:gd name="adj4" fmla="val 66667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edede"/>
                </a:solidFill>
                <a:latin typeface="Tahoma"/>
              </a:rPr>
              <a:t>Ведущая деятельность подростка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edede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dedede"/>
                </a:solidFill>
                <a:latin typeface="Tahoma"/>
              </a:rPr>
              <a:t>этот пери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7"/>
          <p:cNvSpPr/>
          <p:nvPr/>
        </p:nvSpPr>
        <p:spPr>
          <a:xfrm>
            <a:off x="1571760" y="2214720"/>
            <a:ext cx="2879640" cy="115236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edede"/>
                </a:solidFill>
                <a:latin typeface="Tahoma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571680" y="3571920"/>
            <a:ext cx="5403600" cy="1800360"/>
          </a:xfrm>
          <a:prstGeom prst="downArrowCallout">
            <a:avLst>
              <a:gd name="adj1" fmla="val 75987"/>
              <a:gd name="adj2" fmla="val 75993"/>
              <a:gd name="adj3" fmla="val 16667"/>
              <a:gd name="adj4" fmla="val 66667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edede"/>
                </a:solidFill>
                <a:latin typeface="Tahoma"/>
              </a:rPr>
              <a:t>Главное новообразование эт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edede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dedede"/>
                </a:solidFill>
                <a:latin typeface="Tahoma"/>
              </a:rPr>
              <a:t>возрас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714680" y="5429160"/>
            <a:ext cx="2879640" cy="115272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edede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dedede"/>
                </a:solidFill>
                <a:latin typeface="Tahoma"/>
              </a:rPr>
              <a:t>ЧУВ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edede"/>
                </a:solidFill>
                <a:latin typeface="Tahoma"/>
              </a:rPr>
              <a:t>ВЗРОСЛ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5" descr="семья"/>
          <p:cNvPicPr/>
          <p:nvPr/>
        </p:nvPicPr>
        <p:blipFill>
          <a:blip r:embed="rId1"/>
          <a:stretch/>
        </p:blipFill>
        <p:spPr>
          <a:xfrm>
            <a:off x="1403280" y="2276640"/>
            <a:ext cx="5715000" cy="424008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6"/>
          <p:cNvSpPr/>
          <p:nvPr/>
        </p:nvSpPr>
        <p:spPr>
          <a:xfrm>
            <a:off x="1258920" y="620640"/>
            <a:ext cx="561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ahoma"/>
              </a:rPr>
              <a:t>Желаем удачи в воспитании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4043"/>
                </a:solidFill>
                <a:latin typeface="Trebuchet MS"/>
              </a:rPr>
              <a:t>Внешние предпосылки кризис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320" y="1357200"/>
            <a:ext cx="824364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менение характера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ие единства требован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явление новых требований в семь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менение положения ребенка в семь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   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Физиологические изменения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58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Перестройка сразу трех систем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Гормональна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– новые гормоны стремительно выбрасываются в кровь, оказывают будоражащее влияние на центральную нервную систему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Кровеносна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– мышечная ткань сердца опережает по тепам роста кровеносные сосуды, толчковая сила сердечной мышцы заставляет работать не готовые к такому ритму сосуды в экстремальном режим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Костно-мышечна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– костная ткань опережает темпы роста мышц, которые, не успевая за ростом костей, натягиваются, создавая постоянное внутреннее неудобство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болезни"/>
          <p:cNvPicPr/>
          <p:nvPr/>
        </p:nvPicPr>
        <p:blipFill>
          <a:blip r:embed="rId1"/>
          <a:stretch/>
        </p:blipFill>
        <p:spPr>
          <a:xfrm>
            <a:off x="6572160" y="3429000"/>
            <a:ext cx="2000520" cy="3000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бол"/>
          <p:cNvPicPr/>
          <p:nvPr/>
        </p:nvPicPr>
        <p:blipFill>
          <a:blip r:embed="rId2"/>
          <a:stretch/>
        </p:blipFill>
        <p:spPr>
          <a:xfrm>
            <a:off x="285840" y="4857840"/>
            <a:ext cx="1500120" cy="13572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1428840" y="4143240"/>
            <a:ext cx="492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2652"/>
                </a:solidFill>
                <a:latin typeface="Tahoma"/>
              </a:rPr>
              <a:t>У подростка в этом возрасте очень хрупкий организм, он может часто болеть, у него обостряются хронические заболе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6143760" y="1357200"/>
            <a:ext cx="284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могите организму ребенка справиться с перестрой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642960" y="1000080"/>
            <a:ext cx="5000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логическая перестройка организма приводит к повышенной утомляемости, возбудимости, агрессивности, раздражительности, негативиз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Характерные черты поведения шестиклассник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395280" y="1989000"/>
            <a:ext cx="3456000" cy="1008360"/>
          </a:xfrm>
          <a:prstGeom prst="flowChartAlternateProcess">
            <a:avLst/>
          </a:prstGeom>
          <a:gradFill rotWithShape="0">
            <a:gsLst>
              <a:gs pos="0">
                <a:srgbClr val="262740"/>
              </a:gs>
              <a:gs pos="100000">
                <a:srgbClr val="53548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edede"/>
                </a:solidFill>
                <a:latin typeface="Tahoma"/>
              </a:rPr>
              <a:t>Часами разговаривают п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edede"/>
                </a:solidFill>
                <a:latin typeface="Tahoma"/>
              </a:rPr>
              <a:t>телефон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395280" y="3573360"/>
            <a:ext cx="3456000" cy="1008000"/>
          </a:xfrm>
          <a:prstGeom prst="flowChartAlternateProcess">
            <a:avLst/>
          </a:prstGeom>
          <a:gradFill rotWithShape="0">
            <a:gsLst>
              <a:gs pos="0">
                <a:srgbClr val="262740"/>
              </a:gs>
              <a:gs pos="100000">
                <a:srgbClr val="53548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edede"/>
                </a:solidFill>
                <a:latin typeface="Tahoma"/>
              </a:rPr>
              <a:t>Продолжительно смотря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edede"/>
                </a:solidFill>
                <a:latin typeface="Tahoma"/>
              </a:rPr>
              <a:t>телевиз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324000" y="5373720"/>
            <a:ext cx="3456000" cy="1008000"/>
          </a:xfrm>
          <a:prstGeom prst="flowChartAlternateProcess">
            <a:avLst/>
          </a:prstGeom>
          <a:gradFill rotWithShape="0">
            <a:gsLst>
              <a:gs pos="0">
                <a:srgbClr val="262740"/>
              </a:gs>
              <a:gs pos="100000">
                <a:srgbClr val="53548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edede"/>
                </a:solidFill>
                <a:latin typeface="Tahoma"/>
              </a:rPr>
              <a:t>Круглосуточно слушаю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edede"/>
                </a:solidFill>
                <a:latin typeface="Tahoma"/>
              </a:rPr>
              <a:t>громкую музы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10" descr="тел"/>
          <p:cNvPicPr/>
          <p:nvPr/>
        </p:nvPicPr>
        <p:blipFill>
          <a:blip r:embed="rId1"/>
          <a:stretch/>
        </p:blipFill>
        <p:spPr>
          <a:xfrm>
            <a:off x="4932360" y="4365720"/>
            <a:ext cx="3429000" cy="2274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общение2"/>
          <p:cNvPicPr/>
          <p:nvPr/>
        </p:nvPicPr>
        <p:blipFill>
          <a:blip r:embed="rId2"/>
          <a:stretch/>
        </p:blipFill>
        <p:spPr>
          <a:xfrm>
            <a:off x="4500720" y="1844640"/>
            <a:ext cx="4248000" cy="214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Новые увлечения, связанные с желанием подражать взрослым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250920" y="1916280"/>
            <a:ext cx="4465440" cy="792000"/>
          </a:xfrm>
          <a:prstGeom prst="flowChartTerminator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edede"/>
                </a:solidFill>
                <a:latin typeface="Tahoma"/>
              </a:rPr>
              <a:t>Увлечение компьютерны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edede"/>
                </a:solidFill>
                <a:latin typeface="Tahoma"/>
              </a:rPr>
              <a:t>играми, мобильными телефон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0920" y="2924280"/>
            <a:ext cx="4392360" cy="792000"/>
          </a:xfrm>
          <a:prstGeom prst="flowChartTerminator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edede"/>
                </a:solidFill>
                <a:latin typeface="Tahoma"/>
              </a:rPr>
              <a:t>Рассуждения о совреме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edede"/>
                </a:solidFill>
                <a:latin typeface="Tahoma"/>
              </a:rPr>
              <a:t>музыкальных течен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250920" y="4076640"/>
            <a:ext cx="4392360" cy="792360"/>
          </a:xfrm>
          <a:prstGeom prst="flowChartTerminator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edede"/>
                </a:solidFill>
                <a:latin typeface="Tahoma"/>
              </a:rPr>
              <a:t>Рассуждения о «прикольной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edede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dedede"/>
                </a:solidFill>
                <a:latin typeface="Tahoma"/>
              </a:rPr>
              <a:t>одежд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9"/>
          <p:cNvSpPr/>
          <p:nvPr/>
        </p:nvSpPr>
        <p:spPr>
          <a:xfrm>
            <a:off x="324000" y="5300640"/>
            <a:ext cx="4319280" cy="792360"/>
          </a:xfrm>
          <a:prstGeom prst="flowChartTerminator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edede"/>
                </a:solidFill>
                <a:latin typeface="Tahoma"/>
              </a:rPr>
              <a:t>Обсуждение темы наркотиков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edede"/>
                </a:solidFill>
                <a:latin typeface="Tahoma"/>
              </a:rPr>
              <a:t>сигар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10" descr="комп2"/>
          <p:cNvPicPr/>
          <p:nvPr/>
        </p:nvPicPr>
        <p:blipFill>
          <a:blip r:embed="rId1"/>
          <a:stretch/>
        </p:blipFill>
        <p:spPr>
          <a:xfrm>
            <a:off x="6948360" y="1052640"/>
            <a:ext cx="2195640" cy="2009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одежда"/>
          <p:cNvPicPr/>
          <p:nvPr/>
        </p:nvPicPr>
        <p:blipFill>
          <a:blip r:embed="rId2"/>
          <a:stretch/>
        </p:blipFill>
        <p:spPr>
          <a:xfrm>
            <a:off x="4716360" y="2349360"/>
            <a:ext cx="2427480" cy="2427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наркотики"/>
          <p:cNvPicPr/>
          <p:nvPr/>
        </p:nvPicPr>
        <p:blipFill>
          <a:blip r:embed="rId3"/>
          <a:stretch/>
        </p:blipFill>
        <p:spPr>
          <a:xfrm>
            <a:off x="6478560" y="4699080"/>
            <a:ext cx="2665440" cy="2158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rebuchet MS"/>
              </a:rPr>
              <a:t>Возрастные особенности младшего подростка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28556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требность в достойном положении в коллективе сверстников, в семье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вышенная утомляемость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тремление обзавестись верным другом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тремление избежать изоляции, как в классе, так и в малом коллективе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вышенный интерес к вопросу о “соотношении сил” в классе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тремление отмежеваться от всего подчеркнуто детского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тсутствие авторитета возраста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твращение к необоснованным запретам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осприимчивость к промахам учителей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ереоценка своих возможностей, реализация которых предполагается в отдаленном будущем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тсутствие адаптации к неудачам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тсутствие адаптации к положению “худшего”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енденция предаваться мечтаниям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боязнь осквернения мечты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ярко выраженная эмоциональность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ребовательность к соответствию слова делу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вышенный интерес к спорту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увлечение коллекционированием, увлечение музыкой и киноискусством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1:08:01Z</dcterms:created>
  <dc:creator>MOMatem</dc:creator>
  <dc:description/>
  <cp:keywords/>
  <dc:language>en-US</dc:language>
  <cp:lastModifiedBy> </cp:lastModifiedBy>
  <dcterms:modified xsi:type="dcterms:W3CDTF">2010-11-18T03:31:10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981049</vt:lpwstr>
  </property>
</Properties>
</file>