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711-20A4-4C2D-9C18-52D812BF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14D-DC07-4011-A4D0-0780E34B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B44-7333-474A-ACCA-14A3085E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0C8-C422-47F2-8BE4-A700AA25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A14-0021-44D0-9FF0-85880C97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8BF-483C-4C84-834B-10F1FC6F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A83-A8BB-418A-A0C3-0ED76CA2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21C-045E-40ED-A3EE-43B76576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BCA-2110-41F4-9E61-A9189643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D46-ED78-4FD8-9CBB-6E246AF3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190-36B7-43E4-BBF0-6B0AB6C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6DD-0748-4546-8C07-85771B6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05EF-1023-42BA-898C-6CC810531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\Desktop\hello_html_m3294f811.pn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42920" y="1143000"/>
            <a:ext cx="90010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музыкального руководителя с ведущим и воспитателями по подготовке праздника заключается в поддержании постоянного контакта, обсуждении деталей сценария, уточнении последовательного хода праздника и совместных действий всех его участ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роли тщательно репетируются и уточняются все нюансы поведения на праздн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ценировки и стихи должны разучиваться в группе со всеми детьми, чтобы при необходимости могла произойти замена болеющего ребенка, или замена роли в инсцениров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не должны быть свидетелями разговоров взрослых о новогодних подарках от Деда Мороза, о приглашении кого-либо на роли сказочных героев. Иначе, разрушается сюрпризност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сновной компонент празд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нуне праздника ведущ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музыкального руководителя организует готовность зала, атрибутов, элементов костюмов и предметов для игр, т.е. проверяет готовность к праздн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тель должен знать порядок номеров наизу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ить за дисциплиной, поправлять детей коррек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ть стихи и детей, их читающих, вовремя подсказывать начало стихотво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ть на себя роли в спектаклях. Не отказываться от принятой ро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ль ведущего очень ответственна, этот педагог должен обладать музыкальностью, артистичностью, уметь держаться на сцене, должен быть эмоциональным, находчи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зыкальности детей, сближает воспитателя и ребенка, позволяет музыкальному руково­дителю сосредоточиться на исполнитель­ском мастерстве в процессе развития у до­школьников музыкального восприятия. Все это возможно при успешности осуще­ствления взаимодействия воспитателя и музыкального руководи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28800" y="42876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заимодействие воспитате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музыкального руководителя на утрен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06:56Z</dcterms:created>
  <dc:creator>Alessana</dc:creator>
  <dc:description/>
  <dc:language>en-US</dc:language>
  <cp:lastModifiedBy>admin</cp:lastModifiedBy>
  <dcterms:modified xsi:type="dcterms:W3CDTF">2019-12-08T13:22:00Z</dcterms:modified>
  <cp:revision>36</cp:revision>
  <dc:subject/>
  <dc:title>Слайд 1</dc:title>
</cp:coreProperties>
</file>