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2" end="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D18A-ACBB-4595-9283-20CD9008C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7F27-F626-4E3D-805B-A90C1350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F2DC-CD12-4B8A-8FCB-3E7AB74AB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26E7-3121-4668-A94C-993A20C0E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CE32-8F49-4861-8F38-2868EECB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D8D4-F080-4370-92E6-3490300D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8AD2-7FF7-4513-BA2C-D0313BF8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B9C2-A6B9-4E98-978F-C967F882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2D3B-A848-40D5-8A5D-A84CD9D5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CC5E-04D2-48CA-8354-2EDB4C31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2CBE-A9F4-42E6-984C-C5922EEC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E754-F006-423E-B4BB-23840D31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09CE-B8CC-436A-8BC4-8EE84C473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4365720"/>
            <a:ext cx="6842160" cy="1727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Where’s Chuck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16360" y="1341360"/>
            <a:ext cx="2952720" cy="2573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19280" y="4653000"/>
            <a:ext cx="626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T Sans"/>
              </a:rPr>
              <a:t>Автор: Гартель Т.В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T Sans"/>
              </a:rPr>
              <a:t>учитель англий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T Sans"/>
              </a:rPr>
              <a:t>ГБОУ СОШ №71 г. Санкт-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1728720" cy="1506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58920" y="2781360"/>
            <a:ext cx="187308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Y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948360" y="2565360"/>
            <a:ext cx="129708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16720" y="5084640"/>
            <a:ext cx="129708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11640" y="3068640"/>
            <a:ext cx="129708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03280" y="4869000"/>
            <a:ext cx="1297080" cy="12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859280" y="4581360"/>
            <a:ext cx="3691080" cy="2013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3456000" cy="2409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614920" y="1916280"/>
            <a:ext cx="3529080" cy="2387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179280" y="1413000"/>
            <a:ext cx="3384720" cy="2259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3419640" y="2585880"/>
            <a:ext cx="3024000" cy="2281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421080" y="1052640"/>
            <a:ext cx="2879640" cy="576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Where’s Chuckle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35280" y="1052640"/>
            <a:ext cx="259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e’s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the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47640" y="1844640"/>
            <a:ext cx="129708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372360" y="4667400"/>
            <a:ext cx="1728720" cy="1506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299280" y="5603760"/>
            <a:ext cx="187308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Y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859280" y="4581360"/>
            <a:ext cx="3691080" cy="2013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79280" y="1413000"/>
            <a:ext cx="3384720" cy="2259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948360" y="2565360"/>
            <a:ext cx="129708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11640" y="3068640"/>
            <a:ext cx="129708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4869000"/>
            <a:ext cx="1297080" cy="12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468360" y="4221000"/>
            <a:ext cx="3456000" cy="2409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5614920" y="1916280"/>
            <a:ext cx="3529080" cy="2387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3419640" y="2585880"/>
            <a:ext cx="3024000" cy="2281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421080" y="1052640"/>
            <a:ext cx="2879640" cy="576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00000" y="333360"/>
            <a:ext cx="77724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Where’s Chuckle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635280" y="1052640"/>
            <a:ext cx="259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e’s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the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300720" y="4941720"/>
            <a:ext cx="129708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87280" y="4437000"/>
            <a:ext cx="1729080" cy="1506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114560" y="5373720"/>
            <a:ext cx="187308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Y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68360" y="4221000"/>
            <a:ext cx="3456000" cy="24098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859280" y="4581360"/>
            <a:ext cx="3691080" cy="2013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547640" y="1844640"/>
            <a:ext cx="129708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79280" y="1413000"/>
            <a:ext cx="3384720" cy="2259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948360" y="2565360"/>
            <a:ext cx="129708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11640" y="3068640"/>
            <a:ext cx="129708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5614920" y="1916280"/>
            <a:ext cx="3529080" cy="23875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3419640" y="2585880"/>
            <a:ext cx="3024000" cy="22813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421080" y="1052640"/>
            <a:ext cx="2879640" cy="576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00000" y="333360"/>
            <a:ext cx="77724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Where’s Chuckle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35280" y="1052640"/>
            <a:ext cx="259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e’s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the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547640" y="4869000"/>
            <a:ext cx="1297080" cy="12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924360" y="2779560"/>
            <a:ext cx="1728720" cy="1506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51280" y="3716280"/>
            <a:ext cx="187308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Y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68360" y="4221000"/>
            <a:ext cx="3456000" cy="2409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300720" y="4941720"/>
            <a:ext cx="129708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859280" y="4581360"/>
            <a:ext cx="3691080" cy="2013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547640" y="1844640"/>
            <a:ext cx="129708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79280" y="1413000"/>
            <a:ext cx="3384720" cy="2259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948360" y="2565360"/>
            <a:ext cx="129708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5614920" y="1916280"/>
            <a:ext cx="3529080" cy="2387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3419640" y="2585880"/>
            <a:ext cx="3024000" cy="22813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421080" y="1052640"/>
            <a:ext cx="2879640" cy="576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333360"/>
            <a:ext cx="77724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Where’s Chuckle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35280" y="1052640"/>
            <a:ext cx="259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e’s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the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211640" y="3141720"/>
            <a:ext cx="129708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77080" y="2060640"/>
            <a:ext cx="1728720" cy="1506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804000" y="2997360"/>
            <a:ext cx="1873440" cy="12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Y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614920" y="1916280"/>
            <a:ext cx="3529080" cy="2387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547640" y="4869000"/>
            <a:ext cx="1297080" cy="12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3456000" cy="2409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300720" y="4941720"/>
            <a:ext cx="129708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4859280" y="4581360"/>
            <a:ext cx="3691080" cy="2013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547640" y="1844640"/>
            <a:ext cx="129708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N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179280" y="1413000"/>
            <a:ext cx="3384720" cy="2259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3419640" y="2585880"/>
            <a:ext cx="3024000" cy="2281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421080" y="1052640"/>
            <a:ext cx="2879640" cy="576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00000" y="333360"/>
            <a:ext cx="77724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Where’s Chuckle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35280" y="1052640"/>
            <a:ext cx="259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e’s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the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23T21:46:59Z</dcterms:created>
  <dc:creator>Демонстрационная версия</dc:creator>
  <dc:description/>
  <dc:language>en-US</dc:language>
  <cp:lastModifiedBy>Демонстрационная версия</cp:lastModifiedBy>
  <dcterms:modified xsi:type="dcterms:W3CDTF">2019-11-05T15:34:09Z</dcterms:modified>
  <cp:revision>4</cp:revision>
  <dc:subject/>
  <dc:title>Where’s Chuckles?</dc:title>
</cp:coreProperties>
</file>