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3D3-A832-4E1D-9F56-231A71B9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65D-FC70-43F2-BFD6-F6FE32B2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67A-508B-44F9-BC09-D0F0A11C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003-6662-4A71-BC92-714A5D23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1EB-6AAD-4354-A68F-5055FEC9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BC6-9AC4-4BD9-B357-3597F11F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0D2-9818-43E5-892B-5D182AB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A59-27A3-46F1-9365-EBBDAB5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97F-6412-41DD-9A23-FD6A19CD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D61-FA74-43AB-A7CF-1CA16D1E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BFC-C410-4A07-8392-3F4B3125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431-30B8-474A-97A1-C6A0D647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8395-93F8-44FB-BDC4-1ABFA78BF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4365720"/>
            <a:ext cx="6842160" cy="172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295272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4653000"/>
            <a:ext cx="62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T Sans"/>
              </a:rPr>
              <a:t>Автор: Гартель Т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T Sans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T Sans"/>
              </a:rPr>
              <a:t>ГБОУ СОШ №71 г.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1728720" cy="150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2781360"/>
            <a:ext cx="187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48360" y="256536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508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3068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4869000"/>
            <a:ext cx="12970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184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72360" y="4667400"/>
            <a:ext cx="1728720" cy="1506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299280" y="5603760"/>
            <a:ext cx="187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48360" y="256536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3068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4869000"/>
            <a:ext cx="12970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300720" y="494172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4437000"/>
            <a:ext cx="1729080" cy="1506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14560" y="5373720"/>
            <a:ext cx="187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47640" y="184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948360" y="256536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3068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47640" y="4869000"/>
            <a:ext cx="12970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24360" y="2779560"/>
            <a:ext cx="1728720" cy="1506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1280" y="3716280"/>
            <a:ext cx="187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300720" y="494172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47640" y="184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48360" y="256536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11640" y="314172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77080" y="2060640"/>
            <a:ext cx="1728720" cy="1506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04000" y="2997360"/>
            <a:ext cx="187344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47640" y="4869000"/>
            <a:ext cx="12970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0720" y="494172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47640" y="184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3T21:46:59Z</dcterms:created>
  <dc:creator>Демонстрационная версия</dc:creator>
  <dc:description/>
  <dc:language>en-US</dc:language>
  <cp:lastModifiedBy>Демонстрационная версия</cp:lastModifiedBy>
  <dcterms:modified xsi:type="dcterms:W3CDTF">2019-11-05T15:34:09Z</dcterms:modified>
  <cp:revision>4</cp:revision>
  <dc:subject/>
  <dc:title>Where’s Chuckles?</dc:title>
</cp:coreProperties>
</file>