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002-79F7-4173-91E3-0452F3F1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794-2998-4A59-89F1-C3823F10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29A-F5B4-44BB-A329-8B0FE379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BDC-C787-4CC7-A00C-F89D22CB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27F-110D-4076-BACC-1E7DDF92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F06-72C4-4F3F-8A85-9CB70E2F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F03-E4FF-4F6F-BDA0-BC75F1B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5F2-F95D-4A36-9D76-441F59B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8C1-DAF1-469F-8EAE-D104A43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60B-93E2-4EB4-9B37-381C8AE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650-C937-4329-A665-6540A03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930-F870-4767-BAA4-1F85902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D975-D000-44E8-8AE0-1BEAE23CD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80240" y="5070600"/>
            <a:ext cx="2363760" cy="1771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24000" y="476280"/>
            <a:ext cx="86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чем нужно ГТ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в дошкольном возрас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08000" y="278136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(Первая ступень ГТО или после семи уже позд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187280" y="8100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96920" y="70164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«Горжусь тобой, Отечество (ГТО)» повышение эффективности использования возможностей физической культуры и спорта в укреплении здоровья, гармоничном и всестороннем развитии личности, воспитании патриотизма и гражданственности, улучшении качества жизни граждан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755640" y="115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Задачи комплекс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412920" y="620640"/>
            <a:ext cx="83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еличение числа граждан, систематически занимающихся физической культурой и спор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уровня физической подготовленности, продолжительности жизни гражда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населения осознанных потребностей в систематических занятиях физической культурой и спортом, физическом самосовершенствовании, ведении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общего уровня знаний населения о средствах, методах и формах организации самостоятельных занятий, в  том числе с использованием современных информационных технолог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рнизация системы физического воспитания и системы развития массового, детско-юношеского, школьного и студенческого спорта в образовательных организациях, в том числе путем увеличения количества спортивных клуб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042920" y="260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Структу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901800" y="906480"/>
            <a:ext cx="7408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упень- от 6 до 8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упень – от 9 до 10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ступень – от 11 до 12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я ступень – от 13 до 15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ступень – от 16 до 17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я ступень – от 18 до 2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ьмая ступень – от 30 до 3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ая ступень – от 40 до 4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ая ступень – от 50 до 59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ая ступень – от 60 до 69 л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надцатая ступень – от 70 лет и стар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Ольга\Downloads\p92_normyigto.jpg"/>
          <p:cNvPicPr/>
          <p:nvPr/>
        </p:nvPicPr>
        <p:blipFill>
          <a:blip r:embed="rId3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46836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Обязательные испыт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9280" y="9810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ночный бег 3х10 м (се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ое передвижение (1к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ок в длину с места толчком двумя ногами (с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ягивание из виса на высокой перекладине (кол-во раз) или подтягивание из виса лежа на низкой перекладине (кол-во раз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ание и разгибание рук в упоре лежа на полу (кол-во раз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647640" y="836640"/>
            <a:ext cx="77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клон вперед из положения стоя с прямыми ногами на полу. (Достать пол пальцами. Достать пол ладоням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етание теннисного мяча в цель (кол-во попад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Бег на лыжах на 1 км., (мин., сек.), или на 2 км (без учета времен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лавание без учета времени (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1236600" y="12600"/>
            <a:ext cx="6602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Ольга\Downloads\i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Ольга\Documents\для работы\все для работы\наташа фих\zolotoy-znachok-gto-300x296.png"/>
          <p:cNvPicPr/>
          <p:nvPr/>
        </p:nvPicPr>
        <p:blipFill>
          <a:blip r:embed="rId2"/>
          <a:stretch/>
        </p:blipFill>
        <p:spPr>
          <a:xfrm>
            <a:off x="6765840" y="5084640"/>
            <a:ext cx="2363760" cy="1773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611280" y="115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Требования к оценке уровня знаний и умений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79280" y="124632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лияние занятий физической культурой на состояние здоровья, повышение умственной и физической работоспособ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гигиена занятий физической культур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сновные методы контроля физического состояния при занятиях различными физкультурно-оздоровительными системами и видами спор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сновы методики самостоятельных занят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сновы истории развития физической культуры и спор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овладение практическими умениями и навыками физкультурно-оздоровительной и прикладной направленности, овладение умениями и навыками в различных видах физкультурно- спортив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13:38:31Z</dcterms:created>
  <dc:creator>Ольга</dc:creator>
  <dc:description/>
  <dc:language>en-US</dc:language>
  <cp:lastModifiedBy>name</cp:lastModifiedBy>
  <dcterms:modified xsi:type="dcterms:W3CDTF">2017-09-27T04:11:20Z</dcterms:modified>
  <cp:revision>14</cp:revision>
  <dc:subject/>
  <dc:title>Презентация PowerPoint</dc:title>
</cp:coreProperties>
</file>