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385-3E20-4D3F-B75D-B5912DE6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168-33C5-44D3-8B84-DD1AF055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103-BDEE-4597-9D36-92C0B35E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5FB-0C67-4294-87CB-B2C99C92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CBDD-F7BA-4D0B-BEA5-F9193F18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B7FF5-6E01-4DF8-A010-574C1B41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7073-87E6-42C9-915D-BD19CE96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21CE-EAC5-404C-957D-99FBF98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2EE0B-9C9A-4649-8B97-AB4D6CB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7F061-5F6C-4343-ABE0-837502F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3FD6F-C73E-4787-8CBA-FE3579A9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C34-892A-411A-ACE9-5B66D00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6759E-5B7B-462A-B161-0C4A977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7470-0D63-472E-835F-D306835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849B5-B1E6-4B4C-BFF1-B93ADED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381B9-17EE-4322-A919-580BD05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F00C4-E4AA-4FD7-9C38-EDE433F2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E92-9360-4221-A527-CCED1CF7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BB9-68E2-499C-96C7-8269D06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F75-BA7C-4D6B-8366-1B9BAB9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6D8-761F-4D39-883C-D34FF2BD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EFA-8063-483A-885C-5F69593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575-29C7-4AF2-B90E-2EEA16E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203-3D1B-4CCC-B302-B87F2612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75B-AEC4-4D73-B9B7-946B8D30ED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3090-0030-4655-93D5-C9D21FBEA6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 Свойства степен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 натуральным показателем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озвести в степень произведение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озвести в степень частно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55640" y="2421000"/>
                <a:ext cx="16556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2852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48000" y="2421000"/>
                <a:ext cx="1670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8360" y="4076640"/>
                <a:ext cx="196380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40000" y="5157720"/>
                <a:ext cx="79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6720" y="4149720"/>
                <a:ext cx="1149120" cy="24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репляем зн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1 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2 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13 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14 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19 (а,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.24 (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едём итоги нашего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называется тема уро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умножить степени с одинаковыми показател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разделить степени с одинаковыми показател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озвести в степень произвед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возвести в степень частн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8   №18.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8.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8.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спомним действия со степенями с одинаковыми основания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к умножить степени с одинаковыми основаниям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к разделить степени с одинаковыми основаниями? Какое условие должно выполняться в данном свойств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к возвести степень в степе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12000" y="1989000"/>
                <a:ext cx="2030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3357720"/>
                <a:ext cx="360216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5300640"/>
                <a:ext cx="2195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едостережение –не сочиняйте новых правил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оверьте, верны ли равенств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261576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29880" y="2787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0920" y="1989000"/>
                <a:ext cx="554508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19640" y="4292640"/>
                <a:ext cx="5349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числит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261576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63640" y="1773360"/>
                <a:ext cx="4327560" cy="28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способ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спосо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00360" y="1989000"/>
                <a:ext cx="2879640" cy="20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27280" y="4221000"/>
                <a:ext cx="287964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окомментируйте доказательств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261576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0" y="2133720"/>
                <a:ext cx="91472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⋅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⋅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  <m:r>
                                              <m:t xml:space="preserve">⋅</m:t>
                                            </m:r>
                                            <m:r>
                                              <m:t xml:space="preserve">…</m:t>
                                            </m:r>
                                            <m:r>
                                              <m:t xml:space="preserve">⋅</m:t>
                                            </m:r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e>
                                    </m:groupChr>
                                  </m:e>
                                  <m:lim>
                                    <m:r>
                                      <m:t xml:space="preserve">n</m:t>
                                    </m:r>
                                  </m:lim>
                                </m:limLow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  <m:r>
                          <m:t xml:space="preserve">=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кройте закономер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формулируй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кажи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1120" y="190476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00720" y="2133720"/>
                <a:ext cx="3935160" cy="31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елаем вывод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умножить степени с одинаковыми показател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разделить степени с одинаковыми показателя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ойство любой формулы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жно применять как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слева направ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так 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справа нале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360" y="190476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181120" y="190476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84360" y="2852640"/>
                <a:ext cx="1656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990360" y="40384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63640" y="3141720"/>
                <a:ext cx="792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602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5280" y="2852640"/>
                <a:ext cx="1440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16360" y="2852640"/>
                <a:ext cx="1656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27640" y="3284640"/>
                <a:ext cx="648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020000" y="2852640"/>
                <a:ext cx="172872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5280" y="4724280"/>
                <a:ext cx="90972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58920" y="5445000"/>
                <a:ext cx="79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79640" y="4724280"/>
                <a:ext cx="15048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4508640"/>
                <a:ext cx="165744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5373720"/>
                <a:ext cx="79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77080" y="4581360"/>
                <a:ext cx="9572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7:08:43Z</dcterms:created>
  <dc:creator>User</dc:creator>
  <dc:description/>
  <dc:language>en-US</dc:language>
  <cp:lastModifiedBy>Елена</cp:lastModifiedBy>
  <dcterms:modified xsi:type="dcterms:W3CDTF">2012-11-13T17:53:52Z</dcterms:modified>
  <cp:revision>9</cp:revision>
  <dc:subject/>
  <dc:title>З Д Р А В С Т В У Й Т Е !</dc:title>
</cp:coreProperties>
</file>