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CA4B-5237-4A43-8799-85097CDD2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F150-BE02-43B7-89CF-DFF3AC47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0BDE-C9EB-40FA-80EB-68AFC1C9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46B4-1E1E-4BFD-8E66-096BF4D52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89E0-304B-4546-973C-90FC465D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820D-B501-440F-8B64-2B9E4CD7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9645-E716-4577-99C5-EA4CF5C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B8EF-A656-4F1D-AEE3-35E0613F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5DA4-00D8-468D-9300-6BAD9E9F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D3F0-1D5F-4017-854A-0B3DD54A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7F29-5763-46E6-A94D-2BC04E52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7835-2ECA-407A-BB2A-808AA088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47469-224B-40EF-8DA2-03F35CC6F3B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лементы векторной алгеб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00120" y="500040"/>
            <a:ext cx="62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читание векторов методом треуголь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928800" y="19288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428840" y="292896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3929040" y="3357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5857920" y="3143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1857240" y="4929120"/>
            <a:ext cx="392904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b  =   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1079640" y="197964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00000" y="1794960"/>
            <a:ext cx="1619280" cy="108900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1440000" y="2879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360360" y="3600360"/>
            <a:ext cx="2700360" cy="180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780000" y="3414240"/>
            <a:ext cx="1439640" cy="90972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3419640"/>
            <a:ext cx="1260360" cy="900000"/>
          </a:xfrm>
          <a:prstGeom prst="line">
            <a:avLst/>
          </a:prstGeom>
          <a:ln w="360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4319640"/>
            <a:ext cx="2700000" cy="144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3959280" y="341964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324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5040360" y="37800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504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780000" y="504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504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5040360" y="3780000"/>
            <a:ext cx="360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28800" y="50004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множение вектора на скаля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5072040" y="5143680"/>
            <a:ext cx="10717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209920" y="2928960"/>
            <a:ext cx="111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071880" y="3000240"/>
            <a:ext cx="10713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4143240" y="3000240"/>
            <a:ext cx="107172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066920" y="2928960"/>
            <a:ext cx="111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4000680" y="5143680"/>
            <a:ext cx="10713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38280" y="5072040"/>
            <a:ext cx="111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995280" y="5072040"/>
            <a:ext cx="111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785880" y="14288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785880" y="40006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6500880" y="235728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5357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3 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2571840" y="171468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2571840" y="407196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-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500280"/>
            <a:ext cx="9144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14400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720720" y="2160720"/>
            <a:ext cx="1079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2992320"/>
            <a:ext cx="1260360" cy="180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251928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414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720720" y="5040360"/>
            <a:ext cx="10778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874600" y="5153040"/>
            <a:ext cx="1089000" cy="1440"/>
          </a:xfrm>
          <a:prstGeom prst="line">
            <a:avLst/>
          </a:prstGeom>
          <a:ln w="36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2879640" y="5400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57120" y="10717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тематические действия с вектор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изводятся геометричес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57160" y="714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оекция вектора на о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993760" y="2500200"/>
            <a:ext cx="11160" cy="714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495400" y="1714680"/>
            <a:ext cx="11160" cy="1500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15001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2786040" y="342900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5297400" y="34196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285840" y="414324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кцией вектора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 ось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ется отрезок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ду проекциями на эту ось начала и конца век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2597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1800360" y="3240000"/>
            <a:ext cx="52196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060720" y="3223800"/>
            <a:ext cx="2430360" cy="2052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 rot="10800000">
            <a:off x="2897280" y="3114720"/>
            <a:ext cx="179280" cy="179280"/>
          </a:xfrm>
          <a:prstGeom prst="ellipse">
            <a:avLst/>
          </a:prstGeom>
          <a:solidFill>
            <a:srgbClr val="ff420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5365800" y="3094200"/>
            <a:ext cx="179280" cy="179280"/>
          </a:xfrm>
          <a:prstGeom prst="ellipse">
            <a:avLst/>
          </a:prstGeom>
          <a:solidFill>
            <a:srgbClr val="ff420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161928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429264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25800" y="1647360"/>
            <a:ext cx="2463840" cy="88740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3068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2133720"/>
            <a:ext cx="2360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= 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4200" y="28584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направление вектора совпадает с положительным направлением оси, то проекция вектора на ось положитель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843280" y="3419640"/>
            <a:ext cx="41040" cy="1203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01800" y="2560680"/>
            <a:ext cx="11160" cy="2073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3643200" y="242892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2714760" y="4786200"/>
            <a:ext cx="7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5214960" y="48578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3571920" y="39290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6848640" y="431964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1285920" y="5500800"/>
            <a:ext cx="2357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       оХ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251928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879640" y="2514240"/>
            <a:ext cx="2519280" cy="90972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1800360" y="4680000"/>
            <a:ext cx="504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144000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979640" y="5575320"/>
            <a:ext cx="1440" cy="549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160720" y="5575320"/>
            <a:ext cx="1440" cy="549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2879640" y="4680000"/>
            <a:ext cx="2519280" cy="144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4200" y="28584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направление вектора не совпадает с положительным направлением оси, то проекция вектора на ось отрицатель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"/>
          <p:cNvCxnSpPr/>
          <p:nvPr/>
        </p:nvCxnSpPr>
        <p:spPr>
          <a:xfrm>
            <a:off x="1643040" y="4642920"/>
            <a:ext cx="5858640" cy="3960"/>
          </a:xfrm>
          <a:prstGeom prst="bentConnector3">
            <a:avLst>
              <a:gd name="adj1" fmla="val 49996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 flipH="1">
            <a:off x="2922120" y="2214720"/>
            <a:ext cx="11160" cy="243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424120" y="3430440"/>
            <a:ext cx="11160" cy="1214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4000680" y="22147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5214960" y="4714920"/>
            <a:ext cx="7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2714760" y="47149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2928960" y="4643280"/>
            <a:ext cx="25002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3571920" y="39290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&lt;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7429680" y="435780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1285920" y="5500800"/>
            <a:ext cx="2714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       оХ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2876040" y="2154240"/>
            <a:ext cx="2529000" cy="127008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23400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144000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979640" y="5575320"/>
            <a:ext cx="1440" cy="549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5580000"/>
            <a:ext cx="1440" cy="5396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4200" y="2858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вектор перпендикулярен оси, то проекция вектора на ось равна 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844360" y="3478320"/>
            <a:ext cx="11160" cy="1144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5400720" y="3240000"/>
            <a:ext cx="28440" cy="1405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5572080" y="18572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2214720" y="2143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2428920" y="47862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7429680" y="435780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1260360" y="5468760"/>
            <a:ext cx="270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      о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756880" y="45165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5150160" y="47862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994040" y="5643720"/>
            <a:ext cx="1080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1857240" y="5929200"/>
            <a:ext cx="28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4821120" y="5572080"/>
            <a:ext cx="2379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709960" y="5715000"/>
            <a:ext cx="1116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5572080" y="6000840"/>
            <a:ext cx="285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2160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879640" y="2154240"/>
            <a:ext cx="1800" cy="127008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>
            <a:off x="5400720" y="2340000"/>
            <a:ext cx="1440" cy="90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5580000" y="180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1440000" y="4680000"/>
            <a:ext cx="540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5365800" y="4511520"/>
            <a:ext cx="179280" cy="17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/>
          <p:nvPr/>
        </p:nvSpPr>
        <p:spPr>
          <a:xfrm>
            <a:off x="144000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/>
          <p:nvPr/>
        </p:nvSpPr>
        <p:spPr>
          <a:xfrm>
            <a:off x="485928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71680" y="71424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екция вектора на ось - это скаляр, поэтому математические действия с проекциями производятся алгебраичес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47680" y="7776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одуль векто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774600" y="2700360"/>
            <a:ext cx="11160" cy="787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294600" y="1440000"/>
            <a:ext cx="10800" cy="2109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/>
          <p:nvPr/>
        </p:nvSpPr>
        <p:spPr>
          <a:xfrm>
            <a:off x="4500720" y="15177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>
            <a:off x="3564000" y="3357720"/>
            <a:ext cx="8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/>
          <p:nvPr/>
        </p:nvSpPr>
        <p:spPr>
          <a:xfrm>
            <a:off x="6076800" y="33354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3933720"/>
            <a:ext cx="2360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= 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/>
          <p:nvPr/>
        </p:nvSpPr>
        <p:spPr>
          <a:xfrm>
            <a:off x="7572240" y="321480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35320" y="2695320"/>
            <a:ext cx="581040" cy="11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234960" y="1434600"/>
            <a:ext cx="3009960" cy="11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/>
          <p:nvPr/>
        </p:nvSpPr>
        <p:spPr>
          <a:xfrm>
            <a:off x="142920" y="1928880"/>
            <a:ext cx="2017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668680" y="11588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2700360" y="241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>
            <a:off x="1897200" y="5491080"/>
            <a:ext cx="3135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  = √ 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² +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974600" y="5691240"/>
            <a:ext cx="11160" cy="42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285920" y="4924080"/>
            <a:ext cx="1440" cy="11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34960" y="5691240"/>
            <a:ext cx="11160" cy="42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5661000"/>
            <a:ext cx="15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780000" y="1434960"/>
            <a:ext cx="2519280" cy="127008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228840" y="952200"/>
            <a:ext cx="1800" cy="2529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/>
          <p:nvPr/>
        </p:nvSpPr>
        <p:spPr>
          <a:xfrm>
            <a:off x="4500720" y="161928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/>
          <p:nvPr/>
        </p:nvSpPr>
        <p:spPr>
          <a:xfrm>
            <a:off x="3251160" y="3487680"/>
            <a:ext cx="43196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/>
          <p:nvPr/>
        </p:nvSpPr>
        <p:spPr>
          <a:xfrm>
            <a:off x="197964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/>
          <p:nvPr/>
        </p:nvSpPr>
        <p:spPr>
          <a:xfrm>
            <a:off x="2733840" y="585720"/>
            <a:ext cx="360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/>
          <p:nvPr/>
        </p:nvSpPr>
        <p:spPr>
          <a:xfrm>
            <a:off x="3790800" y="3441600"/>
            <a:ext cx="2519640" cy="1800"/>
          </a:xfrm>
          <a:prstGeom prst="line">
            <a:avLst/>
          </a:prstGeom>
          <a:ln w="360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0" y="1440000"/>
            <a:ext cx="1800" cy="1260360"/>
          </a:xfrm>
          <a:prstGeom prst="line">
            <a:avLst/>
          </a:prstGeom>
          <a:ln w="36000">
            <a:solidFill>
              <a:srgbClr val="3de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>
            <a:off x="3780000" y="2700360"/>
            <a:ext cx="2519280" cy="1440"/>
          </a:xfrm>
          <a:prstGeom prst="line">
            <a:avLst/>
          </a:prstGeom>
          <a:ln w="3600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6300720" y="1440000"/>
            <a:ext cx="1800" cy="1260360"/>
          </a:xfrm>
          <a:prstGeom prst="line">
            <a:avLst/>
          </a:prstGeom>
          <a:ln w="3600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/>
          <p:nvPr/>
        </p:nvSpPr>
        <p:spPr>
          <a:xfrm>
            <a:off x="1619280" y="4819680"/>
            <a:ext cx="4897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еореме Пифаг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0" y="1619280"/>
            <a:ext cx="54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2879640"/>
            <a:ext cx="72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7120" y="185724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ческие величины  могут быть скалярными и вектор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7120" y="428760"/>
            <a:ext cx="8786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алярными величинами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ываются такие величины, которые характеризуются только числовым значени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57120" y="27147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МЕР:  время, масса, путь, давление, плотность, объём и т.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200" y="357120"/>
            <a:ext cx="86439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кторными величинами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ываются такие величины, которые характеризуются числовым значением и направлени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57120" y="300024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МЕР: скорость, сила, ускорение, перемещение, вектор магнитной индукции, напряжённость и т.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14240" y="428760"/>
            <a:ext cx="82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ктор –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о направленный отрез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000240" y="221472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419640"/>
            <a:ext cx="214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- начало вект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643040" y="328608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5786280" y="2143080"/>
            <a:ext cx="22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- конец вект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00360" y="2334960"/>
            <a:ext cx="4140000" cy="1089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3400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28760" y="21420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йствия над вектор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428840" y="9288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ложение вект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142920" y="1785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векторы коллениарны, то есть параллельны друг другу, т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786120" y="3716280"/>
            <a:ext cx="1800" cy="1141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496200" y="3716280"/>
            <a:ext cx="10800" cy="1141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0718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071720" y="4143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000680" y="3143160"/>
            <a:ext cx="283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      +  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048040" y="5342040"/>
            <a:ext cx="4262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    +      b  =   c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324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079640" y="414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80000"/>
            <a:ext cx="1619280" cy="144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4859280"/>
            <a:ext cx="900360" cy="180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813120" y="3713040"/>
            <a:ext cx="1619280" cy="180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5400720" y="3780000"/>
            <a:ext cx="1079280" cy="144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859280"/>
            <a:ext cx="2700000" cy="1800"/>
          </a:xfrm>
          <a:prstGeom prst="line">
            <a:avLst/>
          </a:prstGeom>
          <a:ln w="360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324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3213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4365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551664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5445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5445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0360" y="500040"/>
            <a:ext cx="74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ложение векторов методом параллелограм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"/>
          <p:cNvCxnSpPr/>
          <p:nvPr/>
        </p:nvCxnSpPr>
        <p:spPr>
          <a:xfrm>
            <a:off x="3785760" y="4357800"/>
            <a:ext cx="27169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9" name=""/>
          <p:cNvSpPr/>
          <p:nvPr/>
        </p:nvSpPr>
        <p:spPr>
          <a:xfrm>
            <a:off x="5219640" y="3419640"/>
            <a:ext cx="2710080" cy="10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480000" y="3424320"/>
            <a:ext cx="1449720" cy="900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928800" y="19288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428840" y="292896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929040" y="3357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5000760" y="4572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5214960" y="35002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785960" y="5429160"/>
            <a:ext cx="429876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    +    b  =   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1079640" y="197964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900000" y="1988640"/>
            <a:ext cx="1440000" cy="90972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360360" y="3600360"/>
            <a:ext cx="2700360" cy="1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440000" y="3060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3959280" y="341964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780000" y="3428640"/>
            <a:ext cx="1439640" cy="90972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4365720"/>
            <a:ext cx="2700000" cy="14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360036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40360" y="46800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95928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5580000"/>
            <a:ext cx="5396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80000" y="3428640"/>
            <a:ext cx="4140000" cy="909720"/>
          </a:xfrm>
          <a:prstGeom prst="line">
            <a:avLst/>
          </a:prstGeom>
          <a:ln w="360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00120" y="500040"/>
            <a:ext cx="62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ложение векторов методом треуголь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5214600" y="3429000"/>
            <a:ext cx="27169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02" name=""/>
          <p:cNvSpPr/>
          <p:nvPr/>
        </p:nvSpPr>
        <p:spPr>
          <a:xfrm>
            <a:off x="928800" y="19288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1428840" y="292896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929040" y="3357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5857920" y="26431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037040"/>
            <a:ext cx="6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857240" y="4929120"/>
            <a:ext cx="42991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    +    b  =   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079640" y="197964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00000" y="1974960"/>
            <a:ext cx="1440000" cy="90936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1440000" y="3060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3600360"/>
            <a:ext cx="2700360" cy="180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80000" y="3414240"/>
            <a:ext cx="1439640" cy="90972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419640"/>
            <a:ext cx="2700360" cy="144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780000" y="3414240"/>
            <a:ext cx="4140000" cy="909720"/>
          </a:xfrm>
          <a:prstGeom prst="line">
            <a:avLst/>
          </a:prstGeom>
          <a:ln w="360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270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4027320" y="34434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4140360"/>
            <a:ext cx="539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04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084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5084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28840" y="28584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читание вект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0200" y="1785960"/>
            <a:ext cx="11160" cy="714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855680" y="1800360"/>
            <a:ext cx="11160" cy="714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928800" y="11430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785880" y="2214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2700360"/>
            <a:ext cx="1979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= c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"/>
          <p:cNvCxnSpPr/>
          <p:nvPr/>
        </p:nvCxnSpPr>
        <p:spPr>
          <a:xfrm>
            <a:off x="5357880" y="5643720"/>
            <a:ext cx="35784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28" name=""/>
          <p:cNvSpPr/>
          <p:nvPr/>
        </p:nvSpPr>
        <p:spPr>
          <a:xfrm>
            <a:off x="5477040" y="1157400"/>
            <a:ext cx="6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000760" y="27147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42920" y="3571920"/>
            <a:ext cx="8786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0" y="4500720"/>
            <a:ext cx="1800" cy="72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35320" y="4505400"/>
            <a:ext cx="11160" cy="714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857160" y="3786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928800" y="46432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5400720" y="38577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6523200" y="382752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5286240" y="5500800"/>
            <a:ext cx="2000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= 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800360"/>
            <a:ext cx="2700360" cy="144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720720" y="2879640"/>
            <a:ext cx="1079640" cy="180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079640" y="126036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23400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395928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500720"/>
            <a:ext cx="1800360" cy="144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1079640" y="46800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15680" y="5219640"/>
            <a:ext cx="1089000" cy="180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126036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1800360"/>
            <a:ext cx="2700360" cy="144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2519280"/>
            <a:ext cx="900000" cy="180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5759280" y="2519280"/>
            <a:ext cx="1800360" cy="1800"/>
          </a:xfrm>
          <a:prstGeom prst="line">
            <a:avLst/>
          </a:prstGeom>
          <a:ln w="360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5040360" y="270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5759280" y="270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270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7199280" y="2879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035320" y="4500720"/>
            <a:ext cx="1089000" cy="1440"/>
          </a:xfrm>
          <a:prstGeom prst="line">
            <a:avLst/>
          </a:prstGeom>
          <a:ln w="36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6119640" y="4500720"/>
            <a:ext cx="1800360" cy="1440"/>
          </a:xfrm>
          <a:prstGeom prst="line">
            <a:avLst/>
          </a:prstGeom>
          <a:ln w="360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5040360" y="5219640"/>
            <a:ext cx="2879640" cy="1800"/>
          </a:xfrm>
          <a:prstGeom prst="line">
            <a:avLst/>
          </a:prstGeom>
          <a:ln w="3600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5400720" y="395928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395928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540072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558000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7:23:32Z</dcterms:created>
  <dc:creator>User</dc:creator>
  <dc:description/>
  <dc:language>en-US</dc:language>
  <cp:lastModifiedBy>User</cp:lastModifiedBy>
  <dcterms:modified xsi:type="dcterms:W3CDTF">2019-09-04T12:33:45Z</dcterms:modified>
  <cp:revision>24</cp:revision>
  <dc:subject/>
  <dc:title>Элементы векторной алгебры</dc:title>
</cp:coreProperties>
</file>