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20D-417A-400D-8744-D1AF686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100-8F0F-4EED-B5EC-3C722837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6A7-7250-407B-A87E-CE42AE20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F72-D6CF-4DF2-83E5-26035EAB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62F2-6FFA-4037-BA0A-C0F6875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587C3-6FAD-4ECF-AFFF-D786960B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63D4-4FAA-4124-A2F0-57AFB44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07C59-7EA8-4BB2-BF96-0D048BB7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51DEB-8A1F-414B-BF66-3876C32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4A41-646D-4464-8C62-CEBA53A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F32F9-CE59-4486-808B-A8C6946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18C-7A34-47AB-B84F-AEE4ED6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106D-8599-4E1D-987D-DE8A068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05C94-5D9F-4AB0-BD5B-684C383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2461-8FF5-4149-985D-2714424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5219E-8306-470A-9EB3-6D3687C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32D64-C1D3-4D18-9919-48205EB7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493-D2F2-4F6D-ACE0-5068728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A7C-1E1B-4233-8810-EC70AE6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B22-2F59-44F4-834D-FC69F69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B21-92BE-4091-A0B7-48CF2397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D1D-CF8C-41CA-B4C2-D6A6F3F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B0A-C5CF-4594-8E4D-F751963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1A2-B863-42A0-A311-4DE4CAE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A59-0E29-45A0-BD3C-E7485B071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3CEF-D325-4116-977D-0FDCD1011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i="1" lang="en-US" sz="6000" spc="-1" strike="noStrike">
                <a:solidFill>
                  <a:srgbClr val="ff00ff"/>
                </a:solidFill>
                <a:latin typeface="Tahoma"/>
              </a:rPr>
              <a:t>Парные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Tahoma"/>
              </a:rPr>
              <a:t>звонкие и глухие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Tahoma"/>
              </a:rPr>
              <a:t>согласные в корне сло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ahoma"/>
              </a:rPr>
              <a:t>У лисички Любки остренькие           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0" y="249228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убк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Закрывают дети глазки, будут сниться детям          .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43640" y="3357720"/>
            <a:ext cx="1513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зк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Дружно мы возьмём лопатки, хорошо вскопаем          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11640" y="3213000"/>
            <a:ext cx="14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рядк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В тулуп и валенки одет, шёл на охоту старый      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51280" y="3357720"/>
            <a:ext cx="93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д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Проверь слово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Любка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Глазки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Лопатки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Тулуп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76720" y="1413000"/>
            <a:ext cx="23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юбочк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76720" y="2205000"/>
            <a:ext cx="360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лаза, глазоньк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2924280"/>
            <a:ext cx="403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опаточка, лопа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371628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улуп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анаграмм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ahoma"/>
              </a:rPr>
              <a:t>ьвморо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3141720"/>
            <a:ext cx="345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морковь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Tahoma"/>
              </a:rPr>
              <a:t>карежв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00360" y="2852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арежка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ahoma"/>
              </a:rPr>
              <a:t>дьтрате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56000" y="2781360"/>
            <a:ext cx="39607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тетрадь</a:t>
            </a:r>
            <a:endParaRPr b="1" lang="en-US" sz="1800" spc="1" strike="noStrike">
              <a:ln w="9360">
                <a:solidFill>
                  <a:srgbClr val="00cc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За деревней зелёный лу_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Там на грядке растёт лу_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885080" y="1628640"/>
            <a:ext cx="28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740720" y="2997360"/>
            <a:ext cx="287280" cy="30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6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66ff"/>
                </a:solidFill>
                <a:latin typeface="Tahoma"/>
              </a:rPr>
              <a:t>акижкн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43280" y="3068640"/>
            <a:ext cx="309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ниж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476280"/>
            <a:ext cx="8893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Tahoma"/>
              </a:rPr>
              <a:t>А по речке плывёт пло_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ahoma"/>
              </a:rPr>
              <a:t>Там на яблоне растёт пло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67640" y="162864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604360" y="3141720"/>
            <a:ext cx="36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ahoma"/>
              </a:rPr>
              <a:t>Нарисуем большой кру_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Даст мне руку верный дру_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96360" y="765000"/>
            <a:ext cx="2156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2781360"/>
            <a:ext cx="2156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ahoma"/>
              </a:rPr>
              <a:t>Аист делает заря_ку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04000" y="2349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Tahoma"/>
              </a:rPr>
              <a:t>Сеет слон горох на гря_ку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0000" y="2060640"/>
            <a:ext cx="43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ahoma"/>
              </a:rPr>
              <a:t>Осьмино_   надел перча_ку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95640" y="1341360"/>
            <a:ext cx="360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6720" y="2205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Tahoma"/>
              </a:rPr>
              <a:t>Чистит мор_   свою площа_ку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76720" y="1773360"/>
            <a:ext cx="57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64000" y="263700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ahoma"/>
              </a:rPr>
              <a:t>Доскажи слов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9:13:22Z</dcterms:created>
  <dc:creator>Учительская</dc:creator>
  <dc:description/>
  <dc:language>en-US</dc:language>
  <cp:lastModifiedBy>Кузьмин</cp:lastModifiedBy>
  <dcterms:modified xsi:type="dcterms:W3CDTF">2010-11-29T17:46:34Z</dcterms:modified>
  <cp:revision>11</cp:revision>
  <dc:subject/>
  <dc:title>Звонкие и глухие согласные в корне слова</dc:title>
</cp:coreProperties>
</file>