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AEF-7F3E-4FFF-8887-72DF75A9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492-7153-4765-9138-68B27488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0257B-968B-448E-B059-DDBE2BE1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6A84B-6AB1-46F5-B28D-D0AB55BD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3A2F7-9A0D-4C70-9B34-25C16B15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6F72C-FD06-4DC7-9427-CA370B40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8FEE0-68D6-47BD-96A7-1BF6F06D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A0BC1-35D2-4BB1-A057-A938319D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BA3C3-0F5A-4314-84C1-983E66D3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11654-BBDD-4676-9830-212DA144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D84E8-651B-499D-8978-33A8E39A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E5D91-F142-46B8-B3A8-8AFA794C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284-23E2-4C0B-93E7-81E3BE9D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84BE1-C358-4F04-B0D1-0CF34563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909C1-D565-4A4B-B3DF-5154CE51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02915-0123-4331-A3B2-080E5D56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30E0B-0040-4BBC-8601-9D31491B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90DCC-CB0B-4C51-91FF-082D6F10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C93B0-20F2-407F-A23B-D7C08234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846F7-14BC-4BBD-AC6B-AA5ADBD5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83E30-DAF1-4E3C-A5AC-838F78E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A2A35-CDBD-40C2-A664-A8DC369C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B2E2E-0D9B-4D1C-B7C1-6EEBF4B5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5E1-CDF9-4995-8A16-BF4442A3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FDBE5-F870-4F94-AFFE-7D8BDBD7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49801-C796-489F-B7BA-B809DDB7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B70D3-EAE9-42C6-ADE7-6995F69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2D8F1-03CE-409E-A38C-A0C3C08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92BAC-58BD-48A5-90EC-A08A06A8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E487D-00E4-4F7E-8D46-F5BBD34A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C8C36-6FDD-4288-B21F-7F4DAD0C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BD6E5-DDB7-4E09-B458-7E2C3BBD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61B88-D2F7-4319-8D4D-AA1E0494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8AF4B-47DF-4872-B083-33DBEDFE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63F6-7F60-4D4B-830E-4C855C7B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7BF34-9AB2-43C8-B2EF-B0CFFEDE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E10FC-6920-4EC4-96EA-00D986CB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3A595-BE61-4925-8592-E3D637A2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40D1C-1E7D-4796-8968-B6AA94F3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57394-9F0C-489E-9746-5528A4B4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8BE1F-2BBB-47B9-AD61-AD18B82D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902BC-933A-49C8-B6F8-D1B420F5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A74BF-DE8A-4D27-A077-1E6F9BF2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74884-7673-40ED-8275-5F0F012C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3A571-4C2D-44B6-990C-362A35C8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06D9-E4B5-42AF-8ABB-C81295E3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A7E54-D18A-41BC-B578-3AF70459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7800D-34CC-4317-B64B-EB093227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39ACC-9726-4977-B2DB-FE4F102D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1AA73-E9BC-4785-981E-985A441A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2749F-0CD3-4724-9EA9-7EC3E348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E152C-9E3B-4EDD-91D5-D4C58DBB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13F90-093F-4464-AF58-E2B9DB4F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9A290-AFEA-461C-996D-583ACA3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4C4A9-612F-4104-8F0C-065DDDC5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8A329-EBA1-4D45-8798-9EA58B91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CB2B-58C6-4B56-AFD6-E09F4244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6B4DD-D7D7-4F55-999B-16CC20A4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6C7B1-FC48-4A11-B09A-B4DDCF14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24128-8EFE-4F57-9F8D-F43E865E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27DCA-1484-45FA-A598-A3CA9455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5D360-33AB-4772-B789-F10C783F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88464-8492-4AD0-AC76-A06525AE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3B0923-D896-4FE0-919F-BFEDE935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8B859-F9AB-4DB0-AF9A-A8D304D4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C7EB0-A30E-4BBA-8A96-9547BCC4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6DAD70-BAE6-4A60-A39B-DF0483B2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AB66-57C7-48F3-91B3-096493E4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E5218-168E-4EF0-B1AD-6E7ECAA3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0DDE7-601F-414F-9C39-BC33BD24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F2E48-DB66-4E31-8D07-259B2872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744D8-8593-4F4C-9158-7AF11C45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6BF99-4342-4705-A20D-2984AF97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FC97A-64C1-44C0-8B42-5DBB6781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AC7CC-79AF-4D64-BA45-958B375D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BE270-6337-4D72-98EB-2602D081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9EA5C-FFC6-4BFD-80FC-6088C10B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44D90-D240-48AF-BA29-25DA6FEA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9B75-5DB0-47B4-B7A0-7FB56C04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C6975-3B66-4465-BB25-5ED0DF64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BA57D-31D7-4245-A894-61BA400A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B2AB9-F29E-42FB-A62A-E456092B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D9608-AD62-4F60-820E-42F2386D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EF888-9925-46B7-A8BD-D9807589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0B2DE-98FC-4FC2-89BB-8E74EE9B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56A91-E791-4D25-86FF-C1F6CDAA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B565F-6397-4FB1-A5B8-DC9735FC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7DD87-2130-4FBC-B19B-C36679BC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F2DD6-C6B7-4216-99AF-8997F4F5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0557-E454-434D-B524-1DE1DD33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D3D5B6-FEEF-44FA-BFF8-E62B97C2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3D123-C0A8-42E5-8363-F8942C10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63F75-E23C-43D2-A9D7-A2EC07B7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095A0-187D-4142-8831-C290157E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A963E-C31A-4101-A974-0E37D1DD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18E83-88F9-4C97-9B44-B27B39B3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E781B-B1E2-499D-9DD5-45BB3246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B4891-D367-4915-A0B8-A3CC72BC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67EC0-B253-45D5-8DBD-B86B3AA7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BAFF4-5E32-4EF0-8BBA-A3C6C8AF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9472-D089-44E2-8494-8C1DC4AE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385EDD-7126-4821-87BE-A123EAB5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FDBF3-F045-4D41-9293-4E935CAF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133D6-4200-419F-9BC6-53495CD7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4D812D-C9B1-42EF-A66B-5F173F2E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31B2E3-DF36-40DE-93D0-3DEC4404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58E8D-7A57-4037-8064-B77A9F7F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F2884-8E25-497E-877E-184A8696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D1C80C-258A-4561-A6FC-015F6126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F9957-FA83-40C4-AE9E-97DA523F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317D7-7626-42D7-B096-CA078FCF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249-8A0E-4651-9442-2730B343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4F12-FDF1-4E25-9578-3C8060D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FABF4-CF09-48C3-99A2-4FCFDF78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85725-73ED-4A7E-972C-50A045EC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78B5F6-4F0E-4930-800C-D1B5973F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F114E-6A73-4605-ACA3-846FB212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EF320B-7EC6-4EE3-A1AD-69AAAA83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4B373-23F8-48FE-8FD8-56235910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CCB22-BACF-4539-A22C-2440F464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F8504-01CB-4B12-8268-017625F7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DC2ED-48A6-48A6-84AC-8FCE05B8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989E1-1D3C-4832-993F-94E0276B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7DC9-D0EC-4164-9364-F1533E2B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0C6B1-B96D-4D88-8AF7-1809EFE2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3241AD-B635-40CC-8212-DB0E2207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D75EE-C8E6-4297-BBE3-F1B6BE1E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115A2-440A-4B41-9204-D2719D89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5CF77-5A7F-442A-BBC4-6AAEBD91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4FDF1-ED0F-4B05-A1B4-0B00D345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A9795-D051-42D1-8DC6-540D56B6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1FB88-D754-493E-B45F-8AD920C6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DF7CF-78C7-4EDB-8510-141AAA15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69FD5-454B-462F-88BE-45FAC211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0C54-BAA4-4BEF-829D-A76AA847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831094-CA82-4986-B5EE-4AC2A266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3FB6A1-5E17-4E5C-B887-C28BA54C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AFC881-1DA8-4234-BB9C-52F0F4AB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E5946C-B8EE-4578-91BA-E9FE0290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5C031E-9FC6-4870-83C5-979EFF45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85A68-80E2-484D-BB31-80A1627F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BB9508-D367-46CD-BD7C-6139E78B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20C9B-A6C3-498C-BC02-F455189A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99919C-055F-4695-861C-552EDC59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628D6C-9182-4D44-94F6-6F72538E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6753-E873-422C-BD21-A5BE7BAD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172EA-D533-4E79-A252-1CAAA1F1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D26F24-18C3-4987-8593-7039281A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763480-C4AF-4995-A5D1-73A293DE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81F2A-2388-4625-891B-AD0047B9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B4A7BC-8AF5-4BAA-B32B-F8B43D90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C0593-8CF1-4CB0-86A7-BE73DDC3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FDA1D-D47E-46E4-BF86-2A0826BA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01198-8A29-4D68-854C-3A91D541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5E9A3-025E-409E-92C4-84E8D51D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BF6FB9-6FA6-4967-BAD5-77328214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6358-48DE-492C-8D66-E137BA43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3F6F6A-BEB2-415A-9522-4019C737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0B016-CF79-4414-B584-103CBAFE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BD3AA9-045E-4C24-8145-19192980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E67119-18F3-4C91-8F44-6FA21709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3CD911-E3CA-45BB-B340-A487F849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344182-B560-4FAC-9243-387A295E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BB7451-357B-4F69-842C-52886421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4CAAB8-7B00-4065-8DC3-DC7EEC12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018F90-E22A-41A9-84FB-0A49621F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ACE10A-4651-4640-BFA7-CC798A26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C588-C392-41F4-85C0-31C80187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1DF16-6806-4983-BEDA-87BA0E26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5011A2-198F-467A-A35E-4768A4CE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BC192-5CE6-42E0-8915-2B5F66E0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4093C3-E907-46CB-AD5C-BAE22293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B92B9-FF69-496A-9CC8-8B9EB1F8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0FEBB2-ACA8-4812-A987-21F5DF1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BD7E6D-952D-4584-9824-A7A1B15A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C6D136-D144-4301-B13A-1268956D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7D20D-8872-45EE-81FA-17C98574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69503F-92E9-4C5A-8A09-66596C25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67FFF-6391-4510-8759-F861F04A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201207-54DA-4ADA-8172-14D23A62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D3EE53-F64A-4B78-B02F-9F5283E7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1970D1-2F68-496F-AEB2-9B2511CF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773A07-2DDE-4166-AD70-AAB3D5F6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018BBA-8214-40DE-BBB2-CC32CC04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58CBE6-7201-4697-A4CB-8140EBFB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2C14F2-FF93-4C7D-858F-6059A90F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4F35FF-782F-4FE8-80E7-900B49C5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F1900C-7CCD-46FE-A8A4-2A86AAD1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4815BC-E34C-4E33-9E50-C46F1A44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54C4-C134-46F4-94EF-AA44B224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EB55F1-5BBA-4B4A-944E-BB0E6716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850D46-D3B7-4C55-A195-5BFF7B84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4589EA-A53A-4043-A43F-06CA2719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6DDA4-9E2E-431F-ACDE-57EE5030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163F22-9491-41B4-913C-667DEE99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090E93-0218-4EC3-8380-18B49015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2FA977-C827-48D5-A901-FC3612DB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F23723-16E1-4889-9F55-9E02846C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5291B6-5389-4801-8737-AE3AF4F5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A0AB89-07D5-4BC1-8623-0E77F72D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237DC-FF99-4166-8042-E9CCFDEC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B27FF0-51E3-4C3A-9A2D-650B93F0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788984-899B-42E7-B661-62505725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D64A01-9472-4BC0-A87A-6559E15B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407152-112A-490D-9103-B098C0F9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665AC6-063E-4AF1-8756-92E300AE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0A47F2-F96F-413F-9A60-8D260062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DC83B4-B69E-4DF4-8A39-6D8ED7E8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73D28C-A71F-4878-BF68-67F7CBD3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0D1E23-D587-413A-B2EF-D4F6BAF5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1F082E-D666-4D5D-8444-227AE671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FBFF2-A7B8-4916-8169-AD5634F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777EBC-0577-4D62-9419-4268243A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70D7C3-7EB3-4C17-8E2E-F9783DCA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FCD8F2-A207-4543-B254-9035E698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F67CB2-6034-41ED-BC9E-3CFCA1C3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5D159B-0AB1-44FC-A137-6C6D63E8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CF7C3A-C984-426D-A800-18B27A34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F388C3-24FA-47C9-A2A9-9EE2194E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E09642-1B68-452B-9783-97F8E476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7CBF88-F413-4185-B549-F59CDCDA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371AD4-2FDD-4882-B2BC-BC79E52C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06A-0AD2-4436-86B2-03F45490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2553-CADE-4E7A-941F-725A00BC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8F0F01-92FD-451F-AB8C-255284F6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867AE4-98E6-4B99-96EA-981F842D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FC331C-8FA6-461B-83BA-54EC2368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02769B-946C-458D-BDED-A9EC664D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480BCC-CB01-40E8-81E7-3BA3E2AA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1FD209-DBF9-4E1B-8683-C53CE910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845D60-928B-4D24-8EEF-68236133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568F4A-1489-4AB2-A561-4EEA3203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24E067-2718-4EAD-A3CD-C3DCF750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999E60-85C8-4F88-BE3B-68DDDC3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226C-19FC-4419-9BB7-74BE7BF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4E64EB-1B05-4ED0-AB46-0CEB0200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BF2CC5-DC5A-4555-B402-F5511CF1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93EB54-3B4F-4C0A-A0BE-72516559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B97C09-88A8-4E96-9753-95875510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1F5BCF-B9C9-4348-9480-46F07D13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48B894-C0B6-437C-BC62-83A1577F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CBAFA7-3AE2-440F-9CE8-081FAEFC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5CABDD-7008-4E49-BE77-4084C0D1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8E43F5-260C-4B02-8FE6-014A801D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CC5696-0969-45B4-BF0E-ECC43A2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DC3B-080C-4000-A04A-3C94472C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EC9FD9-6A7A-4FEE-A24B-051F10F8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6AF0E2-DA66-48AA-9087-BD48DBDA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C24FD8-0385-4668-A32E-6FA93003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A02182-ACC4-47B7-8226-BD748600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568334-82BA-4075-B51A-27D34642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30AD5E-2475-479E-B7E9-0F3251A2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606143-591A-4994-940D-9E4AB5E2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7F8C61-E585-464D-8644-692BC25F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C7202F-B158-462E-920E-DCA0019F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39C9CA-5791-4A25-BD28-E33F1BFE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6DD7-DC65-4CA4-8DD3-5BF3E965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1ED44F-BA41-4E11-80E2-584EEC8D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CD3FF0-D8A2-4AEC-A35D-A6EDE6C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307BE7-4FA3-49C9-BB0B-E70609C5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89AD5F-4590-41F3-9901-64F90C0D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0668E0-F1DF-4FF3-9866-B2CB4F58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DD2544-1138-41BE-A870-EC179D9B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C936D0-CB60-435C-B44F-304C718F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76F079-4DAA-4AB6-8B24-EA4B3E85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ED48FD-264C-4014-859D-F326A0F9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A90480-28E8-4173-992C-20D4D0E7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E302-DA0A-49B8-A4EF-9FEA227A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752669-F361-4C04-8A76-D7B407C8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FA47E9-ED9C-4CFE-84F2-4701E46D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787425-1D74-4CA3-BB6A-99B97097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3E3560-0E44-49FC-9CBB-42BD62B7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8B71E7-D38C-4A4C-A017-5B676C1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C7543B-0AC9-46C9-9691-24766251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26EB0E-1990-4D20-BA78-DB88D9D1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6EBDCE-354D-4D94-8003-E9B89EE1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EB6A65-81CD-4525-BC3D-962EFF19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FC6233-B949-41FF-9995-ACBD6113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6F144-7876-4BB1-9C73-F4AF70F3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63293A-01DB-43AC-9E20-863D0F58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35130B-42BB-4C03-A150-5E3C46C4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CCF781-CE2C-4F29-869D-43E5DA2D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EE405D-2D01-4D4C-A037-946FC417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23306C-E240-4728-811E-4976D4D4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40E72E-4FDE-4A4D-B4E8-A09E0B9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E579FF-A94F-40AB-A505-46955D75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C0DC5F-0CCD-4F23-AF5A-C3C50DA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AB555B-D489-4A4E-862B-52064138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5C8DBB-6D64-4BD1-9D90-49B1090E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17B0-1A5E-456E-A0D2-5ADAF9DE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9C46F0-281A-4D20-99E1-16934179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93E666-418D-4932-A5D9-7547E083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1D7CEE-AC82-4793-9BAE-87DEA03F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904B61-A5BA-4DCB-83B4-62682EF1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398F8C-3C01-4D56-8472-423E90D6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E5F0BA-7ED7-447A-BE2B-87C01CBD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B0893B-F57F-4ABC-A510-ACF9AD0A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0B4C57-4B3F-4E82-8AF8-943B8711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251BE7-1107-41C6-BAFE-BAAAE82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AFE16C-8358-4E79-8FED-3F67BD56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EF07A-85B8-424C-975F-4FAEC56A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05931B-9C6C-4669-B1D8-D9BE1315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D510C5-AED1-4B29-AFA9-F26A7352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199B0A-84AB-47C9-A891-6CD31CEE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834F-D619-45DC-81D9-CF6429B0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DF4A3-A8D2-46B7-93B1-2E41AF54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792-CF48-4786-AC51-4BD37A91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B0E8F-9697-4421-A262-B14458B7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38EC-89C8-4F82-BCFB-7663B9D6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00E0-D3A1-4E83-B5D9-5FD0AA29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3A9E-B5D7-4A26-9544-FD7CE40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BA7C3-A1EB-402B-ABF8-3413AD1D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9BAF-E7B1-46D0-AB5A-B5DCE4BB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14F8A-C257-4CBA-B5DF-0EDB5DCE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A452F-27F4-42DB-9575-22524251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86F2A-5689-40F6-B65B-2D3DF449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75D0-E53B-4D8B-8969-5CF87266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ACD-345A-482D-BF88-5BB95286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44930-3E10-4A34-B305-711E45DE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6F771-5DDA-4E66-A029-CA2D1D68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BE774-B50A-45F8-A14A-3B12BE4B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232C7-654D-4A33-A5F2-A3E1A779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42263-C7E0-4C2B-B3EB-A32B05F7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8A398-480B-4A8B-A24A-1690AF9E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EE75A-673A-42A6-B23C-410043E3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62103-CEA5-45ED-9EE3-F96B18C9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58C8-CE28-4A4B-8C51-8429506C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D107B-D89F-4447-963A-A8F10278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4F3-6421-4DBE-AE23-41A7D087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C6606-4BE1-40C9-B5CE-601E652B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E9E9-C6AC-4647-9FB5-4FDBE414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29DB4-DC7E-43E2-BEE9-EEA8EFE1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13FE9-27C5-44D6-9259-9B592BCA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22616-8E2C-4C0A-AC5B-4B866567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9ADA7-9D54-419A-9B87-E0A4A69B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3E6EC-F1BD-4437-B5A1-B77EA05D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99D78-8C6A-4485-95FE-834897A3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BE12-1798-4BC2-B37F-8B3CF982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72B7-0DD0-49C8-92E2-D981D0D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13B-798D-46DA-9467-2B6BBAD1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44A1F-FF67-47A4-821A-27B6CA0B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83F5A-A6FA-4A3F-B8D1-D234F9D0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9A3B4-CEB2-4C10-8BE5-F4B590DF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C3393-AE5F-4C45-A04B-2D0F363C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0A654-8228-4FFA-959A-73F58411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AF5AC-9792-413F-A742-FE1ECA81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EC31F-CD38-4A25-94E1-7A36087B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673B3-697C-4CED-8FD6-199960E6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92AA-2358-43E4-BF5B-5374159D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0FEBF-CD4F-4EE2-80BC-F65A9031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EE9-00D2-4D52-B5AA-20725B83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E1771-41E5-41CB-A43F-F86A872D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A162F-A076-4EBE-8529-21C81FD2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28A40-E604-4880-8056-530FB950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EBA67-DAE2-48ED-99D7-FC310E24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69AB0-E235-44A9-9936-5E0A10F2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7EBD1-E341-416E-94ED-15D8A091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FDAA6-769A-4FC0-9E49-16A721D8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2CB40-4AA0-48CC-B5A4-CEFF0D46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905C9-8DC6-49EF-881A-11415B8C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CA391-F346-4241-A45A-A3F1FBDB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DD7-5A34-4412-A855-15D3F5CC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7E479-647D-4AC9-BFCB-92B86798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16E1C-9C8E-4640-91D7-FD8ECD91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F154D-76D3-46D2-A220-DBB0A025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74856-FAA2-4AFE-9569-11C9AAD5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683DD-0349-41CC-9C3B-FB4D7A41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720E6-D9B5-4E72-BB1D-6406EC55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98355-A828-468F-8699-1B0ED989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55AE1-D4AD-4992-9453-82F3FEA0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79550-C7D1-4795-A372-941A1D61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F7D73-305C-41A7-B5A0-E2C700D4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349.xml"/><Relationship Id="rId35" Type="http://schemas.openxmlformats.org/officeDocument/2006/relationships/slideLayout" Target="../slideLayouts/slideLayout350.xml"/><Relationship Id="rId36" Type="http://schemas.openxmlformats.org/officeDocument/2006/relationships/slideLayout" Target="../slideLayouts/slideLayout351.xml"/><Relationship Id="rId37" Type="http://schemas.openxmlformats.org/officeDocument/2006/relationships/slideLayout" Target="../slideLayouts/slideLayout352.xml"/><Relationship Id="rId38" Type="http://schemas.openxmlformats.org/officeDocument/2006/relationships/slideLayout" Target="../slideLayouts/slideLayout353.xml"/><Relationship Id="rId39" Type="http://schemas.openxmlformats.org/officeDocument/2006/relationships/slideLayout" Target="../slideLayouts/slideLayout354.xml"/><Relationship Id="rId40" Type="http://schemas.openxmlformats.org/officeDocument/2006/relationships/slideLayout" Target="../slideLayouts/slideLayout355.xml"/><Relationship Id="rId41" Type="http://schemas.openxmlformats.org/officeDocument/2006/relationships/slideLayout" Target="../slideLayouts/slideLayout356.xml"/><Relationship Id="rId42" Type="http://schemas.openxmlformats.org/officeDocument/2006/relationships/slideLayout" Target="../slideLayouts/slideLayout357.xml"/><Relationship Id="rId43" Type="http://schemas.openxmlformats.org/officeDocument/2006/relationships/slideLayout" Target="../slideLayouts/slideLayout358.xml"/><Relationship Id="rId44" Type="http://schemas.openxmlformats.org/officeDocument/2006/relationships/slideLayout" Target="../slideLayouts/slideLayout359.xml"/><Relationship Id="rId4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361.xml"/><Relationship Id="rId32" Type="http://schemas.openxmlformats.org/officeDocument/2006/relationships/slideLayout" Target="../slideLayouts/slideLayout362.xml"/><Relationship Id="rId33" Type="http://schemas.openxmlformats.org/officeDocument/2006/relationships/slideLayout" Target="../slideLayouts/slideLayout363.xml"/><Relationship Id="rId34" Type="http://schemas.openxmlformats.org/officeDocument/2006/relationships/slideLayout" Target="../slideLayouts/slideLayout364.xml"/><Relationship Id="rId35" Type="http://schemas.openxmlformats.org/officeDocument/2006/relationships/slideLayout" Target="../slideLayouts/slideLayout365.xml"/><Relationship Id="rId36" Type="http://schemas.openxmlformats.org/officeDocument/2006/relationships/slideLayout" Target="../slideLayouts/slideLayout366.xml"/><Relationship Id="rId37" Type="http://schemas.openxmlformats.org/officeDocument/2006/relationships/slideLayout" Target="../slideLayouts/slideLayout367.xml"/><Relationship Id="rId38" Type="http://schemas.openxmlformats.org/officeDocument/2006/relationships/slideLayout" Target="../slideLayouts/slideLayout368.xml"/><Relationship Id="rId39" Type="http://schemas.openxmlformats.org/officeDocument/2006/relationships/slideLayout" Target="../slideLayouts/slideLayout369.xml"/><Relationship Id="rId40" Type="http://schemas.openxmlformats.org/officeDocument/2006/relationships/slideLayout" Target="../slideLayouts/slideLayout370.xml"/><Relationship Id="rId41" Type="http://schemas.openxmlformats.org/officeDocument/2006/relationships/slideLayout" Target="../slideLayouts/slideLayout371.xml"/><Relationship Id="rId42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BA92-3960-4743-BE81-72D19234E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7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DE53-F78E-42C3-BC80-21E6C9CA25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2B75-8965-46DA-8C9C-8407E79A8A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3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0738-A898-46DA-BF38-7625BFD4A9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787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6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98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799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0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1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2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3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4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5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8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9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9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35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836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7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8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9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0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1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2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3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4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5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6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7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2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3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4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5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8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9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3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4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5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6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7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8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9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0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1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4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5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6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7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8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9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0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1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2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3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884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885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97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898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4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905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0" name="PlaceHolder 1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B115-318A-4B59-828D-9C802F512F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952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55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61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63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964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5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6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7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1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2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3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4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5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6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7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8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9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0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1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2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3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4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5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6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7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8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9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0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1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6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7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8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9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000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001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2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3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4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5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6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7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8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9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0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1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2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4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5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6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9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4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5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6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7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8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9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0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1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2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3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6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7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3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5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6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7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8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049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050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2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62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063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69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070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6F34-FD6E-4AC9-B06F-8F2996E8F9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1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2EE-CD0C-412B-A17E-E24A92C71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7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9DDD-7D7A-41AA-A7FD-6C48B4317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5231-2112-45D3-B257-56737352FF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B07-1B60-4498-B53D-C7DB7692A2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84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74B3-2FF4-43D4-AC3B-5D3938938C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329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56E3-04F2-4F5F-81B2-17A1C9BBA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A06F-9719-4704-8F9F-414D9B2F5F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376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419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E3F0-0D3B-4B98-9844-BD44B700EE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3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64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1253-BA64-4117-9D48-E84ED36798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508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9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10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3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4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515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20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521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4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25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29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33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6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A677-6311-4C3C-8BC6-EF43635E36E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1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592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593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0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607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611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615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619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623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6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3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ADB5-46C1-427F-AD91-43F3ED7025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5E0A-7563-4408-A96D-9478F7532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1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78D8-3DD8-468D-B57C-46C7D06B6F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76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8" name="PlaceHolder 1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0175-1FE1-41EA-BFB6-9D487FC5DB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43E3-4A87-4236-99E4-A9F33AB820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81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D4CE-4C67-415B-AC15-D873C9CC07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88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6FBB-2823-4438-B25A-450367D63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5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6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6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6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96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6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8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98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0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 type="dt" idx="8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 type="ftr" idx="8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 type="sldNum" idx="9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C2D3-3D82-4174-9474-94BD2FAC5CD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4"/>
    <p:sldLayoutId id="2147484027" r:id="rId35"/>
    <p:sldLayoutId id="2147484028" r:id="rId36"/>
    <p:sldLayoutId id="2147484029" r:id="rId37"/>
    <p:sldLayoutId id="2147484030" r:id="rId38"/>
    <p:sldLayoutId id="2147484031" r:id="rId39"/>
    <p:sldLayoutId id="2147484032" r:id="rId40"/>
    <p:sldLayoutId id="2147484033" r:id="rId41"/>
    <p:sldLayoutId id="2147484034" r:id="rId42"/>
    <p:sldLayoutId id="2147484035" r:id="rId43"/>
    <p:sldLayoutId id="2147484036" r:id="rId44"/>
    <p:sldLayoutId id="2147484037" r:id="rId4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05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5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5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5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6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6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6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7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9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dt" idx="9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 type="ftr" idx="9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 type="sldNum" idx="9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AA08-EB88-4412-BEC6-C37839538FC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1"/>
    <p:sldLayoutId id="2147484040" r:id="rId32"/>
    <p:sldLayoutId id="2147484041" r:id="rId33"/>
    <p:sldLayoutId id="2147484042" r:id="rId34"/>
    <p:sldLayoutId id="2147484043" r:id="rId35"/>
    <p:sldLayoutId id="2147484044" r:id="rId36"/>
    <p:sldLayoutId id="2147484045" r:id="rId37"/>
    <p:sldLayoutId id="2147484046" r:id="rId38"/>
    <p:sldLayoutId id="2147484047" r:id="rId39"/>
    <p:sldLayoutId id="2147484048" r:id="rId40"/>
    <p:sldLayoutId id="2147484049" r:id="rId41"/>
    <p:sldLayoutId id="2147484050" r:id="rId4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7804-E4A7-4699-9BE5-7E7A584CA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2B06-E333-40BB-B5C5-4D0FCE464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724E-5147-433C-9CC6-5445E998F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9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0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1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F0BA-5DBD-47F0-BB38-3F4D1C2DA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2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3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4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D7B9-ED62-49EF-90F7-DAD263B21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97B3-83CB-45D2-A1ED-E44F49731F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9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9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0629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cc00"/>
                </a:solidFill>
                <a:latin typeface="Monotype Corsiva"/>
              </a:rPr>
              <a:t>Формулы сокращенного умножения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subTitle"/>
          </p:nvPr>
        </p:nvSpPr>
        <p:spPr>
          <a:xfrm>
            <a:off x="1371600" y="515772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2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Заполните пропуски в формулах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(а +…)</a:t>
            </a:r>
            <a:r>
              <a:rPr b="1" lang="ru-RU" sz="3600" spc="-1" strike="noStrike" baseline="30000">
                <a:solidFill>
                  <a:srgbClr val="f9ea21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 = … + 2а</a:t>
            </a:r>
            <a:r>
              <a:rPr b="1" lang="en-US" sz="3600" spc="-1" strike="noStrike">
                <a:solidFill>
                  <a:srgbClr val="f9ea21"/>
                </a:solidFill>
                <a:latin typeface="Verdana"/>
              </a:rPr>
              <a:t>b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 + … 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(а … </a:t>
            </a:r>
            <a:r>
              <a:rPr b="1" lang="en-US" sz="3600" spc="-1" strike="noStrike">
                <a:solidFill>
                  <a:srgbClr val="f9ea21"/>
                </a:solidFill>
                <a:latin typeface="Verdana"/>
              </a:rPr>
              <a:t>b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)</a:t>
            </a:r>
            <a:r>
              <a:rPr b="1" lang="ru-RU" sz="3600" spc="-1" strike="noStrike" baseline="30000">
                <a:solidFill>
                  <a:srgbClr val="f9ea21"/>
                </a:solidFill>
                <a:latin typeface="Verdana"/>
              </a:rPr>
              <a:t>…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 = а</a:t>
            </a:r>
            <a:r>
              <a:rPr b="1" lang="ru-RU" sz="3600" spc="-1" strike="noStrike" baseline="30000">
                <a:solidFill>
                  <a:srgbClr val="f9ea21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 – 2а</a:t>
            </a:r>
            <a:r>
              <a:rPr b="1" lang="en-US" sz="3600" spc="-1" strike="noStrike">
                <a:solidFill>
                  <a:srgbClr val="f9ea21"/>
                </a:solidFill>
                <a:latin typeface="Verdana"/>
              </a:rPr>
              <a:t>b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 + … 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а</a:t>
            </a:r>
            <a:r>
              <a:rPr b="1" lang="ru-RU" sz="3600" spc="-1" strike="noStrike" baseline="30000">
                <a:solidFill>
                  <a:srgbClr val="f9ea21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 - … = (а – </a:t>
            </a:r>
            <a:r>
              <a:rPr b="1" lang="en-US" sz="3600" spc="-1" strike="noStrike">
                <a:solidFill>
                  <a:srgbClr val="f9ea21"/>
                </a:solidFill>
                <a:latin typeface="Verdana"/>
              </a:rPr>
              <a:t>b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)(… + а</a:t>
            </a:r>
            <a:r>
              <a:rPr b="1" lang="en-US" sz="3600" spc="-1" strike="noStrike">
                <a:solidFill>
                  <a:srgbClr val="f9ea21"/>
                </a:solidFill>
                <a:latin typeface="Verdana"/>
              </a:rPr>
              <a:t>b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 + …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а</a:t>
            </a:r>
            <a:r>
              <a:rPr b="1" lang="ru-RU" sz="3600" spc="-1" strike="noStrike" baseline="30000">
                <a:solidFill>
                  <a:srgbClr val="f9ea21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 + </a:t>
            </a:r>
            <a:r>
              <a:rPr b="1" lang="en-US" sz="3600" spc="-1" strike="noStrike">
                <a:solidFill>
                  <a:srgbClr val="f9ea21"/>
                </a:solidFill>
                <a:latin typeface="Verdana"/>
              </a:rPr>
              <a:t>b</a:t>
            </a:r>
            <a:r>
              <a:rPr b="1" lang="ru-RU" sz="3600" spc="-1" strike="noStrike" baseline="30000">
                <a:solidFill>
                  <a:srgbClr val="f9ea21"/>
                </a:solidFill>
                <a:latin typeface="Verdana"/>
              </a:rPr>
              <a:t>3 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= (…  …)(а</a:t>
            </a:r>
            <a:r>
              <a:rPr b="1" lang="ru-RU" sz="3600" spc="-1" strike="noStrike" baseline="30000">
                <a:solidFill>
                  <a:srgbClr val="f9ea21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 … + </a:t>
            </a:r>
            <a:r>
              <a:rPr b="1" lang="en-US" sz="3600" spc="-1" strike="noStrike">
                <a:solidFill>
                  <a:srgbClr val="f9ea21"/>
                </a:solidFill>
                <a:latin typeface="Verdana"/>
              </a:rPr>
              <a:t>b</a:t>
            </a:r>
            <a:r>
              <a:rPr b="1" lang="ru-RU" sz="3600" spc="-1" strike="noStrike" baseline="30000">
                <a:solidFill>
                  <a:srgbClr val="f9ea21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а</a:t>
            </a:r>
            <a:r>
              <a:rPr b="1" lang="ru-RU" sz="3600" spc="-1" strike="noStrike" baseline="30000">
                <a:solidFill>
                  <a:srgbClr val="f9ea21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 – </a:t>
            </a:r>
            <a:r>
              <a:rPr b="1" lang="en-US" sz="3600" spc="-1" strike="noStrike">
                <a:solidFill>
                  <a:srgbClr val="f9ea21"/>
                </a:solidFill>
                <a:latin typeface="Verdana"/>
              </a:rPr>
              <a:t>b</a:t>
            </a:r>
            <a:r>
              <a:rPr b="1" lang="ru-RU" sz="3600" spc="-1" strike="noStrike" baseline="30000">
                <a:solidFill>
                  <a:srgbClr val="f9ea21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 = (… </a:t>
            </a:r>
            <a:r>
              <a:rPr b="1" lang="en-US" sz="3600" spc="-1" strike="noStrike">
                <a:solidFill>
                  <a:srgbClr val="f9ea21"/>
                </a:solidFill>
                <a:latin typeface="Verdana"/>
              </a:rPr>
              <a:t>b</a:t>
            </a:r>
            <a:r>
              <a:rPr b="1" lang="ru-RU" sz="3600" spc="-1" strike="noStrike">
                <a:solidFill>
                  <a:srgbClr val="f9ea21"/>
                </a:solidFill>
                <a:latin typeface="Verdana"/>
              </a:rPr>
              <a:t>)(а – …). 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3851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rebuchet MS"/>
              </a:rPr>
              <a:t>Расширение знаний по формулам сокращенного умножения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"/>
              </a:rPr>
              <a:t>(а + </a:t>
            </a: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ru-RU" sz="5400" spc="-1" strike="noStrike">
                <a:solidFill>
                  <a:srgbClr val="3333cc"/>
                </a:solidFill>
                <a:latin typeface="Arial"/>
              </a:rPr>
              <a:t> + с)</a:t>
            </a:r>
            <a:r>
              <a:rPr b="1" lang="ru-RU" sz="5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5400" spc="-1" strike="noStrike">
                <a:solidFill>
                  <a:srgbClr val="3333cc"/>
                </a:solidFill>
                <a:latin typeface="Arial"/>
              </a:rPr>
              <a:t> =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а</a:t>
            </a:r>
            <a:r>
              <a:rPr b="1" lang="ru-RU" sz="4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 +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ru-RU" sz="4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 + с</a:t>
            </a:r>
            <a:r>
              <a:rPr b="1" lang="ru-RU" sz="4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 + 2а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 + 2ас + 2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Геометрическое доказатель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2" name="" descr=""/>
          <p:cNvPicPr/>
          <p:nvPr/>
        </p:nvPicPr>
        <p:blipFill>
          <a:blip r:embed="rId1"/>
          <a:stretch/>
        </p:blipFill>
        <p:spPr>
          <a:xfrm>
            <a:off x="2409840" y="2602080"/>
            <a:ext cx="403380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квадрат выражения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(а+в+с+д)</a:t>
            </a:r>
            <a:r>
              <a:rPr b="1" lang="ru-RU" sz="40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=а</a:t>
            </a:r>
            <a:r>
              <a:rPr b="1" lang="ru-RU" sz="40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+в</a:t>
            </a:r>
            <a:r>
              <a:rPr b="1" lang="ru-RU" sz="40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+с</a:t>
            </a:r>
            <a:r>
              <a:rPr b="1" lang="ru-RU" sz="40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+д</a:t>
            </a:r>
            <a:r>
              <a:rPr b="1" lang="ru-RU" sz="40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2ав+2ас+2ад+2вс+2вд+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+2с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(а+в+с+д+е)</a:t>
            </a:r>
            <a:r>
              <a:rPr b="1" lang="ru-RU" sz="40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=а</a:t>
            </a:r>
            <a:r>
              <a:rPr b="1" lang="ru-RU" sz="40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+в</a:t>
            </a:r>
            <a:r>
              <a:rPr b="1" lang="ru-RU" sz="40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+с</a:t>
            </a:r>
            <a:r>
              <a:rPr b="1" lang="ru-RU" sz="40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д</a:t>
            </a:r>
            <a:r>
              <a:rPr b="1" lang="ru-RU" sz="40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+е</a:t>
            </a:r>
            <a:r>
              <a:rPr b="1" lang="ru-RU" sz="40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+2ав+2ас+2ад+2ае+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2вс+2вд+2ве+2сд+2се+2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числи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23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23</a:t>
            </a:r>
            <a:r>
              <a:rPr b="0" lang="ru-RU" sz="4400" spc="-1" strike="noStrike" baseline="30000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(100+20+3)</a:t>
            </a:r>
            <a:r>
              <a:rPr b="0" lang="ru-RU" sz="4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=100</a:t>
            </a:r>
            <a:r>
              <a:rPr b="0" lang="ru-RU" sz="4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+20</a:t>
            </a:r>
            <a:r>
              <a:rPr b="0" lang="ru-RU" sz="44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4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+2*100*20+2*100*3+2*20*3=10000+400+9+4000+600++120=1512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3851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9ea21"/>
                </a:solidFill>
                <a:latin typeface="Comic Sans MS"/>
              </a:rPr>
              <a:t>Треугольник Паскаля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301680" y="53366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Arial Black"/>
              </a:rPr>
              <a:t>Блез Паскаль (1623 – 1662)</a:t>
            </a:r>
            <a:r>
              <a:rPr b="0" lang="ru-RU" sz="4000" spc="-1" strike="noStrike">
                <a:solidFill>
                  <a:srgbClr val="9999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3" name="" descr=""/>
          <p:cNvPicPr/>
          <p:nvPr/>
        </p:nvPicPr>
        <p:blipFill>
          <a:blip r:embed="rId1"/>
          <a:stretch/>
        </p:blipFill>
        <p:spPr>
          <a:xfrm>
            <a:off x="2389320" y="1471680"/>
            <a:ext cx="478620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Arial Black"/>
              </a:rPr>
              <a:t>Рассмотрим двучлены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Franklin Gothic Medium"/>
              </a:rPr>
              <a:t>(а + </a:t>
            </a: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b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Franklin Gothic Medium"/>
              </a:rPr>
              <a:t>0</a:t>
            </a: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(a + b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Franklin Gothic Medium"/>
              </a:rPr>
              <a:t>1</a:t>
            </a: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 = a +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(a + b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Franklin Gothic Medium"/>
              </a:rPr>
              <a:t>2</a:t>
            </a: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 = a</a:t>
            </a:r>
            <a:r>
              <a:rPr b="1" lang="en-US" sz="4000" spc="-1" strike="noStrike" baseline="30000">
                <a:solidFill>
                  <a:srgbClr val="3333cc"/>
                </a:solidFill>
                <a:latin typeface="Franklin Gothic Medium"/>
              </a:rPr>
              <a:t>2</a:t>
            </a: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 + 2ab + b</a:t>
            </a:r>
            <a:r>
              <a:rPr b="1" lang="en-US" sz="4000" spc="-1" strike="noStrike" baseline="30000">
                <a:solidFill>
                  <a:srgbClr val="3333cc"/>
                </a:solidFill>
                <a:latin typeface="Franklin Gothic Medium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(a + b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Franklin Gothic Medium"/>
              </a:rPr>
              <a:t>3</a:t>
            </a: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 = a</a:t>
            </a:r>
            <a:r>
              <a:rPr b="1" lang="en-US" sz="4000" spc="-1" strike="noStrike" baseline="30000">
                <a:solidFill>
                  <a:srgbClr val="3333cc"/>
                </a:solidFill>
                <a:latin typeface="Franklin Gothic Medium"/>
              </a:rPr>
              <a:t>3</a:t>
            </a: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 + 3a</a:t>
            </a:r>
            <a:r>
              <a:rPr b="1" lang="en-US" sz="4000" spc="-1" strike="noStrike" baseline="30000">
                <a:solidFill>
                  <a:srgbClr val="3333cc"/>
                </a:solidFill>
                <a:latin typeface="Franklin Gothic Medium"/>
              </a:rPr>
              <a:t>2</a:t>
            </a: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b + 3ab</a:t>
            </a:r>
            <a:r>
              <a:rPr b="1" lang="en-US" sz="4000" spc="-1" strike="noStrike" baseline="30000">
                <a:solidFill>
                  <a:srgbClr val="3333cc"/>
                </a:solidFill>
                <a:latin typeface="Franklin Gothic Medium"/>
              </a:rPr>
              <a:t>2</a:t>
            </a:r>
            <a:r>
              <a:rPr b="1" lang="en-US" sz="4000" spc="-1" strike="noStrike">
                <a:solidFill>
                  <a:srgbClr val="3333cc"/>
                </a:solidFill>
                <a:latin typeface="Franklin Gothic Medium"/>
              </a:rPr>
              <a:t> + b</a:t>
            </a:r>
            <a:r>
              <a:rPr b="1" lang="en-US" sz="4000" spc="-1" strike="noStrike" baseline="30000">
                <a:solidFill>
                  <a:srgbClr val="3333cc"/>
                </a:solidFill>
                <a:latin typeface="Franklin Gothic Medium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66"/>
                </a:solidFill>
                <a:latin typeface="Arial"/>
              </a:rPr>
              <a:t>Составим таблицу из их коэффициентов:</a:t>
            </a:r>
            <a:endParaRPr b="0" lang="en-US" sz="4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6666"/>
                </a:solidFill>
                <a:latin typeface="Arial Black"/>
              </a:rPr>
              <a:t>1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6666"/>
                </a:solidFill>
                <a:latin typeface="Arial Black"/>
              </a:rPr>
              <a:t>1 1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6666"/>
                </a:solidFill>
                <a:latin typeface="Arial Black"/>
              </a:rPr>
              <a:t>1 2 1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6666"/>
                </a:solidFill>
                <a:latin typeface="Arial Black"/>
              </a:rPr>
              <a:t>1 3 3 1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993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то с детских лет занимается математикой,тот развивает внимание,тренирует свой мозг,свою волю,воспитывает настойчивость и упорство в достижении цели.                         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264200" y="509724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Маркуш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852480" y="2349360"/>
            <a:ext cx="82915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(а+в)</a:t>
            </a:r>
            <a:r>
              <a:rPr b="1" lang="ru-RU" sz="4400" spc="-1" strike="noStrike" baseline="30000">
                <a:solidFill>
                  <a:srgbClr val="ff0000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(а+в)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4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=а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4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+4а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в+6а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в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+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+4ав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+в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4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числите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1)21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2)39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3)19*21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4)35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-34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5)13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+2*13*7+7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1)(20+1)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=441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2)(40-1)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=1521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3)(20-1)(20+1)=399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4)(35-34)(35+34)=69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5)(13+7)</a:t>
            </a:r>
            <a:r>
              <a:rPr b="0" lang="ru-RU" sz="4400" spc="-1" strike="noStrike" baseline="30000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=400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ff"/>
                </a:solidFill>
                <a:latin typeface="Arial Black"/>
              </a:rPr>
              <a:t>а</a:t>
            </a:r>
            <a:r>
              <a:rPr b="1" lang="ru-RU" sz="4000" spc="-1" strike="noStrike" baseline="30000">
                <a:solidFill>
                  <a:srgbClr val="33ccff"/>
                </a:solidFill>
                <a:latin typeface="Arial Black"/>
              </a:rPr>
              <a:t>2</a:t>
            </a:r>
            <a:r>
              <a:rPr b="1" lang="ru-RU" sz="4000" spc="-1" strike="noStrike">
                <a:solidFill>
                  <a:srgbClr val="33ccff"/>
                </a:solidFill>
                <a:latin typeface="Arial Black"/>
              </a:rPr>
              <a:t>+2ав+в</a:t>
            </a:r>
            <a:r>
              <a:rPr b="1" lang="ru-RU" sz="4000" spc="-1" strike="noStrike" baseline="30000">
                <a:solidFill>
                  <a:srgbClr val="33ccff"/>
                </a:solidFill>
                <a:latin typeface="Arial Black"/>
              </a:rPr>
              <a:t>2</a:t>
            </a:r>
            <a:r>
              <a:rPr b="1" lang="ru-RU" sz="4000" spc="-1" strike="noStrike">
                <a:solidFill>
                  <a:srgbClr val="33ccff"/>
                </a:solidFill>
                <a:latin typeface="Arial Black"/>
              </a:rPr>
              <a:t>=(а+в)</a:t>
            </a:r>
            <a:r>
              <a:rPr b="1" lang="ru-RU" sz="4000" spc="-1" strike="noStrike" baseline="30000">
                <a:solidFill>
                  <a:srgbClr val="33ccff"/>
                </a:solidFill>
                <a:latin typeface="Arial Black"/>
              </a:rPr>
              <a:t>2</a:t>
            </a:r>
            <a:r>
              <a:rPr b="1" lang="ru-RU" sz="4000" spc="-1" strike="noStrike">
                <a:solidFill>
                  <a:srgbClr val="33ccff"/>
                </a:solidFill>
                <a:latin typeface="Arial Black"/>
              </a:rPr>
              <a:t>=(а+в)(а+в)</a:t>
            </a:r>
            <a:br>
              <a:rPr sz="4000"/>
            </a:br>
            <a:r>
              <a:rPr b="1" lang="ru-RU" sz="4000" spc="-1" strike="noStrike">
                <a:solidFill>
                  <a:srgbClr val="33ccff"/>
                </a:solidFill>
                <a:latin typeface="Arial Black"/>
              </a:rPr>
              <a:t>а</a:t>
            </a:r>
            <a:r>
              <a:rPr b="1" lang="ru-RU" sz="4000" spc="-1" strike="noStrike" baseline="30000">
                <a:solidFill>
                  <a:srgbClr val="33ccff"/>
                </a:solidFill>
                <a:latin typeface="Arial Black"/>
              </a:rPr>
              <a:t>2</a:t>
            </a:r>
            <a:r>
              <a:rPr b="1" lang="ru-RU" sz="4000" spc="-1" strike="noStrike">
                <a:solidFill>
                  <a:srgbClr val="33ccff"/>
                </a:solidFill>
                <a:latin typeface="Arial Black"/>
              </a:rPr>
              <a:t>-2ав+в</a:t>
            </a:r>
            <a:r>
              <a:rPr b="1" lang="ru-RU" sz="4000" spc="-1" strike="noStrike" baseline="30000">
                <a:solidFill>
                  <a:srgbClr val="33ccff"/>
                </a:solidFill>
                <a:latin typeface="Arial Black"/>
              </a:rPr>
              <a:t>2</a:t>
            </a:r>
            <a:r>
              <a:rPr b="1" lang="ru-RU" sz="4000" spc="-1" strike="noStrike">
                <a:solidFill>
                  <a:srgbClr val="33ccff"/>
                </a:solidFill>
                <a:latin typeface="Arial Black"/>
              </a:rPr>
              <a:t>=(а-в)</a:t>
            </a:r>
            <a:r>
              <a:rPr b="1" lang="ru-RU" sz="4000" spc="-1" strike="noStrike" baseline="30000">
                <a:solidFill>
                  <a:srgbClr val="33ccff"/>
                </a:solidFill>
                <a:latin typeface="Arial Black"/>
              </a:rPr>
              <a:t>2</a:t>
            </a:r>
            <a:r>
              <a:rPr b="1" lang="ru-RU" sz="4000" spc="-1" strike="noStrike">
                <a:solidFill>
                  <a:srgbClr val="33ccff"/>
                </a:solidFill>
                <a:latin typeface="Arial Black"/>
              </a:rPr>
              <a:t>=(а-в)(а-в)</a:t>
            </a:r>
            <a:br>
              <a:rPr sz="4000"/>
            </a:br>
            <a:r>
              <a:rPr b="1" lang="ru-RU" sz="4000" spc="-1" strike="noStrike">
                <a:solidFill>
                  <a:srgbClr val="33ccff"/>
                </a:solidFill>
                <a:latin typeface="Arial Black"/>
              </a:rPr>
              <a:t>а</a:t>
            </a:r>
            <a:r>
              <a:rPr b="1" lang="ru-RU" sz="4000" spc="-1" strike="noStrike" baseline="30000">
                <a:solidFill>
                  <a:srgbClr val="33ccff"/>
                </a:solidFill>
                <a:latin typeface="Arial Black"/>
              </a:rPr>
              <a:t>2</a:t>
            </a:r>
            <a:r>
              <a:rPr b="1" lang="ru-RU" sz="4000" spc="-1" strike="noStrike">
                <a:solidFill>
                  <a:srgbClr val="33ccff"/>
                </a:solidFill>
                <a:latin typeface="Arial Black"/>
              </a:rPr>
              <a:t>-в</a:t>
            </a:r>
            <a:r>
              <a:rPr b="1" lang="ru-RU" sz="4000" spc="-1" strike="noStrike" baseline="30000">
                <a:solidFill>
                  <a:srgbClr val="33ccff"/>
                </a:solidFill>
                <a:latin typeface="Arial Black"/>
              </a:rPr>
              <a:t>2</a:t>
            </a:r>
            <a:r>
              <a:rPr b="1" lang="ru-RU" sz="4000" spc="-1" strike="noStrike">
                <a:solidFill>
                  <a:srgbClr val="33ccff"/>
                </a:solidFill>
                <a:latin typeface="Arial Black"/>
              </a:rPr>
              <a:t>=(а-в)(а+в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ешите уравне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)х</a:t>
            </a:r>
            <a:r>
              <a:rPr b="0" lang="ru-RU" sz="32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-25=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)у</a:t>
            </a:r>
            <a:r>
              <a:rPr b="0" lang="ru-RU" sz="32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-4у+4=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.Раскройте скобки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(2а+1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(3с-2х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(9-а)(9+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Вычисл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3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49*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айдите значение выраж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5-(5-3х)(25+15х+9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при х =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полна приключений,пот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за каждой задачей скры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ючение мысли. 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это значит пережить при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5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1. Обратите внимание на пирамиды чисел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а) 1 </a:t>
            </a:r>
            <a:r>
              <a:rPr b="0" lang="ru-RU" sz="3000" spc="-1" strike="noStrike">
                <a:solidFill>
                  <a:srgbClr val="490092"/>
                </a:solidFill>
                <a:latin typeface="Symbol"/>
                <a:ea typeface="Symbol"/>
              </a:rPr>
              <a:t></a:t>
            </a: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 8 + 1 = 9, 12 </a:t>
            </a:r>
            <a:r>
              <a:rPr b="0" lang="ru-RU" sz="3000" spc="-1" strike="noStrike">
                <a:solidFill>
                  <a:srgbClr val="490092"/>
                </a:solidFill>
                <a:latin typeface="Symbol"/>
                <a:ea typeface="Symbol"/>
              </a:rPr>
              <a:t></a:t>
            </a: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 8 + 2 = 98, 123 </a:t>
            </a:r>
            <a:r>
              <a:rPr b="0" lang="ru-RU" sz="3000" spc="-1" strike="noStrike">
                <a:solidFill>
                  <a:srgbClr val="490092"/>
                </a:solidFill>
                <a:latin typeface="Symbol"/>
                <a:ea typeface="Symbol"/>
              </a:rPr>
              <a:t></a:t>
            </a: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 8 + 3 = 987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А как дальш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б) 1</a:t>
            </a:r>
            <a:r>
              <a:rPr b="0" lang="ru-RU" sz="3000" spc="-1" strike="noStrike" baseline="30000">
                <a:solidFill>
                  <a:srgbClr val="490092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 = 1, 11</a:t>
            </a:r>
            <a:r>
              <a:rPr b="0" lang="ru-RU" sz="3000" spc="-1" strike="noStrike" baseline="30000">
                <a:solidFill>
                  <a:srgbClr val="490092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 = 121, 111</a:t>
            </a:r>
            <a:r>
              <a:rPr b="0" lang="ru-RU" sz="3000" spc="-1" strike="noStrike" baseline="30000">
                <a:solidFill>
                  <a:srgbClr val="490092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 =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2. Возведите в степень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а) (2а – </a:t>
            </a:r>
            <a:r>
              <a:rPr b="0" lang="en-US" sz="3000" spc="-1" strike="noStrike">
                <a:solidFill>
                  <a:srgbClr val="490092"/>
                </a:solidFill>
                <a:latin typeface="Arial"/>
              </a:rPr>
              <a:t>b + c)</a:t>
            </a:r>
            <a:r>
              <a:rPr b="0" lang="en-US" sz="3000" spc="-1" strike="noStrike" baseline="30000">
                <a:solidFill>
                  <a:srgbClr val="490092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;  б) (а + </a:t>
            </a:r>
            <a:r>
              <a:rPr b="0" lang="en-US" sz="3000" spc="-1" strike="noStrike">
                <a:solidFill>
                  <a:srgbClr val="490092"/>
                </a:solidFill>
                <a:latin typeface="Arial"/>
              </a:rPr>
              <a:t>b</a:t>
            </a: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)</a:t>
            </a:r>
            <a:r>
              <a:rPr b="0" lang="ru-RU" sz="3000" spc="-1" strike="noStrike" baseline="30000">
                <a:solidFill>
                  <a:srgbClr val="490092"/>
                </a:solidFill>
                <a:latin typeface="Arial"/>
              </a:rPr>
              <a:t>4</a:t>
            </a: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3. Вычислите: а) 976</a:t>
            </a:r>
            <a:r>
              <a:rPr b="0" lang="ru-RU" sz="3000" spc="-1" strike="noStrike" baseline="30000">
                <a:solidFill>
                  <a:srgbClr val="490092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;  б) 295</a:t>
            </a:r>
            <a:r>
              <a:rPr b="0" lang="ru-RU" sz="3000" spc="-1" strike="noStrike" baseline="30000">
                <a:solidFill>
                  <a:srgbClr val="490092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490092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Евклид. «Начала». Издание 1482 г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3" name="" descr=""/>
          <p:cNvPicPr/>
          <p:nvPr/>
        </p:nvPicPr>
        <p:blipFill>
          <a:blip r:embed="rId2"/>
          <a:stretch/>
        </p:blipFill>
        <p:spPr>
          <a:xfrm>
            <a:off x="1690560" y="895320"/>
            <a:ext cx="5624640" cy="591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Monotype Corsiva"/>
              </a:rPr>
              <a:t>…</a:t>
            </a:r>
            <a:r>
              <a:rPr b="0" lang="ru-RU" sz="3600" spc="-1" strike="noStrike">
                <a:solidFill>
                  <a:srgbClr val="f7d47d"/>
                </a:solidFill>
                <a:latin typeface="Monotype Corsiva"/>
              </a:rPr>
              <a:t>Мне мудрость не чужда была земная, Разгадки тайн ища, не ведал сна я.          За семьдесят перевалило мне,                   Что ж я узнал! -                                            Что ничего не знаю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Monotype Corsiva"/>
              </a:rPr>
              <a:t>                                            Омар Хайям        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Евклид. «Начала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Если отрезок как-либо разбит на два отрезка, то площадь квадрата, построенного на всем отрезке, равна сумме площадей квадратов, построенных на каждом из двух отрезков, и удвоенный площади прямоугольника, сторонами которого служат эти два отрезка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ть этой фразы в форму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(а +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b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= 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+ 2ab + b</a:t>
            </a:r>
            <a:r>
              <a:rPr b="1" lang="ru-RU" sz="40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66"/>
                </a:solidFill>
                <a:latin typeface="Arial"/>
              </a:rPr>
              <a:t>Изобразить эту формулу геометрически можно так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8" name="" descr=""/>
          <p:cNvPicPr/>
          <p:nvPr/>
        </p:nvPicPr>
        <p:blipFill>
          <a:blip r:embed="rId1"/>
          <a:stretch/>
        </p:blipFill>
        <p:spPr>
          <a:xfrm>
            <a:off x="1590840" y="1301760"/>
            <a:ext cx="5999040" cy="5218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ри способа формулировки математических утверждений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Словесный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понятный, но длинный, неудобны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Геометрическ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наглядный, но не всегда удобный для вычис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Символь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краткий, легко запоминающийся.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Составьте по описанию алгебраические выраж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66"/>
                </a:solidFill>
                <a:latin typeface="Arial"/>
              </a:rPr>
              <a:t>Сумма квадратов чисел а и </a:t>
            </a: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b</a:t>
            </a:r>
            <a:r>
              <a:rPr b="1" lang="ru-RU" sz="3600" spc="-1" strike="noStrike">
                <a:solidFill>
                  <a:srgbClr val="00cc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66"/>
                </a:solidFill>
                <a:latin typeface="Arial"/>
              </a:rPr>
              <a:t>Разность между числом х и удвоенной суммой чисел а и </a:t>
            </a: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b</a:t>
            </a:r>
            <a:r>
              <a:rPr b="1" lang="ru-RU" sz="3600" spc="-1" strike="noStrike">
                <a:solidFill>
                  <a:srgbClr val="00cc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66"/>
                </a:solidFill>
                <a:latin typeface="Arial"/>
              </a:rPr>
              <a:t>Квадрат разности чисел </a:t>
            </a: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b</a:t>
            </a:r>
            <a:r>
              <a:rPr b="1" lang="ru-RU" sz="3600" spc="-1" strike="noStrike">
                <a:solidFill>
                  <a:srgbClr val="00cc66"/>
                </a:solidFill>
                <a:latin typeface="Arial"/>
              </a:rPr>
              <a:t> и 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66"/>
                </a:solidFill>
                <a:latin typeface="Arial"/>
              </a:rPr>
              <a:t>Разность квадратов чисел а и </a:t>
            </a: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b</a:t>
            </a:r>
            <a:r>
              <a:rPr b="1" lang="ru-RU" sz="3600" spc="-1" strike="noStrike">
                <a:solidFill>
                  <a:srgbClr val="00cc66"/>
                </a:solidFill>
                <a:latin typeface="Arial"/>
              </a:rPr>
              <a:t>, умноженная на сумму этих чисел.</a:t>
            </a: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1)а</a:t>
            </a:r>
            <a:r>
              <a:rPr b="0" lang="ru-RU" sz="4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+в</a:t>
            </a:r>
            <a:r>
              <a:rPr b="0" lang="ru-RU" sz="4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2)х-2(а+в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3)(в-а)</a:t>
            </a:r>
            <a:r>
              <a:rPr b="0" lang="ru-RU" sz="4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4)(а</a:t>
            </a:r>
            <a:r>
              <a:rPr b="0" lang="ru-RU" sz="4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-в</a:t>
            </a:r>
            <a:r>
              <a:rPr b="0" lang="ru-RU" sz="44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)(а+в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c85e"/>
                </a:solidFill>
                <a:latin typeface="Arial Black"/>
              </a:rPr>
              <a:t>Найдите неизвестное х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(2</a:t>
            </a:r>
            <a:r>
              <a:rPr b="1" lang="ru-RU" sz="4000" spc="-1" strike="noStrike" baseline="30000">
                <a:solidFill>
                  <a:srgbClr val="eaeaea"/>
                </a:solidFill>
                <a:latin typeface="Verdana"/>
              </a:rPr>
              <a:t>4</a:t>
            </a: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1" lang="ru-RU" sz="4000" spc="-1" strike="noStrike" baseline="30000">
                <a:solidFill>
                  <a:srgbClr val="eaeaea"/>
                </a:solidFill>
                <a:latin typeface="Verdana"/>
              </a:rPr>
              <a:t>х</a:t>
            </a: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 = 2</a:t>
            </a:r>
            <a:r>
              <a:rPr b="1" lang="ru-RU" sz="4000" spc="-1" strike="noStrike" baseline="30000">
                <a:solidFill>
                  <a:srgbClr val="eaeaea"/>
                </a:solidFill>
                <a:latin typeface="Verdana"/>
              </a:rPr>
              <a:t>12</a:t>
            </a: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1" lang="ru-RU" sz="4000" spc="-1" strike="noStrike" baseline="30000">
                <a:solidFill>
                  <a:srgbClr val="eaeaea"/>
                </a:solidFill>
                <a:latin typeface="Verdana"/>
              </a:rPr>
              <a:t>х</a:t>
            </a: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 = 10000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ru-RU" sz="4000" spc="-1" strike="noStrike" baseline="30000">
                <a:solidFill>
                  <a:srgbClr val="eaeaea"/>
                </a:solidFill>
                <a:latin typeface="Verdana"/>
              </a:rPr>
              <a:t>3</a:t>
            </a: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eaeaea"/>
                </a:solidFill>
                <a:latin typeface="Symbol"/>
                <a:ea typeface="Symbol"/>
              </a:rPr>
              <a:t></a:t>
            </a: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 5</a:t>
            </a:r>
            <a:r>
              <a:rPr b="1" lang="ru-RU" sz="4000" spc="-1" strike="noStrike" baseline="30000">
                <a:solidFill>
                  <a:srgbClr val="eaeaea"/>
                </a:solidFill>
                <a:latin typeface="Verdana"/>
              </a:rPr>
              <a:t>4</a:t>
            </a: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 = 5</a:t>
            </a:r>
            <a:r>
              <a:rPr b="1" lang="ru-RU" sz="4000" spc="-1" strike="noStrike" baseline="30000">
                <a:solidFill>
                  <a:srgbClr val="eaeaea"/>
                </a:solidFill>
                <a:latin typeface="Verdana"/>
              </a:rPr>
              <a:t>2 + х</a:t>
            </a: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0,1</a:t>
            </a:r>
            <a:r>
              <a:rPr b="1" lang="ru-RU" sz="4000" spc="-1" strike="noStrike" baseline="30000">
                <a:solidFill>
                  <a:srgbClr val="eaeaea"/>
                </a:solidFill>
                <a:latin typeface="Verdana"/>
              </a:rPr>
              <a:t>х</a:t>
            </a: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 = 0,01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7:40:01Z</dcterms:created>
  <dc:creator>Королькова Наталья</dc:creator>
  <dc:description/>
  <dc:language>en-US</dc:language>
  <cp:lastModifiedBy>Елена</cp:lastModifiedBy>
  <dcterms:modified xsi:type="dcterms:W3CDTF">2010-02-03T20:28:51Z</dcterms:modified>
  <cp:revision>55</cp:revision>
  <dc:subject/>
  <dc:title>Обобщающий урок по теме Формулы сокращенного умножения</dc:title>
</cp:coreProperties>
</file>