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1AC-DD48-4FA4-8947-02ECDF3E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314-683C-4C5B-BF47-7261E1C0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ABD-B218-4E7D-9993-1A9963CC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AC0-E27E-47CB-89B5-78DE587A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2787-921B-4093-91F4-2838A43A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FF0E-D147-48CD-AB38-52E2A2C2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75EA-D166-402D-AA82-F4A0F091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7C5A-95AF-4D65-8D55-FD6C56EC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7FD3-1C81-4A83-BBDE-C05E887F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1202-DB92-4EE2-92F7-3D5F4496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7C8E-28DA-4E47-B4F2-9BE6F42B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796-B374-4467-90F7-59226103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D36D-1642-4A2F-B248-AF7C059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504D-C35A-4DA9-BF9B-587E0505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0430-DA61-449A-9971-9ADFEEF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FB85-0A34-4B8F-8B0C-02E4AD83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C6E6-4B6E-4F25-AF7D-C956E338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DD3-80DA-4E24-A7B5-E96DB13F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50D-56C7-4B87-9D57-CA87823F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C9B-B03A-49F6-90CD-CA0BC8B6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BFE-AF8F-4D9E-94E8-EF96DC0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106-223A-4040-A18F-315A6731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D9A-2CA4-48D1-83E2-283267E1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A1D-C623-4D0E-82F9-79EF1F8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2282-AC38-4F88-A45E-E140B04F21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D95B-6124-4377-8626-26F929593A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762120" y="1600200"/>
            <a:ext cx="761976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чение    млекопитающих 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 природе   и   жизни   челове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206760" y="4800600"/>
            <a:ext cx="217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ца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нтова Снеж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8590_big"/>
          <p:cNvPicPr/>
          <p:nvPr/>
        </p:nvPicPr>
        <p:blipFill>
          <a:blip r:embed="rId1"/>
          <a:stretch/>
        </p:blipFill>
        <p:spPr>
          <a:xfrm>
            <a:off x="2209680" y="4114800"/>
            <a:ext cx="3276720" cy="2567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Благодарность животным за огромный вклад в развитие нау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4" descr="тор"/>
          <p:cNvPicPr/>
          <p:nvPr/>
        </p:nvPicPr>
        <p:blipFill>
          <a:blip r:embed="rId1"/>
          <a:stretch/>
        </p:blipFill>
        <p:spPr>
          <a:xfrm>
            <a:off x="2133720" y="1981080"/>
            <a:ext cx="50673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чение   млекопитающих   в   природ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685800" y="4191120"/>
            <a:ext cx="2209680" cy="2209680"/>
          </a:xfrm>
          <a:prstGeom prst="vertic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щн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о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улят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ительнояд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676520" y="1600200"/>
            <a:ext cx="2209680" cy="2209680"/>
          </a:xfrm>
          <a:prstGeom prst="vertic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щн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ени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ростран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мян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3886200" y="4114800"/>
            <a:ext cx="2209680" cy="2209680"/>
          </a:xfrm>
          <a:prstGeom prst="vertic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ительнояд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улир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масс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систе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6629400" y="4114800"/>
            <a:ext cx="2209680" cy="2209680"/>
          </a:xfrm>
          <a:prstGeom prst="vertic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н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энерги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сис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4952880" y="1600200"/>
            <a:ext cx="2210040" cy="2209680"/>
          </a:xfrm>
          <a:prstGeom prst="vertic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в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ог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Охрана животны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ДУМАЙТЕ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последние 2тыс. лет на земном шаре вымер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100 форм разнообразных млекопита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лько в нашем веке полностью уничтожено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е 100 видов   зверей и птиц. На 2010 год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ую книгу МСОП (Международный союз ох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роды),   занесено 318 видов и подв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лекопитающих. Этот процесс затронул практ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уголки земного шара, и  конечно, Тюме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сть не стала исключением. Добыча неф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за привела к ухудшению эколог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тановки и это не могло не сказаться на животном мир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4264e279f1ce"/>
          <p:cNvPicPr/>
          <p:nvPr/>
        </p:nvPicPr>
        <p:blipFill>
          <a:blip r:embed="rId1"/>
          <a:stretch/>
        </p:blipFill>
        <p:spPr>
          <a:xfrm>
            <a:off x="152280" y="15228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Begin"/>
          <p:cNvPicPr/>
          <p:nvPr/>
        </p:nvPicPr>
        <p:blipFill>
          <a:blip r:embed="rId1"/>
          <a:stretch/>
        </p:blipFill>
        <p:spPr>
          <a:xfrm>
            <a:off x="6858000" y="5518080"/>
            <a:ext cx="1886040" cy="1111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200400" y="21337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т, кто делает вред животным из желания доставить себе удовольствие, ничего не прибавляет к своему счастью в этой жизни и в будущей: тогда, как тот, который не делает вред животным; не запирает, не убивает их, но желает добра всем чувствующим существам, тот испытывает счастья  постоян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индийского закона М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4264e279f1ce"/>
          <p:cNvPicPr/>
          <p:nvPr/>
        </p:nvPicPr>
        <p:blipFill>
          <a:blip r:embed="rId2"/>
          <a:stretch/>
        </p:blipFill>
        <p:spPr>
          <a:xfrm>
            <a:off x="0" y="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99" descr="Герб Тюменской области"/>
          <p:cNvPicPr/>
          <p:nvPr/>
        </p:nvPicPr>
        <p:blipFill>
          <a:blip r:embed="rId1"/>
          <a:stretch/>
        </p:blipFill>
        <p:spPr>
          <a:xfrm>
            <a:off x="0" y="1219320"/>
            <a:ext cx="3276720" cy="3581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00"/>
          <p:cNvSpPr/>
          <p:nvPr/>
        </p:nvSpPr>
        <p:spPr>
          <a:xfrm>
            <a:off x="3124080" y="1905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 Тюменской област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ля держат дев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ИБИРЬЮ ПРИРАСТАТЬ БУДЕТ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01" descr="Герб города Тюмени"/>
          <p:cNvPicPr/>
          <p:nvPr/>
        </p:nvPicPr>
        <p:blipFill>
          <a:blip r:embed="rId2"/>
          <a:stretch/>
        </p:blipFill>
        <p:spPr>
          <a:xfrm>
            <a:off x="6477120" y="2819520"/>
            <a:ext cx="2438280" cy="3124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102"/>
          <p:cNvSpPr/>
          <p:nvPr/>
        </p:nvSpPr>
        <p:spPr>
          <a:xfrm>
            <a:off x="2514600" y="4753800"/>
            <a:ext cx="40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 города Тю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виз "От сего града начинаетс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03"/>
          <p:cNvSpPr/>
          <p:nvPr/>
        </p:nvSpPr>
        <p:spPr>
          <a:xfrm>
            <a:off x="1660680" y="189000"/>
            <a:ext cx="550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04"/>
          <p:cNvSpPr/>
          <p:nvPr/>
        </p:nvSpPr>
        <p:spPr>
          <a:xfrm>
            <a:off x="1603440" y="533520"/>
            <a:ext cx="57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мволика  и 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амятники животны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Эдинбурге (Шотландия), у входа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адбище Грейфрайерз, поставл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ник скайтерьеру по кличке Бобб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течении четырнадцати лет (18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72 гг.) не покидал могилы сво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а и друга старого пастуха Дж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ея. После смерти хозяина Боб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довал за похоронной процессией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адбище, где и остался на долгие г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его выгоняли, но каждую ноч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ёс пробирался обратно к могильн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лмику. Сердобольные лю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кармливали собаку.   В 1872 год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нутые исключительной верностью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анностью собаки хозяину, ж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динбурга собрали средства и постав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бби памятник. На кругл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удожественно исполненном постамен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дит лохматый пёс - скатерьер Бобб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049051055057057052056051124053048048124052048048"/>
          <p:cNvPicPr/>
          <p:nvPr/>
        </p:nvPicPr>
        <p:blipFill>
          <a:blip r:embed="rId1"/>
          <a:stretch/>
        </p:blipFill>
        <p:spPr>
          <a:xfrm>
            <a:off x="838080" y="1523880"/>
            <a:ext cx="324324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57909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4648320" y="1981080"/>
            <a:ext cx="42066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бернар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етиями использовались для розыска и спасения людей в снежных заносах Альп.   Многие собаки спасли по 30-35 человек. Рекордсменом среди них был пёс Барри. Он спас 40 человек, о нем знали многие жители Италии, Швейцарии, Франции. Спасение сорок первого человека оказалось для Барри роковым.   В 1814 году его не стало. Чучело Барри до сих пор стоит в швейцарском музее естествознания в Берне. А спустя много десятилетий в 1899 году в Париже был открыт памятник Барри, о чём свидетельствует высеченное на памятнике имя. На постаменте - большая собака - сенбернар, а на её спине, крепко держась за шею, сидит маленькая девоч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09259820dd3d918ddcee064d24b1ee47"/>
          <p:cNvPicPr/>
          <p:nvPr/>
        </p:nvPicPr>
        <p:blipFill>
          <a:blip r:embed="rId1"/>
          <a:stretch/>
        </p:blipFill>
        <p:spPr>
          <a:xfrm>
            <a:off x="838080" y="1752480"/>
            <a:ext cx="289584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5"/>
          <p:cNvSpPr/>
          <p:nvPr/>
        </p:nvSpPr>
        <p:spPr>
          <a:xfrm>
            <a:off x="763920" y="380880"/>
            <a:ext cx="80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мятник отважным сенбернар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амятник кошк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11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4 ноября 2002 года в Санкт-Петербурге произошло знаменательное событие. Был открыт первый в России ПАМЯТНИК КОШКЕ. Памятник несет в себе собирательный образ всех кошек и задуман как людская благодарность кошкам - одним из самых любимых и наиболее популярных в наш век домашних животных, живущих бок о бок с человеком с древних времен. Идея создания памятника принадлежит независимо друг от друга кафедре анатомии и физиологии Санкт-Петербургского государственного университета (СПбГУ) и старейшему петербургскому клубу любителей кошек "Фелис". Автор памятника - известный скульптор, заслуженный художник России, профессор Анатолий Гордеевич Дема. Памятник установлен во дворе главного здания СПбГУ на Васильевском остро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0925d511770dadcb1955fbb33e30b9e3"/>
          <p:cNvPicPr/>
          <p:nvPr/>
        </p:nvPicPr>
        <p:blipFill>
          <a:blip r:embed="rId1"/>
          <a:stretch/>
        </p:blipFill>
        <p:spPr>
          <a:xfrm>
            <a:off x="685800" y="1981080"/>
            <a:ext cx="3543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амятник бездомной собаке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2880" y="2590560"/>
            <a:ext cx="3810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бездомной собаки в Мехико — это бронзовая фигура дворняги по кличке Пелусо, призывающая к милосердию к этим животным со стороны людей. Ассоциация «Собачье чудо» стало организатором в сборе денег на этот памятник. Изваял эту скульптуру мастер Хирасол Тельо за 2, 5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big_1240125184"/>
          <p:cNvPicPr/>
          <p:nvPr/>
        </p:nvPicPr>
        <p:blipFill>
          <a:blip r:embed="rId1"/>
          <a:stretch/>
        </p:blipFill>
        <p:spPr>
          <a:xfrm>
            <a:off x="762120" y="213372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амятники животны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0" y="1828800"/>
            <a:ext cx="4343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олийская волчица, кормившая Ромула и Рема. Каноническая скульптура - бронзовая волчица высотой 75 см, длиной 114 см, V в. д.н.э., по другой версии - 296 г. до н.э., Фигуры близнецов Ромула и Рема помещены под скульптуру волчицы значительно позже (созданы флорентийским мастером Антонио дель Поллайо в XV 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омное число людей во многих странах любят миф о Ромуле и Реме и повторяют эту скульптуру на разные лады, по-видимому, в назидание людям, как образец милосердия проявленного не то, что человеком, но даже диким зверем по отношению к беспомощным младенц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427c9b1cf1b"/>
          <p:cNvPicPr/>
          <p:nvPr/>
        </p:nvPicPr>
        <p:blipFill>
          <a:blip r:embed="rId1"/>
          <a:stretch/>
        </p:blipFill>
        <p:spPr>
          <a:xfrm>
            <a:off x="457200" y="205740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Люди, будьте милосердны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4" descr="м "/>
          <p:cNvPicPr/>
          <p:nvPr/>
        </p:nvPicPr>
        <p:blipFill>
          <a:blip r:embed="rId1"/>
          <a:stretch/>
        </p:blipFill>
        <p:spPr>
          <a:xfrm>
            <a:off x="2743200" y="1828800"/>
            <a:ext cx="4456080" cy="4749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5:46:18Z</dcterms:created>
  <dc:creator>Комп 3</dc:creator>
  <dc:description/>
  <dc:language>en-US</dc:language>
  <cp:lastModifiedBy>Алексей</cp:lastModifiedBy>
  <dcterms:modified xsi:type="dcterms:W3CDTF">2013-05-23T17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