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74F-D2ED-4C6C-A7FF-EAA718E47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F4D-AF97-48F2-9224-E5E44F5F3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5BC-B031-485D-A72E-D421AB26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1A2-8285-4BB1-832D-D81FC53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993-7D1D-447F-BA6A-406F91CD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67B-CFC6-493D-B629-4444C4A5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7B7-74F5-4A7D-AB8B-D74A0A2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C03-933D-4E6E-817F-92F99C5A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A9C-8005-452C-8DB8-F3429D2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939-8B1D-44AC-B127-60F355AB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2F3-222E-4E53-8C2B-C324AF1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1A2-965C-4003-8E8B-C572FC2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C1C-3E2F-422C-B18B-F286F69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758-1404-43F9-AE05-F9BB79D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7E0-0373-4F26-B87B-DEB63E850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7848360" cy="1943280"/>
          </a:xfrm>
          <a:prstGeom prst="rect">
            <a:avLst/>
          </a:prstGeom>
          <a:noFill/>
          <a:ln w="76320">
            <a:solidFill>
              <a:srgbClr val="ff505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cc00"/>
                </a:solidFill>
                <a:latin typeface="Calibri"/>
              </a:rPr>
              <a:t>«Хочу всё знать»</a:t>
            </a:r>
            <a:br>
              <a:rPr sz="5400"/>
            </a:br>
            <a:r>
              <a:rPr b="0" i="1" lang="ru-RU" sz="2400" spc="-1" strike="noStrike">
                <a:solidFill>
                  <a:srgbClr val="ff5050"/>
                </a:solidFill>
                <a:latin typeface="Calibri"/>
              </a:rPr>
              <a:t>Дидактическое пособие</a:t>
            </a:r>
            <a:br>
              <a:rPr sz="2400"/>
            </a:br>
            <a:r>
              <a:rPr b="0" i="1" lang="ru-RU" sz="2400" spc="-1" strike="noStrike">
                <a:solidFill>
                  <a:srgbClr val="ff5050"/>
                </a:solidFill>
                <a:latin typeface="Calibri"/>
              </a:rPr>
              <a:t>(для детей 3-7 лет)</a:t>
            </a:r>
            <a:r>
              <a:rPr b="0" i="1" lang="ru-RU" sz="28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67280" y="364500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Авторы пособ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Лепехина Светла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ашина Татьяна Васильевна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МДОУ  «Детский сад № 19</a:t>
            </a: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Ворошиловского района Волгогр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DSC00597"/>
          <p:cNvPicPr/>
          <p:nvPr/>
        </p:nvPicPr>
        <p:blipFill>
          <a:blip r:embed="rId1"/>
          <a:stretch/>
        </p:blipFill>
        <p:spPr>
          <a:xfrm>
            <a:off x="179280" y="3213000"/>
            <a:ext cx="4680000" cy="35100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Вертикальный свиток 4"/>
          <p:cNvSpPr/>
          <p:nvPr/>
        </p:nvSpPr>
        <p:spPr>
          <a:xfrm rot="5400000">
            <a:off x="2143080" y="-1928880"/>
            <a:ext cx="4857840" cy="87156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643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не отметить  универсальность игрового материала. Используя лишь несколько колец, можно получить либо разные варианты игры, либо дополнения к проводимой игре. Детям очень нравится это пособие. Они с удовольствием самостоятельно заменяют кольца, комбинируют задания, пытаются сами определить цель и правила иг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2786040" y="4572000"/>
            <a:ext cx="6143760" cy="180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ов игр множество. Всё зависит от возраста, поставленных задач , пройденного детьми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Вертикальный свиток 4"/>
          <p:cNvSpPr/>
          <p:nvPr/>
        </p:nvSpPr>
        <p:spPr>
          <a:xfrm>
            <a:off x="0" y="214200"/>
            <a:ext cx="9144000" cy="6643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-360"/>
            <a:ext cx="75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обие позволяет решать 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познавательную активность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енсорное развитие (восприятие цвета, формы)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формировать элементарные математические представления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овершенствовать грамматический строй речи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мелкую моторику и координацию движений ру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обогащать и расширять пассивный и активный слова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Вертикальный свиток 6"/>
          <p:cNvSpPr/>
          <p:nvPr/>
        </p:nvSpPr>
        <p:spPr>
          <a:xfrm>
            <a:off x="-324000" y="0"/>
            <a:ext cx="4857840" cy="6858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ff5050"/>
                </a:solidFill>
                <a:latin typeface="Calibri"/>
              </a:rPr>
              <a:t> формировать элементарные математические представления, упражнять соотносить цифру и количество предметов в пределах 10-ти; развивать мелкую моторику пальцев рук, внимание. Закреплять умение различать цвета; умение соотносить предмет и цвет; совершенствовать грамматический строй речи; развивать мелкую моторику пальцев рук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92904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  " «Познавательное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развитие"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7148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580000" y="115920"/>
            <a:ext cx="1368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ч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220360" y="2997360"/>
            <a:ext cx="1172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в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7"/>
          <p:cNvPicPr/>
          <p:nvPr/>
        </p:nvPicPr>
        <p:blipFill>
          <a:blip r:embed="rId2"/>
          <a:stretch/>
        </p:blipFill>
        <p:spPr>
          <a:xfrm>
            <a:off x="4211640" y="476280"/>
            <a:ext cx="4248000" cy="24447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97" name="Picture 13" descr="8"/>
          <p:cNvPicPr/>
          <p:nvPr/>
        </p:nvPicPr>
        <p:blipFill>
          <a:blip r:embed="rId3"/>
          <a:stretch/>
        </p:blipFill>
        <p:spPr>
          <a:xfrm>
            <a:off x="4140360" y="3429000"/>
            <a:ext cx="4506840" cy="26179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Вертикальный свиток 6"/>
          <p:cNvSpPr/>
          <p:nvPr/>
        </p:nvSpPr>
        <p:spPr>
          <a:xfrm rot="5400000">
            <a:off x="3642840" y="-3429000"/>
            <a:ext cx="207180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438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  " «Познавательное развитие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7400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571680" y="1643040"/>
            <a:ext cx="8215200" cy="13136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дачи: 1. Закрепить умение различать и называть пространственные отношения: справа — сл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Упражнять детей в определении правой руки и правой стороны; левой руки и левой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2" descr="SAM_1799.JPG"/>
          <p:cNvPicPr/>
          <p:nvPr/>
        </p:nvPicPr>
        <p:blipFill>
          <a:blip r:embed="rId2"/>
          <a:stretch/>
        </p:blipFill>
        <p:spPr>
          <a:xfrm>
            <a:off x="4859280" y="3068640"/>
            <a:ext cx="4095720" cy="30718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103" name="TextBox 13"/>
          <p:cNvSpPr/>
          <p:nvPr/>
        </p:nvSpPr>
        <p:spPr>
          <a:xfrm>
            <a:off x="5577480" y="3143160"/>
            <a:ext cx="345744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«Какой фигуры не хвата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4" descr="SAM_1796.JPG"/>
          <p:cNvPicPr/>
          <p:nvPr/>
        </p:nvPicPr>
        <p:blipFill>
          <a:blip r:embed="rId3"/>
          <a:stretch/>
        </p:blipFill>
        <p:spPr>
          <a:xfrm>
            <a:off x="1619280" y="4581360"/>
            <a:ext cx="2808360" cy="2106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105" name="Содержимое 10" descr="07022008501.jpg"/>
          <p:cNvPicPr/>
          <p:nvPr/>
        </p:nvPicPr>
        <p:blipFill>
          <a:blip r:embed="rId4"/>
          <a:stretch/>
        </p:blipFill>
        <p:spPr>
          <a:xfrm>
            <a:off x="179280" y="2997360"/>
            <a:ext cx="2627280" cy="19699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8640720" y="272520"/>
            <a:ext cx="4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2218680" y="4286160"/>
            <a:ext cx="18097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«Ориента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Вертикальный свиток 4"/>
          <p:cNvSpPr/>
          <p:nvPr/>
        </p:nvSpPr>
        <p:spPr>
          <a:xfrm>
            <a:off x="0" y="0"/>
            <a:ext cx="4643280" cy="2000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3851280" cy="177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область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 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«Познавательное развитие"</a:t>
            </a:r>
            <a:br>
              <a:rPr sz="2400"/>
            </a:br>
            <a:r>
              <a:rPr b="1" i="1" lang="ru-RU" sz="2000" spc="-1" strike="noStrike" u="sng">
                <a:solidFill>
                  <a:srgbClr val="953735"/>
                </a:solidFill>
                <a:uFillTx/>
                <a:latin typeface="Calibri"/>
              </a:rPr>
              <a:t>Формирование целостной картины мира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46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508720" y="0"/>
            <a:ext cx="2232000" cy="64260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Чей малыш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900000" y="3789360"/>
            <a:ext cx="300060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«Найди по силуэт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191960" y="6308640"/>
            <a:ext cx="2082600" cy="3682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кие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4"/>
          <p:cNvSpPr/>
          <p:nvPr/>
        </p:nvSpPr>
        <p:spPr>
          <a:xfrm>
            <a:off x="0" y="2071800"/>
            <a:ext cx="457200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у детей познавательных интересов, интеллектуального развития у детей через формирование целостной картины мира, расширение кругозор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5"/>
          <p:cNvPicPr/>
          <p:nvPr/>
        </p:nvPicPr>
        <p:blipFill>
          <a:blip r:embed="rId2"/>
          <a:stretch/>
        </p:blipFill>
        <p:spPr>
          <a:xfrm>
            <a:off x="4716360" y="476280"/>
            <a:ext cx="2449440" cy="14731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16" name="Picture 15" descr="4"/>
          <p:cNvPicPr/>
          <p:nvPr/>
        </p:nvPicPr>
        <p:blipFill>
          <a:blip r:embed="rId3"/>
          <a:stretch/>
        </p:blipFill>
        <p:spPr>
          <a:xfrm>
            <a:off x="5651640" y="2421000"/>
            <a:ext cx="3095640" cy="1757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17" name="Picture 16" descr="6"/>
          <p:cNvPicPr/>
          <p:nvPr/>
        </p:nvPicPr>
        <p:blipFill>
          <a:blip r:embed="rId4"/>
          <a:stretch/>
        </p:blipFill>
        <p:spPr>
          <a:xfrm>
            <a:off x="826920" y="4292640"/>
            <a:ext cx="3313440" cy="1859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18" name="Picture 17" descr="2"/>
          <p:cNvPicPr/>
          <p:nvPr/>
        </p:nvPicPr>
        <p:blipFill>
          <a:blip r:embed="rId5"/>
          <a:stretch/>
        </p:blipFill>
        <p:spPr>
          <a:xfrm>
            <a:off x="5219640" y="4797360"/>
            <a:ext cx="3311640" cy="17622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119" name="Text Box 18"/>
          <p:cNvSpPr/>
          <p:nvPr/>
        </p:nvSpPr>
        <p:spPr>
          <a:xfrm>
            <a:off x="5296320" y="4437000"/>
            <a:ext cx="1841760" cy="3682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«Кто что ес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305040" y="1989000"/>
            <a:ext cx="2139120" cy="3682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«Кто где живе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0800000">
            <a:off x="8786160" y="6428520"/>
            <a:ext cx="1429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714240" y="2428920"/>
            <a:ext cx="46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113600" y="3071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128592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7040520" y="62866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571680" y="1714680"/>
            <a:ext cx="3571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6" descr="SAM_1793.JPG"/>
          <p:cNvPicPr/>
          <p:nvPr/>
        </p:nvPicPr>
        <p:blipFill>
          <a:blip r:embed="rId1"/>
          <a:stretch/>
        </p:blipFill>
        <p:spPr>
          <a:xfrm>
            <a:off x="179280" y="3213000"/>
            <a:ext cx="4357800" cy="3268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28" name="Рисунок 17" descr="SAM_1794.JPG"/>
          <p:cNvPicPr/>
          <p:nvPr/>
        </p:nvPicPr>
        <p:blipFill>
          <a:blip r:embed="rId2"/>
          <a:stretch/>
        </p:blipFill>
        <p:spPr>
          <a:xfrm>
            <a:off x="4716360" y="3284640"/>
            <a:ext cx="4238640" cy="31780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129" name="TextBox 18"/>
          <p:cNvSpPr/>
          <p:nvPr/>
        </p:nvSpPr>
        <p:spPr>
          <a:xfrm>
            <a:off x="3636000" y="0"/>
            <a:ext cx="2643480" cy="459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 что похож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1932120" y="3429000"/>
            <a:ext cx="5600160" cy="4597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получится, если объединить…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WhatsApp Image 2018-03-16 at 11"/>
          <p:cNvPicPr/>
          <p:nvPr/>
        </p:nvPicPr>
        <p:blipFill>
          <a:blip r:embed="rId3"/>
          <a:stretch/>
        </p:blipFill>
        <p:spPr>
          <a:xfrm>
            <a:off x="2484360" y="549360"/>
            <a:ext cx="4535640" cy="2570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Вертикальный свиток 4"/>
          <p:cNvSpPr/>
          <p:nvPr/>
        </p:nvSpPr>
        <p:spPr>
          <a:xfrm rot="5400000">
            <a:off x="178200" y="-749880"/>
            <a:ext cx="4572360" cy="4929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52862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  область  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«Познавательное развитие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1428840"/>
            <a:ext cx="5072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овать развитию аналитического  мышления посредством нахождения общего и различного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хожими предметами и ситу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 Закреплять виды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SAM_1816.JPG"/>
          <p:cNvPicPr/>
          <p:nvPr/>
        </p:nvPicPr>
        <p:blipFill>
          <a:blip r:embed="rId2"/>
          <a:stretch/>
        </p:blipFill>
        <p:spPr>
          <a:xfrm>
            <a:off x="108000" y="3500280"/>
            <a:ext cx="2771640" cy="2079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136" name="Рисунок 10" descr="SAM_1819.JPG"/>
          <p:cNvPicPr/>
          <p:nvPr/>
        </p:nvPicPr>
        <p:blipFill>
          <a:blip r:embed="rId3"/>
          <a:stretch/>
        </p:blipFill>
        <p:spPr>
          <a:xfrm>
            <a:off x="3059280" y="4292640"/>
            <a:ext cx="3213000" cy="240984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137" name="Рисунок 11" descr="07022008500.jpg"/>
          <p:cNvPicPr/>
          <p:nvPr/>
        </p:nvPicPr>
        <p:blipFill>
          <a:blip r:embed="rId4"/>
          <a:stretch/>
        </p:blipFill>
        <p:spPr>
          <a:xfrm>
            <a:off x="5292720" y="189000"/>
            <a:ext cx="3570120" cy="267804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sp>
        <p:nvSpPr>
          <p:cNvPr id="138" name="TextBox 12"/>
          <p:cNvSpPr/>
          <p:nvPr/>
        </p:nvSpPr>
        <p:spPr>
          <a:xfrm>
            <a:off x="6999840" y="214200"/>
            <a:ext cx="187236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быстре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7323120" y="5500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4426920" y="6488280"/>
            <a:ext cx="224100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авает-лет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-720" y="5500800"/>
            <a:ext cx="211320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здит-плав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7" descr="SAM_1786.JPG"/>
          <p:cNvPicPr/>
          <p:nvPr/>
        </p:nvPicPr>
        <p:blipFill>
          <a:blip r:embed="rId5"/>
          <a:stretch/>
        </p:blipFill>
        <p:spPr>
          <a:xfrm>
            <a:off x="6191280" y="3213000"/>
            <a:ext cx="2952720" cy="2214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686800" y="272520"/>
            <a:ext cx="46080" cy="58532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0"/>
          <p:cNvSpPr/>
          <p:nvPr/>
        </p:nvSpPr>
        <p:spPr>
          <a:xfrm>
            <a:off x="6833880" y="5214960"/>
            <a:ext cx="228528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97080" y="476280"/>
            <a:ext cx="48574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оциально-личностное развитие»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Развитие реч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14960" y="0"/>
            <a:ext cx="32860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108000" y="2205000"/>
            <a:ext cx="3929040" cy="131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очнить представления детей о труде взрослого, опираясь на «модел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147680" y="6143760"/>
            <a:ext cx="191952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Профе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4429080" y="0"/>
            <a:ext cx="4714920" cy="1923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лять умение узнавать отдельные сказки по отдель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ивизировать речь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6002640" y="5500800"/>
            <a:ext cx="195480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ерои сказ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1"/>
          <p:cNvPicPr/>
          <p:nvPr/>
        </p:nvPicPr>
        <p:blipFill>
          <a:blip r:embed="rId1"/>
          <a:stretch/>
        </p:blipFill>
        <p:spPr>
          <a:xfrm>
            <a:off x="179280" y="3855960"/>
            <a:ext cx="3816360" cy="2260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753080" cy="25322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Вертикальный свиток 4"/>
          <p:cNvSpPr/>
          <p:nvPr/>
        </p:nvSpPr>
        <p:spPr>
          <a:xfrm>
            <a:off x="0" y="285840"/>
            <a:ext cx="9144000" cy="20001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286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речи»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10" descr="SAM_1797.JPG"/>
          <p:cNvPicPr/>
          <p:nvPr/>
        </p:nvPicPr>
        <p:blipFill>
          <a:blip r:embed="rId2"/>
          <a:stretch/>
        </p:blipFill>
        <p:spPr>
          <a:xfrm>
            <a:off x="250920" y="2565360"/>
            <a:ext cx="3924360" cy="29433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6" name="Содержимое 12" descr="SAM_1798.JPG"/>
          <p:cNvPicPr/>
          <p:nvPr/>
        </p:nvPicPr>
        <p:blipFill>
          <a:blip r:embed="rId3"/>
          <a:stretch/>
        </p:blipFill>
        <p:spPr>
          <a:xfrm>
            <a:off x="8686800" y="3182760"/>
            <a:ext cx="46080" cy="334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3" descr="SAM_1798.JPG"/>
          <p:cNvPicPr/>
          <p:nvPr/>
        </p:nvPicPr>
        <p:blipFill>
          <a:blip r:embed="rId4"/>
          <a:stretch/>
        </p:blipFill>
        <p:spPr>
          <a:xfrm>
            <a:off x="4356000" y="3068640"/>
            <a:ext cx="4570560" cy="34275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158" name="Прямоугольник 15"/>
          <p:cNvSpPr/>
          <p:nvPr/>
        </p:nvSpPr>
        <p:spPr>
          <a:xfrm>
            <a:off x="1143000" y="1071720"/>
            <a:ext cx="6858000" cy="131364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Задач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витие речи, внимания, образной и смысловой памяти, логического мышления. Научить детей находить предметы, противоположные по зна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854520" y="2997360"/>
            <a:ext cx="3346200" cy="45972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тивопо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Вертикальный свиток 4"/>
          <p:cNvSpPr/>
          <p:nvPr/>
        </p:nvSpPr>
        <p:spPr>
          <a:xfrm>
            <a:off x="0" y="214200"/>
            <a:ext cx="8715240" cy="15004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543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удожественно-эстетическое развит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Содержимое 6" descr="SAM_1792.JPG"/>
          <p:cNvPicPr/>
          <p:nvPr/>
        </p:nvPicPr>
        <p:blipFill>
          <a:blip r:embed="rId2"/>
          <a:stretch/>
        </p:blipFill>
        <p:spPr>
          <a:xfrm>
            <a:off x="179280" y="3357720"/>
            <a:ext cx="4381560" cy="32860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63" name="Рисунок 8" descr="SAM_1815.JPG"/>
          <p:cNvPicPr/>
          <p:nvPr/>
        </p:nvPicPr>
        <p:blipFill>
          <a:blip r:embed="rId3"/>
          <a:stretch/>
        </p:blipFill>
        <p:spPr>
          <a:xfrm>
            <a:off x="4738680" y="3367080"/>
            <a:ext cx="4297320" cy="32749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164" name="Прямоугольник 10"/>
          <p:cNvSpPr/>
          <p:nvPr/>
        </p:nvSpPr>
        <p:spPr>
          <a:xfrm>
            <a:off x="928800" y="1785960"/>
            <a:ext cx="7429320" cy="11912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Закреплять умение различать и называть цвета, умение составлять узор, обозначать результат словами "такой", "не тако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3651120" y="3286080"/>
            <a:ext cx="2463840" cy="39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дбери по цв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3726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</a:rPr>
              <a:t>В основе игрового пособия- теория Раймонда Луллия. Раймонд Луллий французский монах </a:t>
            </a:r>
            <a:r>
              <a:rPr b="1" lang="en-US" sz="2700" spc="-1" strike="noStrike">
                <a:solidFill>
                  <a:srgbClr val="c00000"/>
                </a:solidFill>
                <a:latin typeface="Times New Roman"/>
              </a:rPr>
              <a:t>XIII </a:t>
            </a:r>
            <a:r>
              <a:rPr b="1" lang="ru-RU" sz="2700" spc="-1" strike="noStrike">
                <a:solidFill>
                  <a:srgbClr val="c00000"/>
                </a:solidFill>
                <a:latin typeface="Times New Roman"/>
              </a:rPr>
              <a:t>в., создавший логическую машину в виде бумажных кругов. Простота конструкции позволяет применять ее даже в детском саду, как средство развития речи у детей. Эффект огромен — познание языка и мира в их взаимосвяз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1KZcf7C0XK0.jpg"/>
          <p:cNvPicPr/>
          <p:nvPr/>
        </p:nvPicPr>
        <p:blipFill>
          <a:blip r:embed="rId1"/>
          <a:stretch/>
        </p:blipFill>
        <p:spPr>
          <a:xfrm>
            <a:off x="108000" y="4221000"/>
            <a:ext cx="4143240" cy="2387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image009.jpg"/>
          <p:cNvPicPr/>
          <p:nvPr/>
        </p:nvPicPr>
        <p:blipFill>
          <a:blip r:embed="rId2"/>
          <a:stretch/>
        </p:blipFill>
        <p:spPr>
          <a:xfrm>
            <a:off x="4071960" y="4286160"/>
            <a:ext cx="47991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Вертикальный свиток 4"/>
          <p:cNvSpPr/>
          <p:nvPr/>
        </p:nvSpPr>
        <p:spPr>
          <a:xfrm>
            <a:off x="0" y="0"/>
            <a:ext cx="4286160" cy="2286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3471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удожественно-эстетическое развитие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28288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69" name="Рисунок 7" descr="SAM_1813.JPG"/>
          <p:cNvPicPr/>
          <p:nvPr/>
        </p:nvPicPr>
        <p:blipFill>
          <a:blip r:embed="rId2"/>
          <a:stretch/>
        </p:blipFill>
        <p:spPr>
          <a:xfrm>
            <a:off x="1692360" y="2349360"/>
            <a:ext cx="5643360" cy="42325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686800" y="272520"/>
            <a:ext cx="46080" cy="58532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9"/>
          <p:cNvSpPr/>
          <p:nvPr/>
        </p:nvSpPr>
        <p:spPr>
          <a:xfrm>
            <a:off x="4572000" y="428760"/>
            <a:ext cx="4572000" cy="106956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: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  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ить умение  детей различать и называть  музыкальные инстр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5141160" y="2286000"/>
            <a:ext cx="286740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«Кто на чем играе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Вертикальный свиток 4"/>
          <p:cNvSpPr/>
          <p:nvPr/>
        </p:nvSpPr>
        <p:spPr>
          <a:xfrm>
            <a:off x="0" y="357120"/>
            <a:ext cx="4286160" cy="14288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н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760" y="4214520"/>
            <a:ext cx="3900240" cy="157140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развивать внимание, зрительное восприятие, память, связную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28288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6" name="Содержимое 6" descr="SAM_1801.JPG"/>
          <p:cNvPicPr/>
          <p:nvPr/>
        </p:nvPicPr>
        <p:blipFill>
          <a:blip r:embed="rId2"/>
          <a:stretch/>
        </p:blipFill>
        <p:spPr>
          <a:xfrm>
            <a:off x="179280" y="2781360"/>
            <a:ext cx="5024520" cy="37688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77" name="Рисунок 9" descr="SAM_1814.JPG"/>
          <p:cNvPicPr/>
          <p:nvPr/>
        </p:nvPicPr>
        <p:blipFill>
          <a:blip r:embed="rId3"/>
          <a:stretch/>
        </p:blipFill>
        <p:spPr>
          <a:xfrm>
            <a:off x="4286160" y="187200"/>
            <a:ext cx="4606920" cy="34560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sp>
        <p:nvSpPr>
          <p:cNvPr id="178" name="TextBox 10"/>
          <p:cNvSpPr/>
          <p:nvPr/>
        </p:nvSpPr>
        <p:spPr>
          <a:xfrm>
            <a:off x="6147720" y="214200"/>
            <a:ext cx="2931480" cy="45972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предели эмо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354960" y="2214720"/>
            <a:ext cx="3598920" cy="398880"/>
          </a:xfrm>
          <a:prstGeom prst="rect">
            <a:avLst/>
          </a:prstGeom>
          <a:solidFill>
            <a:srgbClr val="8fa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Что перепутал худож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Вертикальный свиток 4"/>
          <p:cNvSpPr/>
          <p:nvPr/>
        </p:nvSpPr>
        <p:spPr>
          <a:xfrm>
            <a:off x="0" y="357120"/>
            <a:ext cx="8786880" cy="17146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РАЗВИТИЕ ТВОРЧЕСКОГО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6120" y="2357280"/>
            <a:ext cx="5114880" cy="378648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пример, совпали из взрослых животных зайчиха - из детенышей лисята: «Как могло случиться, что зайчиха стала воспитывать лисят, как она будет о них заботиться, чему станет учить». Заранее сказать детям, что ситуации сказочные, нереальные, значит можно дать волю фантаз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1144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143760" y="2142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357120" y="2214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640720" y="272880"/>
            <a:ext cx="4608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214200" y="2286000"/>
            <a:ext cx="3357720" cy="161856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этом случае раскручиваются оба кольца. Далее обсуждается несовместимая на первый взгляд комбин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500040" y="4071960"/>
            <a:ext cx="3571920" cy="2533320"/>
          </a:xfrm>
          <a:prstGeom prst="rect">
            <a:avLst/>
          </a:prstGeom>
          <a:solidFill>
            <a:srgbClr val="8eb4e3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жно самостоятельно изобретать свои варианты колец и способы игр и заданий к ним. К этому процессу также могут подключиться и воспитан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357120" y="214200"/>
            <a:ext cx="5429160" cy="14961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Игра- это искра, зажигающая огонёк пытливости и любознательности».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900000" y="2565360"/>
            <a:ext cx="7561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им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33685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ассовой педагогической практике фиксируется проблема развития творческих способностей детей дошкольного возраста. Это больше всего связано с отсутствием системы методов, которыми можно было увлечь ребенка творческой деятельностью. Дети не могут пользоваться имеющимися у них знаниями, так как они разобщены, не востребованы в полной мере и, следовательно, не являются основой для дальнейших мыслительных операций. Развитие мышления невозможно без формирования умственных операций. Умение классифицировать – одна из составляющих творческих способностей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357120" y="3000240"/>
            <a:ext cx="6143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hatsApp Image 2018-03-16 at 11"/>
          <p:cNvPicPr/>
          <p:nvPr/>
        </p:nvPicPr>
        <p:blipFill>
          <a:blip r:embed="rId1"/>
          <a:stretch/>
        </p:blipFill>
        <p:spPr>
          <a:xfrm>
            <a:off x="3276720" y="3716280"/>
            <a:ext cx="2216160" cy="29527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Вертикальный свиток 4"/>
          <p:cNvSpPr/>
          <p:nvPr/>
        </p:nvSpPr>
        <p:spPr>
          <a:xfrm>
            <a:off x="0" y="260280"/>
            <a:ext cx="528624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пособие  вносит элемент игры в образовательную деятельность, помогает поддерживать интерес к изучаемому материа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572000" y="3716280"/>
            <a:ext cx="4572000" cy="13136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a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едназначена как для работы с подгруппой детей, так и для самостоятельной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79280" y="5229360"/>
            <a:ext cx="8715600" cy="14655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обие используется в работе с детьми 3-7 лет в непосредственной образовательной деятельности педагога с детьми, а также в режимных момен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нный игровой метод обучения способствует созданию заинтересованной, непринуждённой обстановки, снимает психологическое и физическое напряжение, обеспечивает восприятие нового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DSC00603"/>
          <p:cNvPicPr/>
          <p:nvPr/>
        </p:nvPicPr>
        <p:blipFill>
          <a:blip r:embed="rId2"/>
          <a:stretch/>
        </p:blipFill>
        <p:spPr>
          <a:xfrm>
            <a:off x="5796000" y="189000"/>
            <a:ext cx="2539800" cy="33843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Вертикальный свиток 4"/>
          <p:cNvSpPr/>
          <p:nvPr/>
        </p:nvSpPr>
        <p:spPr>
          <a:xfrm rot="5400000">
            <a:off x="3111480" y="-2571840"/>
            <a:ext cx="292896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404640"/>
            <a:ext cx="72864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дактическое пособие состоит из пластмассового  корпуса и 2-ух кругов, в качестве которых служат старые пластинки, свободно вращающиеся на металлических стержнях. Длину дидактического пособия рекомендуется сделать чуть меньше диаметра 2-х пластинок для того, чтобы их удобно было вращать за выступающие ч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WhatsApp Image 2018-04-05 at 10"/>
          <p:cNvPicPr/>
          <p:nvPr/>
        </p:nvPicPr>
        <p:blipFill>
          <a:blip r:embed="rId2"/>
          <a:stretch/>
        </p:blipFill>
        <p:spPr>
          <a:xfrm>
            <a:off x="2987640" y="2708280"/>
            <a:ext cx="3003480" cy="40053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 комплекте пособия несколько парных кругов с картинками, собранными по лексическим темам. Картинки наклеены  так, чтобы на левой пластинке они располагались по часовой стрелке, а на правой - против часовой стрелки. Парные пластинки  помечены, например, путём наклеивания в центр одинакового по цвету кругу из самоклеящейся плё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1"/>
          <p:cNvPicPr/>
          <p:nvPr/>
        </p:nvPicPr>
        <p:blipFill>
          <a:blip r:embed="rId1"/>
          <a:stretch/>
        </p:blipFill>
        <p:spPr>
          <a:xfrm>
            <a:off x="395280" y="4437000"/>
            <a:ext cx="3743280" cy="22179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69" name="Picture 5" descr="7"/>
          <p:cNvPicPr/>
          <p:nvPr/>
        </p:nvPicPr>
        <p:blipFill>
          <a:blip r:embed="rId2"/>
          <a:stretch/>
        </p:blipFill>
        <p:spPr>
          <a:xfrm>
            <a:off x="4932360" y="4437000"/>
            <a:ext cx="3670200" cy="22035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Вертикальный свиток 4"/>
          <p:cNvSpPr/>
          <p:nvPr/>
        </p:nvSpPr>
        <p:spPr>
          <a:xfrm rot="5400000">
            <a:off x="3039480" y="-2571480"/>
            <a:ext cx="2928960" cy="80722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268632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620640"/>
            <a:ext cx="728676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верхнем прямоугольнике вырезано окошечко так, чтобы были видны совмещенные картинки. Крышка укреплена на небольших петельках.. Круги удобно вращать за выступы, которые образуются в результате того, что ширина пособия на 2—4 см меньше двух диаметров кру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9" descr="DSC00603"/>
          <p:cNvPicPr/>
          <p:nvPr/>
        </p:nvPicPr>
        <p:blipFill>
          <a:blip r:embed="rId2"/>
          <a:stretch/>
        </p:blipFill>
        <p:spPr>
          <a:xfrm>
            <a:off x="1619280" y="2678040"/>
            <a:ext cx="5184720" cy="40258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Вертикальный свиток 4"/>
          <p:cNvSpPr/>
          <p:nvPr/>
        </p:nvSpPr>
        <p:spPr>
          <a:xfrm rot="5400000">
            <a:off x="2928960" y="-2428920"/>
            <a:ext cx="3214800" cy="80726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285480"/>
            <a:ext cx="7286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вила игры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одинаковые  во всех темах)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:</a:t>
            </a:r>
            <a:br>
              <a:rPr sz="20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1. Установить пособие на стол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2. Поднять крышк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3. На круги сверху уложить выбранные кольца с картинк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4. Закрыть крышк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5. Прокрутив первый диск в окошечке устанавливается картинка, а прокручивая второй диск, ребенок подбирает правильный отв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DSC00603"/>
          <p:cNvPicPr/>
          <p:nvPr/>
        </p:nvPicPr>
        <p:blipFill>
          <a:blip r:embed="rId2"/>
          <a:stretch/>
        </p:blipFill>
        <p:spPr>
          <a:xfrm>
            <a:off x="3635280" y="2924280"/>
            <a:ext cx="4896000" cy="38019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78" name="Picture 12" descr="WhatsApp Image 2018-04-05 at 10"/>
          <p:cNvPicPr/>
          <p:nvPr/>
        </p:nvPicPr>
        <p:blipFill>
          <a:blip r:embed="rId3"/>
          <a:stretch/>
        </p:blipFill>
        <p:spPr>
          <a:xfrm>
            <a:off x="539640" y="2924280"/>
            <a:ext cx="2781360" cy="37083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Вертикальный свиток 4"/>
          <p:cNvSpPr/>
          <p:nvPr/>
        </p:nvSpPr>
        <p:spPr>
          <a:xfrm rot="5400000">
            <a:off x="3321360" y="-3107520"/>
            <a:ext cx="271476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26859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 использования пособия: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формирование представлений дошкольников об окружающем мире; развитие творческого мышления и воображения; обогащение словарного запаса; формирование элементарных математических и экологических представ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WhatsApp Image 2018-03-22 at 12"/>
          <p:cNvPicPr/>
          <p:nvPr/>
        </p:nvPicPr>
        <p:blipFill>
          <a:blip r:embed="rId2"/>
          <a:stretch/>
        </p:blipFill>
        <p:spPr>
          <a:xfrm>
            <a:off x="4788000" y="2492280"/>
            <a:ext cx="3111480" cy="41482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83" name="Picture 12" descr="WhatsApp Image 2018-03-22 at 12"/>
          <p:cNvPicPr/>
          <p:nvPr/>
        </p:nvPicPr>
        <p:blipFill>
          <a:blip r:embed="rId3"/>
          <a:stretch/>
        </p:blipFill>
        <p:spPr>
          <a:xfrm>
            <a:off x="1042920" y="2492280"/>
            <a:ext cx="3103560" cy="41371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2:01:02Z</dcterms:created>
  <dc:creator>Константин</dc:creator>
  <dc:description/>
  <dc:language>en-US</dc:language>
  <cp:lastModifiedBy>вадим дадаев</cp:lastModifiedBy>
  <dcterms:modified xsi:type="dcterms:W3CDTF">2019-12-08T16:06:00Z</dcterms:modified>
  <cp:revision>98</cp:revision>
  <dc:subject/>
  <dc:title>ФЭМП  «НАЗОВИ, СКОЛЬКО» ОО Позновательное развитие»</dc:title>
</cp:coreProperties>
</file>