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A49-CB9B-476C-BACE-817D841D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9E2-0A30-4D1E-AC4D-26E51E31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294-05CA-4ACE-8A42-83D596B2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7A1-5DB8-4378-B892-A6409A02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983-31BF-4671-BBB0-1930E3A2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7B9-4603-436E-9D4D-FA79608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C28-7C73-4146-AD07-56CEBEBF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198-CE98-468E-8E5C-1A6DFD1E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C22-9DFB-40EB-9E46-4B9D4AB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E48-D77E-4C63-B76A-7F4B445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8C5-544D-439B-A0AD-0DDB0DE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009-13F1-468A-A8A2-C541801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A22B-8351-436B-B202-C678741FE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1219320"/>
            <a:ext cx="6781680" cy="34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IMG_7682"/>
          <p:cNvPicPr/>
          <p:nvPr/>
        </p:nvPicPr>
        <p:blipFill>
          <a:blip r:embed="rId1"/>
          <a:stretch/>
        </p:blipFill>
        <p:spPr>
          <a:xfrm>
            <a:off x="0" y="1752480"/>
            <a:ext cx="3800520" cy="5105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IMG_7674"/>
          <p:cNvPicPr/>
          <p:nvPr/>
        </p:nvPicPr>
        <p:blipFill>
          <a:blip r:embed="rId2"/>
          <a:stretch/>
        </p:blipFill>
        <p:spPr>
          <a:xfrm>
            <a:off x="3809880" y="2743200"/>
            <a:ext cx="533412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1295280" y="152280"/>
            <a:ext cx="5905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ЫМКОВСКАЯ ГЛИНЯ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G_7675"/>
          <p:cNvPicPr/>
          <p:nvPr/>
        </p:nvPicPr>
        <p:blipFill>
          <a:blip r:embed="rId1"/>
          <a:stretch/>
        </p:blipFill>
        <p:spPr>
          <a:xfrm>
            <a:off x="0" y="1828800"/>
            <a:ext cx="3773520" cy="502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MG_7676"/>
          <p:cNvPicPr/>
          <p:nvPr/>
        </p:nvPicPr>
        <p:blipFill>
          <a:blip r:embed="rId2"/>
          <a:stretch/>
        </p:blipFill>
        <p:spPr>
          <a:xfrm>
            <a:off x="3733920" y="28004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1143000" y="533520"/>
            <a:ext cx="7048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ЛИМОНОВСКАЯ ГЛИНЯНА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G_7677"/>
          <p:cNvPicPr/>
          <p:nvPr/>
        </p:nvPicPr>
        <p:blipFill>
          <a:blip r:embed="rId1"/>
          <a:stretch/>
        </p:blipFill>
        <p:spPr>
          <a:xfrm>
            <a:off x="0" y="14479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IMG_7678"/>
          <p:cNvPicPr/>
          <p:nvPr/>
        </p:nvPicPr>
        <p:blipFill>
          <a:blip r:embed="rId2"/>
          <a:stretch/>
        </p:blipFill>
        <p:spPr>
          <a:xfrm>
            <a:off x="4038480" y="30290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2057400" y="228600"/>
            <a:ext cx="5067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ЕРСКАЯ ГЛИНЯ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MG_7679"/>
          <p:cNvPicPr/>
          <p:nvPr/>
        </p:nvPicPr>
        <p:blipFill>
          <a:blip r:embed="rId1"/>
          <a:stretch/>
        </p:blipFill>
        <p:spPr>
          <a:xfrm>
            <a:off x="0" y="175248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IMG_7680"/>
          <p:cNvPicPr/>
          <p:nvPr/>
        </p:nvPicPr>
        <p:blipFill>
          <a:blip r:embed="rId2"/>
          <a:stretch/>
        </p:blipFill>
        <p:spPr>
          <a:xfrm>
            <a:off x="380988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438280" y="380880"/>
            <a:ext cx="6400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ГОПОЛЬСКА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ИНЯ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04920" y="380880"/>
            <a:ext cx="838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920" y="762120"/>
            <a:ext cx="883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НАЗОВИТЕ ВИДЫ ИГРУШЕК, ЧЕМ ОНИ ОТЛИЧАЮТСЯ, И ЧТО МЕЖДУ НИМИ ОБЩЕГ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IMG_7681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 rot="5400000">
            <a:off x="114120" y="285732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8" name="Picture 8" descr="IMG_7680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 rot="5400000">
            <a:off x="4615200" y="2851920"/>
            <a:ext cx="5889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0" name="Picture 11" descr="IMG_7678"/>
          <p:cNvPicPr/>
          <p:nvPr/>
        </p:nvPicPr>
        <p:blipFill>
          <a:blip r:embed="rId3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61" name="WordArt 12"/>
          <p:cNvSpPr txBox="1"/>
          <p:nvPr/>
        </p:nvSpPr>
        <p:spPr>
          <a:xfrm rot="5400000">
            <a:off x="16560" y="6231600"/>
            <a:ext cx="609480" cy="642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2" name="Picture 13" descr="IMG_7676"/>
          <p:cNvPicPr/>
          <p:nvPr/>
        </p:nvPicPr>
        <p:blipFill>
          <a:blip r:embed="rId4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WordArt 14"/>
          <p:cNvSpPr txBox="1"/>
          <p:nvPr/>
        </p:nvSpPr>
        <p:spPr>
          <a:xfrm rot="5400000">
            <a:off x="4602240" y="6245280"/>
            <a:ext cx="582480" cy="642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амзия</dc:creator>
  <dc:description/>
  <dc:language>en-US</dc:language>
  <cp:lastModifiedBy>Рамзия</cp:lastModifiedBy>
  <dcterms:modified xsi:type="dcterms:W3CDTF">2019-12-09T15:29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