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D3C-01ED-42EE-8EE7-FE8FBC95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856-AD6C-40D2-9ADF-B18639D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03A-F101-4B67-8E46-8AFBA8C0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525-04EE-4B56-9213-C06F685A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9D5-D789-4AEF-A1CC-72201E83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6D4-5EF2-4586-95FE-3249A44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56D-89AE-4139-8692-BFF1ADCC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0D2-8A4A-479A-BEC3-86A7B097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9B2-4BD4-4513-B149-563D1357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F82-13AB-45B1-A26B-AE94112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AA8-F759-43A3-A50B-BD6521D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B8C-EE00-4E3F-84E8-CE32B50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AC41-F349-4434-AE7E-2667438EAEB5}" type="datetime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E1F-7E40-4B1A-8367-4435E388AA62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1520" y="2857320"/>
            <a:ext cx="5499000" cy="126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txBody>
          <a:bodyPr lIns="28440" rIns="2844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15640" y="4247640"/>
            <a:ext cx="6838920" cy="24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27680" cy="5452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285920" y="1285920"/>
            <a:ext cx="4927680" cy="5452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324000" y="4248000"/>
            <a:ext cx="8712000" cy="2490840"/>
          </a:xfrm>
          <a:prstGeom prst="pie">
            <a:avLst/>
          </a:pr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Мастер-класс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«Конструктор Банчемс из бросового материа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средство развития креативности дошкольник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Воспитатель : Нарженкова С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2019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749760" y="3068640"/>
            <a:ext cx="3701880" cy="11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П « ДЕТСКИЙ САД № 1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ГБОУ СОШ № 3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города Сызр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908000" y="2940120"/>
            <a:ext cx="2627640" cy="143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на закрепление геометрических фор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3"/>
          <a:stretch/>
        </p:blipFill>
        <p:spPr>
          <a:xfrm>
            <a:off x="4824360" y="1989000"/>
            <a:ext cx="3022560" cy="42483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16200" y="2087640"/>
            <a:ext cx="599616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струировании  силуэтных  изображений различных предм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3"/>
          <a:stretch/>
        </p:blipFill>
        <p:spPr>
          <a:xfrm>
            <a:off x="2259000" y="3024360"/>
            <a:ext cx="2882880" cy="35272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91" name="Рисунок 5" descr=""/>
          <p:cNvPicPr/>
          <p:nvPr/>
        </p:nvPicPr>
        <p:blipFill>
          <a:blip r:embed="rId4"/>
          <a:stretch/>
        </p:blipFill>
        <p:spPr>
          <a:xfrm>
            <a:off x="5713560" y="3024360"/>
            <a:ext cx="2709720" cy="35272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214720" y="2071800"/>
            <a:ext cx="64990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струирование на плоскости по образ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3"/>
          <a:stretch/>
        </p:blipFill>
        <p:spPr>
          <a:xfrm>
            <a:off x="2411280" y="2637000"/>
            <a:ext cx="5856480" cy="3698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6036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232000" y="1944720"/>
            <a:ext cx="6499080" cy="121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спользование крышек на занятиях по обучению грамо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«Какая буква» — из большого количества деталей легко учить буквы, и даже составлять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Рисунок 4"/>
          <p:cNvSpPr/>
          <p:nvPr/>
        </p:nvSpPr>
        <p:spPr>
          <a:xfrm>
            <a:off x="2087640" y="2786040"/>
            <a:ext cx="655164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2411280" y="3284640"/>
            <a:ext cx="5905800" cy="3122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2214720" y="1871640"/>
            <a:ext cx="6499080" cy="48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Изучение состава чис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3"/>
          <a:stretch/>
        </p:blipFill>
        <p:spPr>
          <a:xfrm>
            <a:off x="2087640" y="2557440"/>
            <a:ext cx="6624720" cy="37069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49400" y="-100080"/>
            <a:ext cx="4927320" cy="5453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214720" y="2808360"/>
            <a:ext cx="649908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user\Desktop\Нарженкова\загруженное.jpg"/>
          <p:cNvPicPr/>
          <p:nvPr/>
        </p:nvPicPr>
        <p:blipFill>
          <a:blip r:embed="rId3"/>
          <a:stretch/>
        </p:blipFill>
        <p:spPr>
          <a:xfrm>
            <a:off x="5560920" y="3463920"/>
            <a:ext cx="2395800" cy="26640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09" name="Picture 6" descr="C:\Users\user\Desktop\Нарженкова\1876.jpg"/>
          <p:cNvPicPr/>
          <p:nvPr/>
        </p:nvPicPr>
        <p:blipFill>
          <a:blip r:embed="rId4"/>
          <a:stretch/>
        </p:blipFill>
        <p:spPr>
          <a:xfrm>
            <a:off x="2471760" y="3463920"/>
            <a:ext cx="2448000" cy="26640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10" name="Прямоугольник 1"/>
          <p:cNvSpPr/>
          <p:nvPr/>
        </p:nvSpPr>
        <p:spPr>
          <a:xfrm>
            <a:off x="2286000" y="682560"/>
            <a:ext cx="642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Играя конструктором-липучкой, создавать можно различные фигу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Животные– конечно же, благодаря такому уникальному соединению любые круглые и овальные детали идеально создаются с круглых деталей конструкт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3492360" y="2708280"/>
            <a:ext cx="4878360" cy="42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C:\Users\user\Desktop\Нарженкова\1349.jpg"/>
          <p:cNvPicPr/>
          <p:nvPr/>
        </p:nvPicPr>
        <p:blipFill>
          <a:blip r:embed="rId3"/>
          <a:stretch/>
        </p:blipFill>
        <p:spPr>
          <a:xfrm>
            <a:off x="5580000" y="3463920"/>
            <a:ext cx="2592360" cy="24829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15" name="Picture 6" descr="C:\Users\user\Desktop\Нарженкова\detsad-67495-1431968753.jpg"/>
          <p:cNvPicPr/>
          <p:nvPr/>
        </p:nvPicPr>
        <p:blipFill>
          <a:blip r:embed="rId4"/>
          <a:stretch/>
        </p:blipFill>
        <p:spPr>
          <a:xfrm>
            <a:off x="2114640" y="2940120"/>
            <a:ext cx="2755800" cy="30067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2050920" y="1557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Насекомые– улитки, паучки, бабочки – благодаря красочным деталям, представители мира природы будут максимально яркими и красив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214200" y="31428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0520" y="0"/>
            <a:ext cx="4927680" cy="5452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678040" y="404640"/>
            <a:ext cx="6034320" cy="319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Веселый человече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Фигурки людей, человечков– так нравится малышам делать друзей своих или родственников и называть их именами. Веселые комиксы, ролевые игры при помощи такого конструктора развивают мышление, создание диалогов для малыш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3"/>
          <a:stretch/>
        </p:blipFill>
        <p:spPr>
          <a:xfrm>
            <a:off x="2484360" y="3238560"/>
            <a:ext cx="2374920" cy="32432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21" name="Рисунок 5" descr=""/>
          <p:cNvPicPr/>
          <p:nvPr/>
        </p:nvPicPr>
        <p:blipFill>
          <a:blip r:embed="rId4"/>
          <a:stretch/>
        </p:blipFill>
        <p:spPr>
          <a:xfrm>
            <a:off x="5867280" y="3238560"/>
            <a:ext cx="2305080" cy="32209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2232000" y="1871640"/>
            <a:ext cx="6499080" cy="42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: «Великая стен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3"/>
          <a:stretch/>
        </p:blipFill>
        <p:spPr>
          <a:xfrm>
            <a:off x="2357280" y="2517840"/>
            <a:ext cx="278460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26" name="Рисунок 5" descr=""/>
          <p:cNvPicPr/>
          <p:nvPr/>
        </p:nvPicPr>
        <p:blipFill>
          <a:blip r:embed="rId4"/>
          <a:stretch/>
        </p:blipFill>
        <p:spPr>
          <a:xfrm>
            <a:off x="5651640" y="2517840"/>
            <a:ext cx="276840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3"/>
          <a:stretch/>
        </p:blipFill>
        <p:spPr>
          <a:xfrm>
            <a:off x="2411280" y="2446200"/>
            <a:ext cx="2733840" cy="39610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30" name="Рисунок 5" descr=""/>
          <p:cNvPicPr/>
          <p:nvPr/>
        </p:nvPicPr>
        <p:blipFill>
          <a:blip r:embed="rId4"/>
          <a:stretch/>
        </p:blipFill>
        <p:spPr>
          <a:xfrm>
            <a:off x="5580000" y="2444760"/>
            <a:ext cx="2592360" cy="39607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14720" y="2071800"/>
            <a:ext cx="6499080" cy="2680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нструирование» означает приведение в определенное взаимоположение различных предметов, частей, элементов, от латинского слова constructio - постро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2592360" y="1800360"/>
            <a:ext cx="64990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струирование «Гараж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3"/>
          <a:stretch/>
        </p:blipFill>
        <p:spPr>
          <a:xfrm>
            <a:off x="2268360" y="2446200"/>
            <a:ext cx="2735280" cy="39610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35" name="Рисунок 5" descr=""/>
          <p:cNvPicPr/>
          <p:nvPr/>
        </p:nvPicPr>
        <p:blipFill>
          <a:blip r:embed="rId4"/>
          <a:stretch/>
        </p:blipFill>
        <p:spPr>
          <a:xfrm>
            <a:off x="5508720" y="2446200"/>
            <a:ext cx="2592360" cy="39610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232000" y="1806480"/>
            <a:ext cx="6499080" cy="42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Крестики - ноли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3"/>
          <a:stretch/>
        </p:blipFill>
        <p:spPr>
          <a:xfrm>
            <a:off x="2092320" y="2517840"/>
            <a:ext cx="291132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40" name="Рисунок 5" descr=""/>
          <p:cNvPicPr/>
          <p:nvPr/>
        </p:nvPicPr>
        <p:blipFill>
          <a:blip r:embed="rId4"/>
          <a:stretch/>
        </p:blipFill>
        <p:spPr>
          <a:xfrm>
            <a:off x="5219640" y="2517840"/>
            <a:ext cx="305604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214720" y="2071800"/>
            <a:ext cx="6499080" cy="109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Лото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4" descr=""/>
          <p:cNvPicPr/>
          <p:nvPr/>
        </p:nvPicPr>
        <p:blipFill>
          <a:blip r:embed="rId3"/>
          <a:stretch/>
        </p:blipFill>
        <p:spPr>
          <a:xfrm>
            <a:off x="2014560" y="3645000"/>
            <a:ext cx="3449520" cy="2690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45" name="Рисунок 5" descr=""/>
          <p:cNvPicPr/>
          <p:nvPr/>
        </p:nvPicPr>
        <p:blipFill>
          <a:blip r:embed="rId4"/>
          <a:stretch/>
        </p:blipFill>
        <p:spPr>
          <a:xfrm>
            <a:off x="5734080" y="2373480"/>
            <a:ext cx="288144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1995480" y="2093760"/>
            <a:ext cx="6500880" cy="76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Любимая детьми иг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«Шаш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Рисунок 4"/>
          <p:cNvSpPr/>
          <p:nvPr/>
        </p:nvSpPr>
        <p:spPr>
          <a:xfrm>
            <a:off x="5904000" y="2448000"/>
            <a:ext cx="2663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Рисунок 5"/>
          <p:cNvSpPr/>
          <p:nvPr/>
        </p:nvSpPr>
        <p:spPr>
          <a:xfrm>
            <a:off x="1728720" y="3743280"/>
            <a:ext cx="3743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6" descr=""/>
          <p:cNvPicPr/>
          <p:nvPr/>
        </p:nvPicPr>
        <p:blipFill>
          <a:blip r:embed="rId3"/>
          <a:stretch/>
        </p:blipFill>
        <p:spPr>
          <a:xfrm>
            <a:off x="5904000" y="2303640"/>
            <a:ext cx="2803320" cy="4103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52" name="Рисунок 7" descr=""/>
          <p:cNvPicPr/>
          <p:nvPr/>
        </p:nvPicPr>
        <p:blipFill>
          <a:blip r:embed="rId4"/>
          <a:stretch/>
        </p:blipFill>
        <p:spPr>
          <a:xfrm>
            <a:off x="1655640" y="3743280"/>
            <a:ext cx="3816360" cy="26640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214720" y="2071800"/>
            <a:ext cx="6499080" cy="143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дание на до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нструировать из крышек забавных человечков или  живот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3"/>
          <a:stretch/>
        </p:blipFill>
        <p:spPr>
          <a:xfrm>
            <a:off x="2208240" y="3335400"/>
            <a:ext cx="3155760" cy="30477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57" name="Рисунок 5" descr=""/>
          <p:cNvPicPr/>
          <p:nvPr/>
        </p:nvPicPr>
        <p:blipFill>
          <a:blip r:embed="rId4"/>
          <a:stretch/>
        </p:blipFill>
        <p:spPr>
          <a:xfrm>
            <a:off x="5724360" y="3335400"/>
            <a:ext cx="2286000" cy="30477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2214720" y="2808360"/>
            <a:ext cx="6499080" cy="2162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се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фотоматериалы использова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 разрешения родителей законных представ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214720" y="2071800"/>
            <a:ext cx="6499080" cy="310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Конструктор банчемс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это пластмассовые шарики, с цепкими, как у репейника щупальцами. Для детей – это великолепная задумка, ведь силы на соединение каждой детали минимальные, а держаться при этом между собой детали все равно будут. Плюс красивые, но в то же время не кислотные цвета данной игрушки притягивают любопытных детишек потрогать, испытать, что-то создать. Из колючек-липучек можно сделать что угодно – забавное существо, животное, элемент декора в детску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214720" y="2071800"/>
            <a:ext cx="6499080" cy="63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ЧЕМ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bunch0"/>
          <p:cNvPicPr/>
          <p:nvPr/>
        </p:nvPicPr>
        <p:blipFill>
          <a:blip r:embed="rId3"/>
          <a:stretch/>
        </p:blipFill>
        <p:spPr>
          <a:xfrm>
            <a:off x="1835280" y="3429000"/>
            <a:ext cx="2303280" cy="16686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58" name="Picture 7" descr="maxresdefault"/>
          <p:cNvPicPr/>
          <p:nvPr/>
        </p:nvPicPr>
        <p:blipFill>
          <a:blip r:embed="rId4"/>
          <a:stretch/>
        </p:blipFill>
        <p:spPr>
          <a:xfrm>
            <a:off x="4427640" y="3357720"/>
            <a:ext cx="3816360" cy="23047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246240" y="203040"/>
            <a:ext cx="864216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411280" y="2133720"/>
            <a:ext cx="619308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Для этого нам понадобятся цветные крышки, липучка для обуви, ножницы и клей "МОМЕНТ" ("СЕКУНДА", "СУПЕР клей"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. Выбираем любую задумку - построй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 Подбираем соответствующие крышки по цвету и разме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. Отмеряем ленту по диаметру крышек, - отрез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. Приклеиваем  липучки к крышкам, даем пару минут высохну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Конструктор гот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r\Desktop\Нарженкова\707.jpg"/>
          <p:cNvPicPr/>
          <p:nvPr/>
        </p:nvPicPr>
        <p:blipFill>
          <a:blip r:embed="rId3"/>
          <a:stretch/>
        </p:blipFill>
        <p:spPr>
          <a:xfrm>
            <a:off x="2195640" y="2708280"/>
            <a:ext cx="2736720" cy="3241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65" name="Picture 3" descr="C:\Users\user\Desktop\Нарженкова\1063.jpg"/>
          <p:cNvPicPr/>
          <p:nvPr/>
        </p:nvPicPr>
        <p:blipFill>
          <a:blip r:embed="rId4"/>
          <a:stretch/>
        </p:blipFill>
        <p:spPr>
          <a:xfrm>
            <a:off x="5580000" y="2708280"/>
            <a:ext cx="2592360" cy="3241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66" name="Прямоугольник 1"/>
          <p:cNvSpPr/>
          <p:nvPr/>
        </p:nvSpPr>
        <p:spPr>
          <a:xfrm>
            <a:off x="2771640" y="1484280"/>
            <a:ext cx="583272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ыбираем любую задумку – построй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user\Desktop\Нарженкова\862.jpg"/>
          <p:cNvPicPr/>
          <p:nvPr/>
        </p:nvPicPr>
        <p:blipFill>
          <a:blip r:embed="rId3"/>
          <a:stretch/>
        </p:blipFill>
        <p:spPr>
          <a:xfrm>
            <a:off x="2124000" y="3068640"/>
            <a:ext cx="2772000" cy="30178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70" name="Picture 5" descr="C:\Users\user\Desktop\Нарженкова\196.jpg"/>
          <p:cNvPicPr/>
          <p:nvPr/>
        </p:nvPicPr>
        <p:blipFill>
          <a:blip r:embed="rId4"/>
          <a:stretch/>
        </p:blipFill>
        <p:spPr>
          <a:xfrm>
            <a:off x="5796000" y="3068640"/>
            <a:ext cx="2766960" cy="30178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71" name="Прямоугольник 1"/>
          <p:cNvSpPr/>
          <p:nvPr/>
        </p:nvSpPr>
        <p:spPr>
          <a:xfrm>
            <a:off x="1763640" y="1413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 Подбираем соответствующие крышки по цвету и разме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. Отмеряем ленту по диаметру крышек, - отрез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214200" y="358920"/>
            <a:ext cx="8642520" cy="649908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14200" y="236520"/>
            <a:ext cx="4927680" cy="5452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3492360" y="2708280"/>
            <a:ext cx="4878360" cy="42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Users\user\Desktop\Нарженкова\296.jpg"/>
          <p:cNvPicPr/>
          <p:nvPr/>
        </p:nvPicPr>
        <p:blipFill>
          <a:blip r:embed="rId3"/>
          <a:stretch/>
        </p:blipFill>
        <p:spPr>
          <a:xfrm>
            <a:off x="2340000" y="3429000"/>
            <a:ext cx="2592360" cy="3095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76" name="Picture 4" descr="C:\Users\user\Desktop\Нарженкова\643.jpg"/>
          <p:cNvPicPr/>
          <p:nvPr/>
        </p:nvPicPr>
        <p:blipFill>
          <a:blip r:embed="rId4"/>
          <a:stretch/>
        </p:blipFill>
        <p:spPr>
          <a:xfrm>
            <a:off x="5754600" y="3429000"/>
            <a:ext cx="2592360" cy="3095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77" name="Прямоугольник 1"/>
          <p:cNvSpPr/>
          <p:nvPr/>
        </p:nvSpPr>
        <p:spPr>
          <a:xfrm>
            <a:off x="1908000" y="692280"/>
            <a:ext cx="6948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. Приклеиваем  липучки к крышкам, даем пару минут высохну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Конструктор гот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2214720" y="1800360"/>
            <a:ext cx="64990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Какой цвет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3"/>
          <a:stretch/>
        </p:blipFill>
        <p:spPr>
          <a:xfrm>
            <a:off x="5651640" y="2517840"/>
            <a:ext cx="298440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2" name="Рисунок 5" descr=""/>
          <p:cNvPicPr/>
          <p:nvPr/>
        </p:nvPicPr>
        <p:blipFill>
          <a:blip r:embed="rId4"/>
          <a:stretch/>
        </p:blipFill>
        <p:spPr>
          <a:xfrm>
            <a:off x="2232000" y="2517840"/>
            <a:ext cx="306072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9-10-14T02:22:00Z</dcterms:modified>
  <cp:revision>24</cp:revision>
  <dc:subject/>
  <dc:title>Презентация PowerPoint</dc:title>
</cp:coreProperties>
</file>