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E0D-7E8B-4619-A9C2-FF9322AC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E99-E0A9-4397-9DA5-E81F182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AB6-1270-4203-A60B-4C6A51E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0BE-9481-445A-B6ED-22761BA6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E4F-F8A6-4B87-B713-CCD624E0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697-8F38-435E-9F71-B01751FF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FF1F-5643-4CA7-9FAC-FFED4C1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A933-9BC1-464A-AC8F-FAABF333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0D76-1959-4297-A2C2-F9E22924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810F-8775-4177-98E2-6635587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CFA-F7A6-4D06-A2BA-ECF6517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A43-BBFF-491C-A641-D9B47D2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7F4-E494-4C36-BDF5-B47D0E7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5F35-C2EA-4E2A-B36D-918C115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2BA-2B1E-4A0E-882A-30226630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8C48-0D0C-4F9E-BE23-CB4119A9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167A-9095-48DE-90C6-CE15907C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01D7-97CA-4B61-B851-29352143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5CAD-D5C2-44FA-8685-4039AF2B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9FC7-8D04-4693-A6F4-F321540E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821C7-29F0-425B-9172-23FF485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7B1C-06C4-4FB6-9067-78F2A4E1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F87-62E8-4898-BD33-E3C6D52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F855-4662-4E3E-9962-170BFCB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629B-1DB6-49AF-89AC-4FA016F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7994-42E7-4CF5-AB31-4BDAD16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BB7F-2E34-489E-925A-910247D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210D-E9E3-4E74-8523-F60CD93B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997F-4DF4-4F06-828B-A36ED0A1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B7B3-20F9-4669-981B-47DB0170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B3B-2A67-444F-B11C-9A7F462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A72-72A5-4FD6-A69D-D5705AD2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04F-741D-453F-A827-1CDA961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309-EB54-4ADC-987B-FF5C5B2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6DB-5B7F-4739-9608-42265EB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002-9E25-4FE4-8884-ED6E01B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roup 7" descr=""/>
          <p:cNvPicPr/>
          <p:nvPr/>
        </p:nvPicPr>
        <p:blipFill>
          <a:blip r:embed="rId4"/>
          <a:stretch/>
        </p:blipFill>
        <p:spPr>
          <a:xfrm>
            <a:off x="-12600" y="0"/>
            <a:ext cx="12052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74F0F-725D-42E7-8959-1423D9227F8D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roup 10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3AD21-18B6-46C3-A1A3-417C0530CDEE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Group 7" descr=""/>
          <p:cNvPicPr/>
          <p:nvPr/>
        </p:nvPicPr>
        <p:blipFill>
          <a:blip r:embed="rId4"/>
          <a:stretch/>
        </p:blipFill>
        <p:spPr>
          <a:xfrm>
            <a:off x="-12600" y="0"/>
            <a:ext cx="12052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1C497-38B1-4729-BD84-9A84022D980C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6320" y="0"/>
            <a:ext cx="99061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UNIVERSITY OF OXFORD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6200" y="1788840"/>
            <a:ext cx="5004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YPE OF EDUCATIONAL INSTITUTION: STATE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ITY: OXFORD, GREAT BRITAIN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YEAR OF FOUNDATION: 1096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DDRESS : WELLINGTON SQUARE, OXFORD OX1 2JD, UNITED KINGDOM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UMBER OF STUDENTS: 24640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1440" y="968400"/>
            <a:ext cx="4173480" cy="2766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2289240" y="3989520"/>
            <a:ext cx="25956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14:40:23Z</dcterms:created>
  <dc:creator>Рубен Аветисян</dc:creator>
  <dc:description/>
  <dc:language>en-US</dc:language>
  <cp:lastModifiedBy>Андрей Смелов</cp:lastModifiedBy>
  <dcterms:modified xsi:type="dcterms:W3CDTF">2019-12-09T17:24:36Z</dcterms:modified>
  <cp:revision>21</cp:revision>
  <dc:subject/>
  <dc:title>Малныкина Ксения Александровна</dc:title>
</cp:coreProperties>
</file>