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78C-8C33-469F-A2E1-CB437246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BC4-A310-45FA-9AEE-9FA37B73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4C2-9072-4AFD-A065-BD48128E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78F-9D6C-4373-9F93-2C748B64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97C4-E129-4DFB-B1C0-01FDD18D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1AEA-3E38-495B-8690-79E1D322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68E6-0BA4-4352-9873-0349222A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D2D5-69AB-405D-9421-F3C682E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8CA4-6723-44F5-BAAD-A37877BF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5F8D-596F-4B52-A87A-BEB88D88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DD6D-F500-4B5A-AEE6-0033378E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B35-433A-4D43-B875-16BC66CE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F5BF-3B56-493E-91C7-58EBBBD6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CAF3-DE64-4413-A1C6-825387F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5FEE-275A-43CD-BD33-42450A95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FC7D-87F0-4CC4-B48C-1E96E2CA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A39E-E73B-4C84-B6B7-7C59E414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C86-DB87-499A-B04C-502BF9F4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E5F-15A0-4E20-BE11-59B980EF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787-49AF-4CD6-8809-C49A958E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004-43B4-49FF-9A39-5E1B0528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DD1-C8A9-4ADA-8943-90C289C1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DAB-F243-4963-AD76-02F08340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9B0-4A88-4ED5-BA9C-ABB5ED74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91DD-3E16-4F19-B1A1-B9EF53BA6DEC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93E9-F543-4AAC-B6A9-30ED14804611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261e"/>
                </a:solidFill>
                <a:latin typeface="Arial"/>
              </a:rPr>
              <a:t>Красная книга Нижегородской области</a:t>
            </a:r>
            <a:endParaRPr b="0" lang="en-US" sz="7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5" name="Picture 3" descr="gerb_nn"/>
          <p:cNvPicPr/>
          <p:nvPr/>
        </p:nvPicPr>
        <p:blipFill>
          <a:blip r:embed="rId1"/>
          <a:stretch/>
        </p:blipFill>
        <p:spPr>
          <a:xfrm>
            <a:off x="3564000" y="3789360"/>
            <a:ext cx="2286000" cy="2263680"/>
          </a:xfrm>
          <a:prstGeom prst="rect">
            <a:avLst/>
          </a:prstGeom>
          <a:ln w="0">
            <a:noFill/>
          </a:ln>
        </p:spPr>
      </p:pic>
      <p:pic>
        <p:nvPicPr>
          <p:cNvPr id="86" name="19-polj_moria_-_v_mire_zhivotnyh.mp3" descr=""/>
          <p:cNvPicPr/>
          <p:nvPr/>
        </p:nvPicPr>
        <p:blipFill>
          <a:blip r:embed="rId2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476280" y="4724280"/>
            <a:ext cx="30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: Пронина 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Лисовская А.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Лебедь кликун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5280" y="1341360"/>
            <a:ext cx="49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Снежно-белое оперение очень пышное, густое, с большим количеством нежного пуха. Тело вытянутое, шея равна по длине телу. Уздечка и основание клюва желтые или желто-оранжевые, конец клюва черный. Ноги короткие, черные. Хвост округлый. 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13" name="Picture 4" descr="Лебедь кликун"/>
          <p:cNvPicPr/>
          <p:nvPr/>
        </p:nvPicPr>
        <p:blipFill>
          <a:blip r:embed="rId1"/>
          <a:stretch/>
        </p:blipFill>
        <p:spPr>
          <a:xfrm>
            <a:off x="250920" y="2276640"/>
            <a:ext cx="354312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Беркут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00360" y="1125000"/>
            <a:ext cx="6192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Крупный орел, длина тела которого достигает 1 м, размах крыльев около 2 м. Окраска бурая, почти однотонная, у молодых птиц со светлыми пестринами. Верх головы и задняя часть шеи у взрослых птиц окрашена в более светлый рыжевато-золотистый цвет, чего нет у молодых. У молодых птиц — белое основание хвоста и светлая продольная полоса по средней части крыла; с возрастом светлая окраска и того, и другого почти исчезает, но чаще всего не полностью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16" name="Picture 4" descr="Беркут"/>
          <p:cNvPicPr/>
          <p:nvPr/>
        </p:nvPicPr>
        <p:blipFill>
          <a:blip r:embed="rId1"/>
          <a:stretch/>
        </p:blipFill>
        <p:spPr>
          <a:xfrm>
            <a:off x="250920" y="2133720"/>
            <a:ext cx="23414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Змееяд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76720" y="1268280"/>
            <a:ext cx="5543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Крупная хищная птица, достигающая в длину 70 см, размах крыльев 160—190 см. Голова, спина и крылья бурые, грудь, брюхо и испод крыльев белые, с бурыми пестринами. Среди других дневных хищных птиц выделяется более крупной (“совиной”) головой. Глаза очень крупные, с хорошо заметной ярко-желтой радужной оболочкой. Клюв темный. Лапы серо-голубого цвета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19" name="Picture 4" descr="Змееяд"/>
          <p:cNvPicPr/>
          <p:nvPr/>
        </p:nvPicPr>
        <p:blipFill>
          <a:blip r:embed="rId1"/>
          <a:stretch/>
        </p:blipFill>
        <p:spPr>
          <a:xfrm>
            <a:off x="539640" y="1773360"/>
            <a:ext cx="261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одяной погоныш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03280" y="1341000"/>
            <a:ext cx="5483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Небольшая птица размером со скворца. Длина тела 18—20 см. У самца бoльшая часть головы, брюшко и грудь аспидно-серые. Спинная сторона оливково-бурая, с широкими продольными черными и несколькими светлыми полосами вдоль спины. Задняя половина боков тела с поперечными беловато-охристыми полосами. Подхвостье черное, с широкими белыми полосами и пятнами. Хвост темно-бурый, с оливково-бурыми каймами.</a:t>
            </a: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22" name="Picture 4" descr="Погоныш водяной"/>
          <p:cNvPicPr/>
          <p:nvPr/>
        </p:nvPicPr>
        <p:blipFill>
          <a:blip r:embed="rId1"/>
          <a:stretch/>
        </p:blipFill>
        <p:spPr>
          <a:xfrm>
            <a:off x="468360" y="1557360"/>
            <a:ext cx="24256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4"/>
          <p:cNvSpPr/>
          <p:nvPr/>
        </p:nvSpPr>
        <p:spPr>
          <a:xfrm>
            <a:off x="1928880" y="22147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0000"/>
                </a:solidFill>
                <a:latin typeface="Arial"/>
              </a:rPr>
              <a:t>Конец!!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f261e"/>
                </a:solidFill>
                <a:latin typeface="Garamond"/>
              </a:rPr>
              <a:t>Млекопитающие</a:t>
            </a:r>
            <a:endParaRPr b="0" lang="en-US" sz="8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ыхухоль русская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35280" y="1267920"/>
            <a:ext cx="532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Arial"/>
              </a:rPr>
              <a:t>Один из самых крупных представителей отряда: длина тела 18—20 см, масса до 500 г. Меховой покров серовато-бурый, с серебристым налетом. Нос вытянут в подвижный хоботок. Глаза очень маленькие, ушных раковин нет. Укороченные сильные задние конечности развиты лучше передних; пальцы лап соединены плавательными перепонками. Длинный, сжатый с боков хвост покрыт роговыми чешуйками. Типичный обитатель поймы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2" name="Picture 4" descr="1"/>
          <p:cNvPicPr/>
          <p:nvPr/>
        </p:nvPicPr>
        <p:blipFill>
          <a:blip r:embed="rId1"/>
          <a:stretch/>
        </p:blipFill>
        <p:spPr>
          <a:xfrm>
            <a:off x="250920" y="2060640"/>
            <a:ext cx="367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Бурый ушан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51280" y="1267920"/>
            <a:ext cx="4835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Летучая мышь средних размеров: длина тела от 41 до 55 мм, предплечья — от 35 до 43 мм. Мех длинный, на спине золотисто-коричневый или рыжеватый, нижняя сторона тела белесо-серая, часто с коричневатым оттенком. Крылья очень широкие, крыловая перепонка тонкая, серо-коричневого цвета. Уши очень длинные (31—43 мм), задний край уха с поперечными складками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5" name="Picture 4" descr="2S"/>
          <p:cNvPicPr/>
          <p:nvPr/>
        </p:nvPicPr>
        <p:blipFill>
          <a:blip r:embed="rId1"/>
          <a:stretch/>
        </p:blipFill>
        <p:spPr>
          <a:xfrm>
            <a:off x="250920" y="2276640"/>
            <a:ext cx="354312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ыдры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34920" y="1412640"/>
            <a:ext cx="5257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Длина тела 70—90 см, хвоста — 40—50 см, вес 6—10 кг. Голова относительно небольшая, плавно переходит в длинную толстую шею. Ушные раковины малы, едва выступают из меха. Уши и ноздри снабжены особыми  клапанами, закрывающими их при погружении в воду. Хвост сильный, толстый у основания, суживающийся к концу, покрыт короткими волосами. Лапы укороченные, пятипалые, пальцы по всей длине соединены широкой плавательной перепонкой.  Подошвы голые. Мех прилегающий, короткий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8" name="Picture 4" descr="6"/>
          <p:cNvPicPr/>
          <p:nvPr/>
        </p:nvPicPr>
        <p:blipFill>
          <a:blip r:embed="rId1"/>
          <a:stretch/>
        </p:blipFill>
        <p:spPr>
          <a:xfrm>
            <a:off x="179280" y="2060640"/>
            <a:ext cx="3543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Орешниковая соня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19280" y="1341000"/>
            <a:ext cx="5267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Длина тела взрослых зверьков не превышает 90 мм, длина хвоста — 70 мм, вес тела — 30 г. Окраска однотонная, желтовато-рыжая, на груди и животе большие светлые пятна. Хвост густо опушен по всей длине, на конце — слабо развитая кисточка. Глаза темные, выпуклые, хорошо выделяются на рыжем фоне. Приспособление к лазанию по деревьям и кустарникам выражается в практически одинаковой длине четырех пальцев передней конечности и перпендикулярном положении первого пальца задней конечности, который к тому же не имеет когтя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01" name="Picture 4" descr="d43a1e68bd96"/>
          <p:cNvPicPr/>
          <p:nvPr/>
        </p:nvPicPr>
        <p:blipFill>
          <a:blip r:embed="rId1"/>
          <a:stretch/>
        </p:blipFill>
        <p:spPr>
          <a:xfrm>
            <a:off x="250920" y="2133720"/>
            <a:ext cx="35431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Рысь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08000" y="1196640"/>
            <a:ext cx="525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Крупная кошка с длинными сильными ногами. Длина тела 82—105 см, вес 10—15 кг (максимально до 32 кг). Мех густой, пушистый, пепельно-серого, слегка голубоватого, палево-серого или рыжеватого цвета, обычно с размытыми темными пятнами на спине, боках и лапах. Уши короткие, треугольные, заканчиваются черными кисточками. Глаза золотисто-желтые, в темноте отсвечивают зеленым. Широкие лапы с втяжными когтями оставляют четырехпалые округлые отпечатки диаметром до 10 см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04" name="Picture 4" descr="10"/>
          <p:cNvPicPr/>
          <p:nvPr/>
        </p:nvPicPr>
        <p:blipFill>
          <a:blip r:embed="rId1"/>
          <a:stretch/>
        </p:blipFill>
        <p:spPr>
          <a:xfrm>
            <a:off x="250920" y="2708280"/>
            <a:ext cx="354312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f261e"/>
                </a:solidFill>
                <a:latin typeface="Garamond"/>
              </a:rPr>
              <a:t>Птицы</a:t>
            </a:r>
            <a:endParaRPr b="0" lang="en-US" sz="8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07" name="V_mire_jivotnih_-_original.mp3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Чёрный аист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0" y="1341360"/>
            <a:ext cx="38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Крупная птица (размах крыльев более полутора метров). Окраска контрастная: верх черный с зеленоватым отливом, брюхо белое. Клюв, ноги и кольцо вокруг глаз красные. У молодых птиц клюв черный, ноги зеленоватые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10" name="Picture 4" descr="Черный аист"/>
          <p:cNvPicPr/>
          <p:nvPr/>
        </p:nvPicPr>
        <p:blipFill>
          <a:blip r:embed="rId1"/>
          <a:stretch/>
        </p:blipFill>
        <p:spPr>
          <a:xfrm>
            <a:off x="900000" y="2349360"/>
            <a:ext cx="35434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2:55:10Z</dcterms:created>
  <dc:creator>2</dc:creator>
  <dc:description/>
  <cp:keywords/>
  <dc:language>en-US</dc:language>
  <cp:lastModifiedBy>Школа</cp:lastModifiedBy>
  <dcterms:modified xsi:type="dcterms:W3CDTF">2019-12-08T21:00:10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81049</vt:lpwstr>
  </property>
</Properties>
</file>