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11.png" ContentType="image/pn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7797-DCE2-475A-B203-160B8604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7BD8-8727-4431-8AF2-69322C02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B335-86AA-4368-B2BC-67570CD6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EA9F-6635-4442-BC16-A83BE044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5022-71DF-47BD-8A9A-68682EB7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91F7-D902-458A-A7DB-E92543CA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A536-5CD9-4788-9C95-2023B751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3141-7C9A-4C72-A0C6-8945724C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950D-92B7-48D0-8C8F-A8954CC9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796D-63A3-47E3-B810-C7FC4170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AACF-4E2D-4468-9EBA-CA3BA7B8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2E91-75FA-4DCC-9B87-8987D169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5B62-93C9-4C6E-BD2F-3C03D12A3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332000" y="1341360"/>
            <a:ext cx="6985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14 апреля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Классная рабо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1332000" y="620640"/>
            <a:ext cx="6985080" cy="66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Monotype Corsiva"/>
              </a:rPr>
              <a:t>Орфограмм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В переводе с греческого языка означает правильная буква. Это место в слове, где можно допустить ошибк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Rectangle 3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59835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ffb7"/>
            </a:gs>
            <a:gs pos="50000">
              <a:srgbClr val="d1ffff"/>
            </a:gs>
            <a:gs pos="100000">
              <a:srgbClr val="b7ff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сурсы Интерн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http://www.nivagold.ru/raznoe/rasnoe.html - анимация астери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http://bestgif.narod.ru/mult.htm - анимация слайд №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allforchildren.ru/pictures/school.php -  фон школьная до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БУРАТИНО1"/>
          <p:cNvPicPr/>
          <p:nvPr/>
        </p:nvPicPr>
        <p:blipFill>
          <a:blip r:embed="rId2"/>
          <a:stretch/>
        </p:blipFill>
        <p:spPr>
          <a:xfrm>
            <a:off x="-684360" y="2095560"/>
            <a:ext cx="3810240" cy="4762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332000" y="549360"/>
            <a:ext cx="6335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Разминка для у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414440" y="1844640"/>
            <a:ext cx="6315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айдите лишнюю букву и запишит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492360" y="2708280"/>
            <a:ext cx="33847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Л О И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Ж У Н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 Ю О Я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 Ф К Д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 Щ Ц Й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1332000" y="62064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Monotype Corsiva"/>
              </a:rPr>
              <a:t>Орфограмм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Documents and Settings\Баньковская\Рабочий стол\смайлы\f53bad6986ae6ebe12bde05e5be4d8cf.gif"/>
          <p:cNvPicPr/>
          <p:nvPr/>
        </p:nvPicPr>
        <p:blipFill>
          <a:blip r:embed="rId1"/>
          <a:stretch/>
        </p:blipFill>
        <p:spPr>
          <a:xfrm>
            <a:off x="5724360" y="3657600"/>
            <a:ext cx="3095640" cy="29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Запишит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2539800" cy="2303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95280" y="3716280"/>
            <a:ext cx="3979800" cy="2664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419640" y="98100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076720" y="3716280"/>
            <a:ext cx="2737080" cy="2637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372360" y="981000"/>
            <a:ext cx="23097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95400"/>
            <a:ext cx="88898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доска"/>
          <p:cNvPicPr/>
          <p:nvPr/>
        </p:nvPicPr>
        <p:blipFill>
          <a:blip r:embed="rId1"/>
          <a:srcRect l="1465" t="2435" r="2542" b="1642"/>
          <a:stretch/>
        </p:blipFill>
        <p:spPr>
          <a:xfrm>
            <a:off x="0" y="0"/>
            <a:ext cx="9218520" cy="702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asterix21"/>
          <p:cNvPicPr/>
          <p:nvPr/>
        </p:nvPicPr>
        <p:blipFill>
          <a:blip r:embed="rId2"/>
          <a:stretch/>
        </p:blipFill>
        <p:spPr>
          <a:xfrm>
            <a:off x="7350120" y="2276640"/>
            <a:ext cx="1793880" cy="328428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8"/>
          <p:cNvSpPr/>
          <p:nvPr/>
        </p:nvSpPr>
        <p:spPr>
          <a:xfrm>
            <a:off x="4788000" y="692280"/>
            <a:ext cx="3024000" cy="1657080"/>
          </a:xfrm>
          <a:prstGeom prst="wedgeEllipseCallout">
            <a:avLst>
              <a:gd name="adj1" fmla="val 49685"/>
              <a:gd name="adj2" fmla="val 1500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076720" y="836640"/>
            <a:ext cx="2519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читайте слова.                               Проверьте себя:                                       правильно ли вы 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ш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332000" y="1052640"/>
            <a:ext cx="367164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aettenschweiler"/>
              </a:rPr>
              <a:t>снег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aettenschweiler"/>
              <a:ea typeface="Haettenschweil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aettenschweiler"/>
              </a:rPr>
              <a:t>бежит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aettenschweiler"/>
              <a:ea typeface="Haettenschweil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aettenschweiler"/>
              </a:rPr>
              <a:t>воробей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aettenschweiler"/>
              <a:ea typeface="Haettenschweil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aettenschweiler"/>
              </a:rPr>
              <a:t>лежит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aettenschweiler"/>
              <a:ea typeface="Haettenschweil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aettenschweiler"/>
              </a:rPr>
              <a:t>крикливый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aettenschweiler"/>
              <a:ea typeface="Haettenschweil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aettenschweiler"/>
              </a:rPr>
              <a:t>своём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aettenschweiler"/>
              <a:ea typeface="Haettenschweil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aettenschweiler"/>
              </a:rPr>
              <a:t> </a:t>
            </a: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aettenschweiler"/>
              </a:rPr>
              <a:t>гнезде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aettenschweiler"/>
              <a:ea typeface="Haettenschwei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07:34:42Z</dcterms:created>
  <dc:creator>Сергей</dc:creator>
  <dc:description/>
  <dc:language>en-US</dc:language>
  <cp:lastModifiedBy>Sergey</cp:lastModifiedBy>
  <dcterms:modified xsi:type="dcterms:W3CDTF">2014-04-13T21:40:50Z</dcterms:modified>
  <cp:revision>27</cp:revision>
  <dc:subject/>
  <dc:title>Слайд 1</dc:title>
</cp:coreProperties>
</file>