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DB3-1EFE-4188-8A75-097852D1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78A-F260-4DD2-9FE3-BA8319FF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9A9-6EC7-40B6-A670-0E08441A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141-FE40-48DE-923C-EBFC1AA4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5279-B605-4697-9DA6-BB86F276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D66F-D03B-4B0D-91A3-E2178E87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1C97-354E-4EB9-A7FD-871529C3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868C-86C4-4195-8EC7-D93DEC62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7F73-8B16-4B87-BE87-8F71EE12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A95C-04FB-4847-AE5A-5F0A8471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2640-8376-410A-8FD8-4AED6B2B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62F-C466-4BB3-B134-DFB0DEBA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FA3A-847A-4DC0-8ED1-0EAF134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7377-78FA-4383-9FDC-28F29304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06BD-858A-4C40-9222-4C5E25A6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ABD8-AB5F-4BD6-BBD3-2A668859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18D9-5809-4772-BC8B-B837DD7F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753-5381-4A0B-8899-F8107D57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EE7-A5F1-4398-8C1E-3D4AB060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4D7-27D7-435E-BA48-9007C590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D72-666D-465E-A42F-65E3CCAD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958-EF51-4FBF-B671-62587D6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312-5657-407D-A8AE-ADF4670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D48-7422-4B01-BF39-C1F40E48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33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4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CB3B-206D-483D-9FAB-FB4D04AFD0E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cc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cc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cc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cc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7AB2-B838-4EC4-9D9F-C757FAF6E5D8}" type="slidenum">
              <a:rPr b="0" lang="ru-RU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714840" y="1856880"/>
            <a:ext cx="4736880" cy="13366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4">
                <a:alpha val="5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Monotype Corsiva"/>
              </a:rPr>
              <a:t>ПЧЕЛЫ</a:t>
            </a:r>
            <a:r>
              <a:rPr b="1" lang="ru-RU" sz="3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910200" cy="1440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Отряд перепончатокрылые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01" name="Picture 11" descr="C:\Documents and Settings\user\Мои документы\документы\Школьные предметы\Биология\пчелы и муравьи\00015902.jpg"/>
          <p:cNvPicPr/>
          <p:nvPr/>
        </p:nvPicPr>
        <p:blipFill>
          <a:blip r:embed="rId1"/>
          <a:stretch/>
        </p:blipFill>
        <p:spPr>
          <a:xfrm>
            <a:off x="179280" y="3213000"/>
            <a:ext cx="4577040" cy="3121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6215400" y="5229360"/>
            <a:ext cx="289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ыполнила Лапшина О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Лисовская А.А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552120" y="638172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017-2018 уч. год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Памятник пчеле в Москве (Кузьминский парк).jpeg"/>
          <p:cNvPicPr/>
          <p:nvPr/>
        </p:nvPicPr>
        <p:blipFill>
          <a:blip r:embed="rId1"/>
          <a:stretch/>
        </p:blipFill>
        <p:spPr>
          <a:xfrm>
            <a:off x="0" y="596880"/>
            <a:ext cx="4498920" cy="27496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0" y="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мятник пчеле в Москве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40" name="Рисунок 3" descr="Памятник пчеле в Уфе.jpeg"/>
          <p:cNvPicPr/>
          <p:nvPr/>
        </p:nvPicPr>
        <p:blipFill>
          <a:blip r:embed="rId2"/>
          <a:stretch/>
        </p:blipFill>
        <p:spPr>
          <a:xfrm>
            <a:off x="4095720" y="3713040"/>
            <a:ext cx="4048200" cy="3035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4929120" y="30718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мятник пчеле в Уфе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390080" cy="7855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99"/>
                </a:solidFill>
                <a:latin typeface="Tahoma"/>
              </a:rPr>
              <a:t>Пчелы- общественные насекомые</a:t>
            </a:r>
            <a:endParaRPr b="0" lang="en-US" sz="45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2251080"/>
            <a:ext cx="8116920" cy="15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челиная семья включает до 80 тыс. пчел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Большинство членов этой семьи – рабочие пчелы (бесплодные самки)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 семье пчел есть одна самка, способная откладывать яйца до 2-3 тыс. яиц,- это матка. Летом в семье появляются несколько сотен самцов - трутней. Они не могут добывать пищу самостоятельно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Зимуют в улье, тесно сбившись в клубок и поддерживают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=+15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°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06" name="Рисунок 4" descr="члены семьи пчелы.jpg"/>
          <p:cNvPicPr/>
          <p:nvPr/>
        </p:nvPicPr>
        <p:blipFill>
          <a:blip r:embed="rId1"/>
          <a:stretch/>
        </p:blipFill>
        <p:spPr>
          <a:xfrm>
            <a:off x="1258920" y="4221000"/>
            <a:ext cx="6072120" cy="227988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4" descr="5241.jpg"/>
          <p:cNvPicPr/>
          <p:nvPr/>
        </p:nvPicPr>
        <p:blipFill>
          <a:blip r:embed="rId2"/>
          <a:stretch/>
        </p:blipFill>
        <p:spPr>
          <a:xfrm>
            <a:off x="-480960" y="-195120"/>
            <a:ext cx="2041560" cy="18907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4" descr="abeille2.1174577869.jpg"/>
          <p:cNvPicPr/>
          <p:nvPr/>
        </p:nvPicPr>
        <p:blipFill>
          <a:blip r:embed="rId3"/>
          <a:stretch/>
        </p:blipFill>
        <p:spPr>
          <a:xfrm>
            <a:off x="7162920" y="878040"/>
            <a:ext cx="2109600" cy="16761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5" descr="0_11f91_b14ab1b6_XL.jpeg"/>
          <p:cNvPicPr/>
          <p:nvPr/>
        </p:nvPicPr>
        <p:blipFill>
          <a:blip r:embed="rId4"/>
          <a:stretch/>
        </p:blipFill>
        <p:spPr>
          <a:xfrm>
            <a:off x="7162920" y="5376960"/>
            <a:ext cx="2377800" cy="1888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480360" cy="1008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Соты пчел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3640" y="2222640"/>
            <a:ext cx="51116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lnSpc>
                <a:spcPct val="80000"/>
              </a:lnSpc>
              <a:spcBef>
                <a:spcPts val="499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Высокий обмен веществ, обеспечивает запас меда веществ, который пчеловод оставляет на зиму пчелиной семье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80240" indent="-480240">
              <a:lnSpc>
                <a:spcPct val="80000"/>
              </a:lnSpc>
              <a:spcBef>
                <a:spcPts val="499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80240" indent="-480240">
              <a:lnSpc>
                <a:spcPct val="80000"/>
              </a:lnSpc>
              <a:spcBef>
                <a:spcPts val="499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Рабочие пчелы строят из воска соты, в которых содержат личинок. На 1кг воска требуется до 10 кг меда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80240" indent="-480240">
              <a:lnSpc>
                <a:spcPct val="80000"/>
              </a:lnSpc>
              <a:spcBef>
                <a:spcPts val="499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80240" indent="-480240">
              <a:lnSpc>
                <a:spcPct val="80000"/>
              </a:lnSpc>
              <a:spcBef>
                <a:spcPts val="499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Соты –удивительное инженерное сооружение, состоящее из шестигранных ячеек, расположенных двумя слоями, с входами, обращенными в противоположные стороны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12" name="Рисунок 3" descr="bee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929280" y="1357200"/>
            <a:ext cx="1857600" cy="2562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C:\Documents and Settings\user\Мои документы\документы\Школьные предметы\Биология\пчелы и муравьи\00015901.jpg"/>
          <p:cNvPicPr/>
          <p:nvPr/>
        </p:nvPicPr>
        <p:blipFill>
          <a:blip r:embed="rId2"/>
          <a:stretch/>
        </p:blipFill>
        <p:spPr>
          <a:xfrm>
            <a:off x="5261040" y="4143240"/>
            <a:ext cx="3627360" cy="2454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Жизнедеятельность пчел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8920" y="2060640"/>
            <a:ext cx="61786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 algn="just">
              <a:lnSpc>
                <a:spcPct val="80000"/>
              </a:lnSpc>
              <a:spcBef>
                <a:spcPts val="451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Матка развивается за 16 суток, рабочая пчела -20, а трутни - за 24 дня после яйцекладки. Развитие идет с превращением.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480240" indent="-480240">
              <a:lnSpc>
                <a:spcPct val="80000"/>
              </a:lnSpc>
              <a:spcBef>
                <a:spcPts val="451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480240" indent="-480240" algn="just">
              <a:lnSpc>
                <a:spcPct val="80000"/>
              </a:lnSpc>
              <a:spcBef>
                <a:spcPts val="451"/>
              </a:spcBef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С возрастом рабочая пчела меняет свою про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фессию: она поочередно выполняет функции уборщицы, кормилицы старших личинок, кормил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цы матки и молодых личинок, приемщицы корма, чистильщицы других пчел, строительницы сот, сторожа, сборщицы нектара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2643120" y="4572000"/>
            <a:ext cx="62866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80000"/>
              </a:lnSpc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Arial"/>
              </a:rPr>
              <a:t>Деятельность пчел является врожденной или инстинктивной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495360" indent="-495360">
              <a:lnSpc>
                <a:spcPct val="80000"/>
              </a:lnSpc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495360" indent="-495360" algn="just">
              <a:lnSpc>
                <a:spcPct val="80000"/>
              </a:lnSpc>
              <a:buClr>
                <a:srgbClr val="00009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Arial"/>
              </a:rPr>
              <a:t>Информацию о месте нахождения источника нек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Arial"/>
              </a:rPr>
              <a:t>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Arial"/>
              </a:rPr>
              <a:t>тара пчелы передают с помощью танца, в котором каждое движение имеет свой смысл. Кроме танца, пчелы распознают запах цветков, с которых были собраны пыльца и нектар. Из всех пчел у медоно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Arial"/>
              </a:rPr>
              <a:t>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Arial"/>
              </a:rPr>
              <a:t>ной наиболее сложное поведение.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17" name="Picture 7" descr="C:\Documents and Settings\user\Мои документы\документы\Школьные предметы\Биология\пчелы и муравьи\00015894.jpg"/>
          <p:cNvPicPr/>
          <p:nvPr/>
        </p:nvPicPr>
        <p:blipFill>
          <a:blip r:embed="rId1"/>
          <a:stretch/>
        </p:blipFill>
        <p:spPr>
          <a:xfrm>
            <a:off x="214200" y="4643280"/>
            <a:ext cx="2428920" cy="1919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:\Documents and Settings\user\Мои документы\документы\Школьные предметы\Биология\пчелы и муравьи\00015871.jpg"/>
          <p:cNvPicPr/>
          <p:nvPr/>
        </p:nvPicPr>
        <p:blipFill>
          <a:blip r:embed="rId2"/>
          <a:stretch/>
        </p:blipFill>
        <p:spPr>
          <a:xfrm>
            <a:off x="6429240" y="2000160"/>
            <a:ext cx="2556000" cy="217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023240" cy="1270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99"/>
                </a:solidFill>
                <a:latin typeface="Tahoma"/>
              </a:rPr>
              <a:t>Внешнее строение </a:t>
            </a:r>
            <a:br>
              <a:rPr sz="4300"/>
            </a:br>
            <a:r>
              <a:rPr b="1" lang="ru-RU" sz="4300" spc="-1" strike="noStrike">
                <a:solidFill>
                  <a:srgbClr val="ffff99"/>
                </a:solidFill>
                <a:latin typeface="Tahoma"/>
              </a:rPr>
              <a:t>рабочей пчелы</a:t>
            </a:r>
            <a:endParaRPr b="0" lang="en-US" sz="43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20" name="Рисунок 5" descr="строение пчелы.jpg"/>
          <p:cNvPicPr/>
          <p:nvPr/>
        </p:nvPicPr>
        <p:blipFill>
          <a:blip r:embed="rId1"/>
          <a:stretch/>
        </p:blipFill>
        <p:spPr>
          <a:xfrm>
            <a:off x="1332000" y="1989000"/>
            <a:ext cx="5976720" cy="4604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Значение пчел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5840" y="2204640"/>
            <a:ext cx="49291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Польза пчел велика и многообразна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«Пчелиное молочко»-апилак, перга, пчелиный яд, прополис используют в медицине для лечения ряда заболеваний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Пчелы играют важную роль в опылении многих растений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Урожай гречихи повышается на 41%,подсолнечника – на 40%, клевера – на 75%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3" name="Picture 8" descr="C:\Documents and Settings\user\Мои документы\документы\Школьные предметы\Биология\пчелы и муравьи\00015899.jpg"/>
          <p:cNvPicPr/>
          <p:nvPr/>
        </p:nvPicPr>
        <p:blipFill>
          <a:blip r:embed="rId8"/>
          <a:stretch/>
        </p:blipFill>
        <p:spPr>
          <a:xfrm>
            <a:off x="5715000" y="4361040"/>
            <a:ext cx="3214800" cy="2170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Colletes daviesanus.jpg"/>
          <p:cNvPicPr/>
          <p:nvPr/>
        </p:nvPicPr>
        <p:blipFill>
          <a:blip r:embed="rId9"/>
          <a:stretch/>
        </p:blipFill>
        <p:spPr>
          <a:xfrm>
            <a:off x="6215040" y="1928880"/>
            <a:ext cx="2649600" cy="22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157800" cy="1462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Значение мед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11280" y="2060640"/>
            <a:ext cx="475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Пчелы дают питательный и целебный мед, а также воск, идущий на различные технические цели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Мед – это долголетие. Применяется при лечении заболеваний кроветворных органов, сердечно-сосудистой системы, кожных заболеваний, при простудах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Мед обогащает организм человека витаминами, белками, углеводами, ферментами, повышает его тонус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7" name="Рисунок 3" descr="honey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64000" y="1916280"/>
            <a:ext cx="3453120" cy="4524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357200" y="1000080"/>
            <a:ext cx="5715000" cy="764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Пчеловодство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357280" y="2214720"/>
            <a:ext cx="450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Arial"/>
              </a:rPr>
              <a:t>Пчела медоносная - это одомашненное насекомое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Arial"/>
              </a:rPr>
              <a:t>В нашей стране много внимания уделяется развитию пчеловодства – отрасли народного хозяйства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Arial"/>
              </a:rPr>
              <a:t>Устраиваются пасеки – особые места, где выставляются ульи с медоносными пчелами.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Arial"/>
              </a:rPr>
              <a:t>По производству меда наша страна всегда занимала первое место в мире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30" name="Рисунок 3" descr="15.jpg"/>
          <p:cNvPicPr/>
          <p:nvPr/>
        </p:nvPicPr>
        <p:blipFill>
          <a:blip r:embed="rId1"/>
          <a:stretch/>
        </p:blipFill>
        <p:spPr>
          <a:xfrm>
            <a:off x="142920" y="2286000"/>
            <a:ext cx="2138400" cy="13842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DSCF0800_1.jpg"/>
          <p:cNvPicPr/>
          <p:nvPr/>
        </p:nvPicPr>
        <p:blipFill>
          <a:blip r:embed="rId2"/>
          <a:stretch/>
        </p:blipFill>
        <p:spPr>
          <a:xfrm>
            <a:off x="214200" y="4000680"/>
            <a:ext cx="1968480" cy="26031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DSCF0899_1.jpg"/>
          <p:cNvPicPr/>
          <p:nvPr/>
        </p:nvPicPr>
        <p:blipFill>
          <a:blip r:embed="rId3"/>
          <a:stretch/>
        </p:blipFill>
        <p:spPr>
          <a:xfrm>
            <a:off x="7000920" y="5214960"/>
            <a:ext cx="196848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vesna_5+.jpg"/>
          <p:cNvPicPr/>
          <p:nvPr/>
        </p:nvPicPr>
        <p:blipFill>
          <a:blip r:embed="rId4"/>
          <a:stretch/>
        </p:blipFill>
        <p:spPr>
          <a:xfrm>
            <a:off x="7000920" y="3571920"/>
            <a:ext cx="1942920" cy="14508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3.jpg"/>
          <p:cNvPicPr/>
          <p:nvPr/>
        </p:nvPicPr>
        <p:blipFill>
          <a:blip r:embed="rId5"/>
          <a:stretch/>
        </p:blipFill>
        <p:spPr>
          <a:xfrm>
            <a:off x="7000920" y="2143080"/>
            <a:ext cx="1928880" cy="124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Рекомендаци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2020680"/>
            <a:ext cx="86040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Tahoma"/>
              </a:rPr>
              <a:t>Если вас ужалили пчела или оса, запомните следующие правила: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ынуть жало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Смазать место укуса спиртом, приложить подорожник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Если поднимется температура, появится отек – надо обратиться к врачу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Необходимо соблюдать меры предосторожности: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) не ходить босиком там, где рядом находятся цветущие растения;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б) на даче, в походе есть бутерброды с мясом осторожно, чтобы пчела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не ужалила слизистую оболочку рта;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) воду лучше пить через соломинку или из стаканчика, чтобы видеть, нет ли там насекомого;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г)  осы и пчелы не очень любят красный и синий цвет, пугаются, когда машут руками;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д) есть люди, у которых от одного укуса может наступить аллергический шок, а затем и смерть, если им не оказать необходимую врачебную помощь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531360" indent="-531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37" name="Picture 6" descr="FIRSTAID"/>
          <p:cNvPicPr/>
          <p:nvPr/>
        </p:nvPicPr>
        <p:blipFill>
          <a:blip r:embed="rId1"/>
          <a:stretch/>
        </p:blipFill>
        <p:spPr>
          <a:xfrm>
            <a:off x="7451640" y="189000"/>
            <a:ext cx="1357560" cy="183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6:32:14Z</dcterms:created>
  <dc:creator>Пользователь</dc:creator>
  <dc:description/>
  <dc:language>en-US</dc:language>
  <cp:lastModifiedBy>Школа</cp:lastModifiedBy>
  <dcterms:modified xsi:type="dcterms:W3CDTF">2019-12-09T14:42:29Z</dcterms:modified>
  <cp:revision>27</cp:revision>
  <dc:subject/>
  <dc:title>Слайд 1</dc:title>
</cp:coreProperties>
</file>