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0AE-1696-48B9-A4E6-4BE4B9A4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2D5-37B6-49EA-9E3D-FE953BB2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FA7-BA19-4305-A24B-39898CCA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069-D4DD-4A37-8B73-D59C761F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EDD9-701F-4E16-85CF-95113274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6ED3-6F9F-4F83-9576-50EA1540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066C-3178-45A1-9146-F7A4B2B1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0B1F-1AEF-47AF-964F-FCEC4465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EC6D-16D9-4394-B178-B644E9CB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5D02-754E-48E9-8448-A9D1F670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D71D-95C9-47C8-8316-00683590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14A-E7CF-4DC6-AC98-91179A85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A421-7D25-4BCF-A10A-2EE3C166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863E-334F-4A48-90D5-C13CCB68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CCB1-5121-4E3C-801F-99AD5380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CB1D-92FD-4E5D-8223-2DF276B3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B07E-984D-41E7-A340-AFBAC8B9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2CCFA-CC73-4796-A355-7423F0E7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6994-D1FD-4B24-AA35-95F6882B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9AB0-D6B8-4D04-A970-4F6330D0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8A16-AF96-480B-B5FC-38EE965A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F1C0-D5F7-474A-A894-592CAE90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EBA-78A2-4B65-9EFD-2B43D206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3BD1-2732-4E19-B638-FDD2CA0B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E206D-9029-489F-9479-6555C2AA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78B0-7295-4FF2-8284-064562B4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3361-EAC7-4215-81DC-C7151FA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44E6E-3C1C-4081-AB79-281DE754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990E-037C-416B-8543-83063841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1384D-259D-481E-88C5-A16BA3D8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C287-565E-4849-833A-07B5E2D8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0EFD-F451-424B-B406-1C5354DE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4A3B-C191-4162-A08D-C7BE304E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3A3-A72F-429E-80BC-31F8A106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30F58-483A-40AA-AA41-EF1C53D8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83350-5C16-47B1-ABD0-5A8A53F5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D19F-A072-4369-88FE-E7E65581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97491-692A-4BFC-A67A-B181936E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6832-9945-4D2E-891F-35E7BACE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EB06-2FE4-44B2-BC3A-25548680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4A04A-AEAB-4CA6-ACA7-B9282712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F62F4-961D-4DC5-8651-8903B9FA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944D-95F7-4B9B-82C0-E11D2541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05229-F43F-4A9B-9388-F2349054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E94-8ADE-4322-8656-78F1F930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03E13-EE3D-44C7-89E7-041B5782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15788-EFFB-4BEC-8350-75D7AD9A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69295-BD58-42A8-8785-EB936432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B6E98-F931-491A-A9A8-4E5874B9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02C69-4247-4DD8-B8C3-CD8ECFCC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114B-54FE-44AC-A8E1-F7F64D69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C4CA8-24A2-4354-AAF3-6229DBD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A09A4-F8E9-43B8-BCAF-A87C749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DD18C-9EF2-49F5-82C2-679DEAF8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3F357-1D37-4F37-BCE3-83597C49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264-76E9-4457-A09F-FF03AF8A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EF5E2-9207-42D3-B1D6-F037C04E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F48B5-32C3-4CB3-A11D-D46E1970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58BBE-04E5-4CEC-B875-E8D5EC9D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8CF2E-534E-487F-8051-90E79C8E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AA5C4-4667-4A5D-8104-89ABE02A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515CF-0E68-4542-89E6-4A584DA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9727-BD38-4AA6-A6EF-8874547D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253DA-8E68-4E04-9247-783965B2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481F8-051F-48CA-8615-76D32677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84B10-667D-4B53-A538-B4DA8F5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1AD-904E-4435-93E1-33174B65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B5F9-D95A-4EE1-AC95-376EE3AA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097DC-23CD-4EAB-BD26-B7B99DA6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A9F37-225A-4433-A6DE-B8553A31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36DFF-5CC8-4092-9D67-7C616CB8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054C4-44FA-4F56-B4D7-D640C097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0C7AD-E15A-41C8-98D0-D1A31866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DB261-6C52-433E-9277-F43E0908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527D4-760A-42F1-8AB1-F3F079F1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B3B0-30C8-4E3E-ACD6-2192410C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E0683-D477-445E-BA5F-51BC2163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827-85DB-440D-9573-464D03B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2A8C4-46D9-40A8-9258-AB26EA20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869E2-322F-452C-BDD7-B3105D50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676BD-106F-4271-9A55-3CCF009D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F881B-1527-4F10-BE54-DF196B31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3708-491D-4D34-9429-3BB78939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8FCE8-2B54-47B6-9757-886C4B10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DC02B-1EDF-4B60-8FAF-9B27A426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010C5-CC1C-4F86-A742-4AD3BAE4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01BFC-1F3E-4E68-AD0F-DA58CAA4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E9C98-C192-4CBB-BD08-793A281C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0A9-7186-4B67-B0D3-CBEE929E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F2D76-E364-43BD-B1AC-72036C3F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200CC-5E53-47C9-B59D-49C5F63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AE364-EA17-43F9-A805-E852A52D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AE318-7A37-47A0-A62D-52736573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4B7FD-6B89-4DDD-BB8B-51E9B727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B48AB-0B04-462F-A6D1-F688CCE0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C9E38-BCC4-49BC-A9CE-D7340DC8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B9D6-2689-4DA4-8350-03E4DFDEDF7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80D5-B1E3-44BD-AAD3-A93C8DE380B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6D9A-6CF4-4729-A524-992C0ED05335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9AB5-0692-4F17-9015-48F2222F9E0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125F-9ACE-47B9-B205-14EC39334F4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8FCA-E3DF-4CE0-B1A4-B88F7DE1E24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F1CA-2E22-4183-BBA8-0C6748BC3FEF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543C-BDF3-48B0-BFC8-879E3E58281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7280" y="184464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Памятники Няндомы</a:t>
            </a:r>
            <a:endParaRPr b="0" lang="en-US" sz="9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429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Обелиск - захоронение на городском кладбище - это братская могила воинов, умерших от ран в эвакогоспиталях. В городе Няндома в годы войны было два эвакогоспиталя: №2515 и№2516. (221 погибший, 41 – наши земляки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Открыт в апреле 1996 году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64653"/>
                </a:solidFill>
                <a:latin typeface="Cambria"/>
              </a:rPr>
              <a:t>Вечная память воинам Советской Армии, умерших от ран в период Великой Отечественной войны 1941-1945гг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6" name="Рисунок 19" descr="http://memory-map.prosv.ru/memorials/00/02/09/3/l/5332.jpeg"/>
          <p:cNvPicPr/>
          <p:nvPr/>
        </p:nvPicPr>
        <p:blipFill>
          <a:blip r:embed="rId1"/>
          <a:stretch/>
        </p:blipFill>
        <p:spPr>
          <a:xfrm>
            <a:off x="2700360" y="1989000"/>
            <a:ext cx="28908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На улице Промартельной (Уксусный) в 1976 году открыт мемориал погибшим землякам. Автор обелиска художник В.П. Карпов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8" name="Рисунок 10" descr="http://memory-map.prosv.ru/memorials/00/02/09/6/l/4829.jpeg"/>
          <p:cNvPicPr/>
          <p:nvPr/>
        </p:nvPicPr>
        <p:blipFill>
          <a:blip r:embed="rId1"/>
          <a:stretch/>
        </p:blipFill>
        <p:spPr>
          <a:xfrm>
            <a:off x="2556000" y="1844640"/>
            <a:ext cx="32382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одвиг твой в сердцах народ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0" name="Содержимое 3" descr="7pamyatnik-vov.jpg"/>
          <p:cNvPicPr/>
          <p:nvPr/>
        </p:nvPicPr>
        <p:blipFill>
          <a:blip r:embed="rId1"/>
          <a:stretch/>
        </p:blipFill>
        <p:spPr>
          <a:xfrm>
            <a:off x="684360" y="1413000"/>
            <a:ext cx="78008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45813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53"/>
                </a:solidFill>
                <a:latin typeface="Cambria"/>
              </a:rPr>
              <a:t>Обелиск сооружен в память  о няндомцах, погибших при защите Родины в годы войны в ноябре 1977 года </a:t>
            </a: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(ул.Урицкого, площадь Памяти)</a:t>
            </a:r>
            <a:br>
              <a:rPr sz="4800"/>
            </a:b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Автор – Максимовский А.А.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В 2007 году на территории депо появляется памятник работникам локомотивного депо, не вернувшихся с войны (ул.Партизанская).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3" name="Рисунок 13" descr="http://memory-map.prosv.ru/memorials/00/02/10/4/l/4852.jpeg"/>
          <p:cNvPicPr/>
          <p:nvPr/>
        </p:nvPicPr>
        <p:blipFill>
          <a:blip r:embed="rId1"/>
          <a:stretch/>
        </p:blipFill>
        <p:spPr>
          <a:xfrm>
            <a:off x="2556000" y="2565360"/>
            <a:ext cx="33271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920" y="3933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Аллея берез, аллея берез. Не могу на неё я смотреть без слёз. За мир бойцы боролись, как могли. В своих сердцах мы память сберегли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В 2009 году у здания ЦКС был установлен камень с памятной плитой в память о жителях города, погибших в Великую отечественную войну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8000" y="228600"/>
            <a:ext cx="892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Аллея памяти, где были высажены берёзки и установлена  мемориальная   доска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6" name="Рисунок 16" descr="http://memory-map.prosv.ru/memorials/00/02/10/5/l/4853.jpeg"/>
          <p:cNvPicPr/>
          <p:nvPr/>
        </p:nvPicPr>
        <p:blipFill>
          <a:blip r:embed="rId1"/>
          <a:stretch/>
        </p:blipFill>
        <p:spPr>
          <a:xfrm>
            <a:off x="2195640" y="1268280"/>
            <a:ext cx="4047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20:11:39Z</dcterms:created>
  <dc:creator>User</dc:creator>
  <dc:description/>
  <dc:language>en-US</dc:language>
  <cp:lastModifiedBy>User</cp:lastModifiedBy>
  <dcterms:modified xsi:type="dcterms:W3CDTF">2007-07-19T21:15:29Z</dcterms:modified>
  <cp:revision>7</cp:revision>
  <dc:subject/>
  <dc:title>Памятники Няндомы</dc:title>
</cp:coreProperties>
</file>