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B13-C41C-4CAA-8426-2CB0CB5A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A0F-E6B0-4F41-802C-78D2D182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255-77BD-4E8F-B5F1-7D6CC24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55F-29CD-4B4A-B1E9-406308CF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FC4-90ED-4AC4-A7CC-15333F8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619-4428-42F4-936A-E7C7DA2F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502-B4C3-49A0-A760-AE1447C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A75-35BE-45CF-90EF-E9E76F6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9C7-5A26-4F59-A4F3-E9D96C1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678-059C-44A8-BF18-6312B2F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F0E-B3C9-473B-B669-FE13E3B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626-3121-4072-BFBB-5DCBE1F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C2E0-F681-4D26-B26C-AA3CE35E2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colorful-wood-easter-paskha-happy-iaitsa-krashenye-spring-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31640" y="5013000"/>
            <a:ext cx="57200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или: ученики 4-б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ванов Сергей и Иванов Влади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kartinki24_ru_easter_46.jpg"/>
          <p:cNvPicPr/>
          <p:nvPr/>
        </p:nvPicPr>
        <p:blipFill>
          <a:blip r:embed="rId2"/>
          <a:stretch/>
        </p:blipFill>
        <p:spPr>
          <a:xfrm>
            <a:off x="1187280" y="90792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900000" y="620640"/>
            <a:ext cx="7417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асх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главный христианский праз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этот день верующие отме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кресение из мёртвых Иисуса Христа. Праздник Пасхи - прославляет победу добра над з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и над смертью, света над ть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47640" y="2997360"/>
            <a:ext cx="57056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640440" y="626760"/>
            <a:ext cx="8091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неделю до Пасхи в  воскресенье празднуется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ербное воскресе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Вербное восересенье (22).jpg"/>
          <p:cNvPicPr/>
          <p:nvPr/>
        </p:nvPicPr>
        <p:blipFill>
          <a:blip r:embed="rId2"/>
          <a:stretch/>
        </p:blipFill>
        <p:spPr>
          <a:xfrm>
            <a:off x="4176720" y="3573360"/>
            <a:ext cx="4075200" cy="264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verby1-1024x683.jpg"/>
          <p:cNvPicPr/>
          <p:nvPr/>
        </p:nvPicPr>
        <p:blipFill>
          <a:blip r:embed="rId3"/>
          <a:stretch/>
        </p:blipFill>
        <p:spPr>
          <a:xfrm>
            <a:off x="826920" y="1700280"/>
            <a:ext cx="424980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539640" y="710280"/>
            <a:ext cx="817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вященную в этот день вербу хран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течение целого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читается, что освященная верба приобрет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десную силу, которой можно прогнать нечистых ду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22248206.jpg"/>
          <p:cNvPicPr/>
          <p:nvPr/>
        </p:nvPicPr>
        <p:blipFill>
          <a:blip r:embed="rId2"/>
          <a:stretch/>
        </p:blipFill>
        <p:spPr>
          <a:xfrm>
            <a:off x="2195640" y="1628640"/>
            <a:ext cx="502740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611280" y="620640"/>
            <a:ext cx="792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асх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люди приходят в церковь и святят куличи. Проходит торжественное Богосл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RH4B0091-копия-1.jpg"/>
          <p:cNvPicPr/>
          <p:nvPr/>
        </p:nvPicPr>
        <p:blipFill>
          <a:blip r:embed="rId2"/>
          <a:stretch/>
        </p:blipFill>
        <p:spPr>
          <a:xfrm>
            <a:off x="1763640" y="1916280"/>
            <a:ext cx="563400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611280" y="62064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службы все выходят из церкви и священник брызгает всех свят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3027601_900.jpg"/>
          <p:cNvPicPr/>
          <p:nvPr/>
        </p:nvPicPr>
        <p:blipFill>
          <a:blip r:embed="rId2"/>
          <a:stretch/>
        </p:blipFill>
        <p:spPr>
          <a:xfrm>
            <a:off x="755640" y="3141720"/>
            <a:ext cx="4973760" cy="3122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RH4B7693-копия-1500x1000.jpg"/>
          <p:cNvPicPr/>
          <p:nvPr/>
        </p:nvPicPr>
        <p:blipFill>
          <a:blip r:embed="rId3"/>
          <a:stretch/>
        </p:blipFill>
        <p:spPr>
          <a:xfrm>
            <a:off x="4284720" y="1628640"/>
            <a:ext cx="38876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971640" y="5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дя домой, после службы, устра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схальный п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248206-svetik.jpg"/>
          <p:cNvPicPr/>
          <p:nvPr/>
        </p:nvPicPr>
        <p:blipFill>
          <a:blip r:embed="rId2"/>
          <a:stretch/>
        </p:blipFill>
        <p:spPr>
          <a:xfrm>
            <a:off x="1403280" y="1413000"/>
            <a:ext cx="644040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900000" y="692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Пасхе разрисовывают и красят яйц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чистый четверг пекут кули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pashalnye-kulichi-na-pashu-2019_29.jpg"/>
          <p:cNvPicPr/>
          <p:nvPr/>
        </p:nvPicPr>
        <p:blipFill>
          <a:blip r:embed="rId2"/>
          <a:stretch/>
        </p:blipFill>
        <p:spPr>
          <a:xfrm>
            <a:off x="1403280" y="1700280"/>
            <a:ext cx="625788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861941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826920" y="549360"/>
            <a:ext cx="749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ой пасхальной игрой является "чокание" яйцами друг с дру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до ударить тупым или острым концом крашеного яйца яйцо соперника. Выигрывает тот, чьё яйцо не трес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mslkids_spr04_egg_game_hd.jpg"/>
          <p:cNvPicPr/>
          <p:nvPr/>
        </p:nvPicPr>
        <p:blipFill>
          <a:blip r:embed="rId2"/>
          <a:stretch/>
        </p:blipFill>
        <p:spPr>
          <a:xfrm>
            <a:off x="2124000" y="1413000"/>
            <a:ext cx="4878360" cy="32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03:44:30Z</dcterms:created>
  <dc:creator>Оксана</dc:creator>
  <dc:description/>
  <dc:language>en-US</dc:language>
  <cp:lastModifiedBy>1</cp:lastModifiedBy>
  <dcterms:modified xsi:type="dcterms:W3CDTF">2019-12-09T13:57:01Z</dcterms:modified>
  <cp:revision>15</cp:revision>
  <dc:subject/>
  <dc:title>ПАСХА</dc:title>
</cp:coreProperties>
</file>