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AAB-0D52-4C5B-8BA3-38227CDC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364-E6C1-4408-ACCA-A9E03272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26E-DCF0-4DE1-A16A-1FD08370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90F-F269-40E3-94CA-1716F3E7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B82-DE2A-467E-8895-6B788FC4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B3DB-DCE9-4342-8002-4E181AF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18B-8B66-4E69-8F36-47B51847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47B-BD42-483E-8B35-87599AB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5765-A2C9-4F4D-8216-9BBEE375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7E7-D230-4D8D-BB73-715ED95F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5431-B4ED-4654-A64A-2B1C4F6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379-403F-42F6-A4BE-72154D3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085C-A77B-4D2D-9018-21ECBD0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ACF-F2C7-4CF5-A517-9EF21B6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81DB-0292-402E-82B5-668D6982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9BDB-05EA-492C-AA93-65F9A422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0155-1C3E-4354-BB28-BE596F5E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1DB7-E82C-48FF-A599-1477AA13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9F15-07FB-43D3-AE93-769D2834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D7CA-D158-4831-9791-9DB9114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772D-5AC5-4E6B-859F-5C565A0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C03D-FC49-4652-9C37-7FEA5B1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E60-71C1-48E6-80E0-631EA17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DB43-62FE-4410-A5F1-B23E882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0E34-A968-413F-ABF2-922482D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2BCC-0A3D-4C8A-A13B-871B1D4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4B21-5A1E-43F3-BE1E-A500DF8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E1DB-63F9-41C9-AA92-81F9B405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9D9C-8A03-4B9B-B113-88A2E2FA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BB48-7D64-4085-A5BC-A26BBB7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843E-6438-4126-B3B9-24240CEB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CCE4-5E41-460B-81A8-880C984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EE55-9DE5-44D3-BB00-E603A0AC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FA0-C655-473A-8E60-723EBCC0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ADBF-C6BE-402A-B85F-A8C759B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90AA-8EEE-437C-976C-EA09DA4F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2294-6314-4202-A532-68F9A471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6E3C-AE34-42F5-A15E-E3B51D2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F749-BCDF-49F9-81CE-6294B2E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79DA-6C93-4DB2-9E44-BB3EAE10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108D-EE34-42D3-BD4C-64CBBA7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2613-A0FC-4059-B221-19B89DBC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342E-5995-402B-B735-8D26E0B8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832E-5A05-487A-82C6-77E64B46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5EA-DB9C-408E-9CC6-ACFCE562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2ECE4-23C5-4868-AC32-7B70AC23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AE59-0A37-48B5-B5B1-308C27B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0A655-8FF5-4736-80C2-C027DAC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1994D-D96F-46D1-95E4-752AA2C2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F55B-7E01-476B-AC17-5DFE1979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816F-3637-46CB-85D9-25B5E5D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F921-7980-439F-9132-C5ABDFC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3348-1DD8-47F8-8643-AECDB9BB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6FA2-03F4-4E4B-B546-2A96572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0004-42E6-44D2-BF36-16EC4632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74B-84C1-4B6E-8B49-2B429E5D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21D1-D264-413D-88C8-96540AC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F19A-1F4F-4A74-9276-FF878425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5441-8F0D-4F88-A81B-C95C371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1EC7-50E6-42E2-9FC5-729B5B3B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835DB-7275-4F84-AD95-52E2EE1A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D62F-3F15-4EC0-AF1E-179D4B3C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370C-31D5-4A8D-831C-8999F8A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7CEFD-0EA7-41B4-B4E2-726A187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CF29-1A50-4F9C-8431-221E58A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D5B6-F41D-4001-94FC-E704AE0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47C-89AF-4E8A-BAEB-51304AA3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1EFC3-89B6-40D8-B6C2-D7E4852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A084-52A5-4C73-8DF5-E7463597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3C88-B548-4B26-A5A7-7620A1FF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40D1-4701-4930-A52F-2B266CE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C85D-0386-4CDE-B14D-9C81BD1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A418-F69A-492A-AC40-C689A35D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4B16-7948-41D6-A633-49912D0A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FD7F-6BBB-4A58-B217-AC7B1EE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A1AE2-E76D-491F-815B-C16FF64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7756-2596-4061-BDAD-6FD5C4E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E63-DA16-4F76-9F27-D746F7F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ADB2-6F63-4354-B5BC-FBA3AA3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C2EC-A7DF-4BEC-8EDE-53841971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9D5C-5AFE-4775-9E4A-D53BAC8E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88B6-E4F7-42DF-9856-7A4C85CE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C290-6F23-40C2-8ABA-22010505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244-4E59-4421-A051-3EB3453B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6581-8946-4612-8865-DA9EAFA21E0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5197-E378-467B-8320-E2CCF232D28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D4A9-C00F-4ECA-9240-CB462B9A2DD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29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1AEB-6E2F-4194-A701-9277D0CF48D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74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2D5-B2F9-4332-8DC5-B24DF325ED7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F41F-83ED-43B9-B6E6-E0EC2254FC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757C-6BFB-4AA6-B472-DCEB9BD907E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Урок математики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 3 классе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45f07"/>
                </a:solidFill>
                <a:latin typeface="Verdana"/>
              </a:rPr>
              <a:t>Измерение времен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45f07"/>
                </a:solidFill>
                <a:latin typeface="Verdana"/>
              </a:rPr>
              <a:t>Горшкова Н.П., учитель начальных класс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4286160" cy="343224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3" descr="images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3432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338" name="Содержимое 3" descr="images.jpg"/>
          <p:cNvPicPr/>
          <p:nvPr/>
        </p:nvPicPr>
        <p:blipFill>
          <a:blip r:embed="rId3"/>
          <a:stretch/>
        </p:blipFill>
        <p:spPr>
          <a:xfrm>
            <a:off x="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images.jpg"/>
          <p:cNvPicPr/>
          <p:nvPr/>
        </p:nvPicPr>
        <p:blipFill>
          <a:blip r:embed="rId4"/>
          <a:stretch/>
        </p:blipFill>
        <p:spPr>
          <a:xfrm>
            <a:off x="4857840" y="3571920"/>
            <a:ext cx="4286160" cy="3286080"/>
          </a:xfrm>
          <a:prstGeom prst="rect">
            <a:avLst/>
          </a:prstGeom>
          <a:ln w="0">
            <a:noFill/>
          </a:ln>
        </p:spPr>
      </p:pic>
      <p:cxnSp>
        <p:nvCxnSpPr>
          <p:cNvPr id="340" name="Прямая со стрелкой 10"/>
          <p:cNvCxnSpPr/>
          <p:nvPr/>
        </p:nvCxnSpPr>
        <p:spPr>
          <a:xfrm flipH="1">
            <a:off x="1642680" y="1785960"/>
            <a:ext cx="572400" cy="3578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1" name="Прямая со стрелкой 12"/>
          <p:cNvCxnSpPr/>
          <p:nvPr/>
        </p:nvCxnSpPr>
        <p:spPr>
          <a:xfrm>
            <a:off x="2214360" y="1785960"/>
            <a:ext cx="1286280" cy="2865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2" name="Прямая со стрелкой 16"/>
          <p:cNvCxnSpPr/>
          <p:nvPr/>
        </p:nvCxnSpPr>
        <p:spPr>
          <a:xfrm flipH="1" flipV="1">
            <a:off x="6714720" y="1213920"/>
            <a:ext cx="357840" cy="57240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3" name="Прямая со стрелкой 18"/>
          <p:cNvCxnSpPr/>
          <p:nvPr/>
        </p:nvCxnSpPr>
        <p:spPr>
          <a:xfrm flipV="1">
            <a:off x="7072200" y="499680"/>
            <a:ext cx="215280" cy="12866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4" name="Прямая со стрелкой 20"/>
          <p:cNvCxnSpPr/>
          <p:nvPr/>
        </p:nvCxnSpPr>
        <p:spPr>
          <a:xfrm flipV="1">
            <a:off x="2214720" y="5071320"/>
            <a:ext cx="786240" cy="2149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5" name="Прямая со стрелкой 23"/>
          <p:cNvCxnSpPr/>
          <p:nvPr/>
        </p:nvCxnSpPr>
        <p:spPr>
          <a:xfrm flipH="1">
            <a:off x="1499400" y="5285880"/>
            <a:ext cx="715320" cy="10724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6" name="Прямая со стрелкой 25"/>
          <p:cNvCxnSpPr/>
          <p:nvPr/>
        </p:nvCxnSpPr>
        <p:spPr>
          <a:xfrm flipV="1">
            <a:off x="7071120" y="4714560"/>
            <a:ext cx="143640" cy="5738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47" name="Прямая со стрелкой 28"/>
          <p:cNvCxnSpPr/>
          <p:nvPr/>
        </p:nvCxnSpPr>
        <p:spPr>
          <a:xfrm flipH="1">
            <a:off x="6500160" y="5285880"/>
            <a:ext cx="572040" cy="107244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Час-ч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Минута-мин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Секунда-с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-360" y="499680"/>
            <a:ext cx="3071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сут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недел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ми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одержимое 2"/>
          <p:cNvSpPr/>
          <p:nvPr/>
        </p:nvSpPr>
        <p:spPr>
          <a:xfrm>
            <a:off x="5500800" y="571680"/>
            <a:ext cx="30718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м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7 сут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24 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Содержимое 2"/>
          <p:cNvSpPr/>
          <p:nvPr/>
        </p:nvSpPr>
        <p:spPr>
          <a:xfrm>
            <a:off x="0" y="500040"/>
            <a:ext cx="30718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сут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недел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1 м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одержимое 2"/>
          <p:cNvSpPr/>
          <p:nvPr/>
        </p:nvSpPr>
        <p:spPr>
          <a:xfrm>
            <a:off x="5500800" y="571680"/>
            <a:ext cx="30718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60 м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7 сут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24 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3" name="Прямая со стрелкой 6"/>
          <p:cNvCxnSpPr/>
          <p:nvPr/>
        </p:nvCxnSpPr>
        <p:spPr>
          <a:xfrm>
            <a:off x="2499840" y="1071720"/>
            <a:ext cx="3072600" cy="292968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  <p:cxnSp>
        <p:nvCxnSpPr>
          <p:cNvPr id="354" name="Прямая со стрелкой 8"/>
          <p:cNvCxnSpPr/>
          <p:nvPr/>
        </p:nvCxnSpPr>
        <p:spPr>
          <a:xfrm>
            <a:off x="2786040" y="2000160"/>
            <a:ext cx="2858400" cy="100080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  <p:cxnSp>
        <p:nvCxnSpPr>
          <p:cNvPr id="355" name="Прямая со стрелкой 10"/>
          <p:cNvCxnSpPr/>
          <p:nvPr/>
        </p:nvCxnSpPr>
        <p:spPr>
          <a:xfrm flipV="1">
            <a:off x="1357200" y="2142720"/>
            <a:ext cx="4215600" cy="92952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  <p:cxnSp>
        <p:nvCxnSpPr>
          <p:cNvPr id="356" name="Прямая со стрелкой 12"/>
          <p:cNvCxnSpPr/>
          <p:nvPr/>
        </p:nvCxnSpPr>
        <p:spPr>
          <a:xfrm flipV="1">
            <a:off x="2071800" y="1213920"/>
            <a:ext cx="3643920" cy="2858400"/>
          </a:xfrm>
          <a:prstGeom prst="straightConnector1">
            <a:avLst/>
          </a:prstGeom>
          <a:ln w="28440">
            <a:solidFill>
              <a:srgbClr val="e1e0e2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3" descr="foto1202510492.jpg"/>
          <p:cNvPicPr/>
          <p:nvPr/>
        </p:nvPicPr>
        <p:blipFill>
          <a:blip r:embed="rId2"/>
          <a:stretch/>
        </p:blipFill>
        <p:spPr>
          <a:xfrm>
            <a:off x="1785960" y="1087560"/>
            <a:ext cx="607212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6a00e39824878f883300e551fb81e58834-800wi.jpg"/>
          <p:cNvPicPr/>
          <p:nvPr/>
        </p:nvPicPr>
        <p:blipFill>
          <a:blip r:embed="rId2"/>
          <a:stretch/>
        </p:blipFill>
        <p:spPr>
          <a:xfrm>
            <a:off x="1785960" y="1119240"/>
            <a:ext cx="59292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43000" y="121392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Делу – время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Times New Roman"/>
              </a:rPr>
              <a:t>Потехе – час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287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Метр,килограмм,час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антиметр,минута,литр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утки,дециметр,год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екунда,неделя,грам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месяц,век,квадратный метр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00040" y="3567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Час,минута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утки,неделя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секунда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год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век,меся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-360" y="2143080"/>
            <a:ext cx="9644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1век  1год  1месяц  1сутки  1ч  1 мин  1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олилиния 9"/>
          <p:cNvSpPr/>
          <p:nvPr/>
        </p:nvSpPr>
        <p:spPr>
          <a:xfrm>
            <a:off x="42876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олилиния 10"/>
          <p:cNvSpPr/>
          <p:nvPr/>
        </p:nvSpPr>
        <p:spPr>
          <a:xfrm>
            <a:off x="1886040" y="291780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олилиния 11"/>
          <p:cNvSpPr/>
          <p:nvPr/>
        </p:nvSpPr>
        <p:spPr>
          <a:xfrm>
            <a:off x="335772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олилиния 12"/>
          <p:cNvSpPr/>
          <p:nvPr/>
        </p:nvSpPr>
        <p:spPr>
          <a:xfrm>
            <a:off x="485784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олилиния 13"/>
          <p:cNvSpPr/>
          <p:nvPr/>
        </p:nvSpPr>
        <p:spPr>
          <a:xfrm>
            <a:off x="6286680" y="2928960"/>
            <a:ext cx="14936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олилиния 14"/>
          <p:cNvSpPr/>
          <p:nvPr/>
        </p:nvSpPr>
        <p:spPr>
          <a:xfrm>
            <a:off x="7786800" y="2928960"/>
            <a:ext cx="1065240" cy="600120"/>
          </a:xfrm>
          <a:custGeom>
            <a:avLst/>
            <a:gdLst/>
            <a:ahLst/>
            <a:rect l="l" t="t" r="r" b="b"/>
            <a:pathLst>
              <a:path w="1121228" h="600528">
                <a:moveTo>
                  <a:pt x="0" y="10885"/>
                </a:moveTo>
                <a:cubicBezTo>
                  <a:pt x="184150" y="305706"/>
                  <a:pt x="368300" y="600528"/>
                  <a:pt x="555171" y="598714"/>
                </a:cubicBezTo>
                <a:cubicBezTo>
                  <a:pt x="742042" y="596900"/>
                  <a:pt x="1012371" y="156029"/>
                  <a:pt x="112122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олилиния 15"/>
          <p:cNvSpPr/>
          <p:nvPr/>
        </p:nvSpPr>
        <p:spPr>
          <a:xfrm>
            <a:off x="1893960" y="1357200"/>
            <a:ext cx="3549600" cy="917640"/>
          </a:xfrm>
          <a:custGeom>
            <a:avLst/>
            <a:gdLst/>
            <a:ahLst/>
            <a:rect l="l" t="t" r="r" b="b"/>
            <a:pathLst>
              <a:path w="3548743" h="1643743">
                <a:moveTo>
                  <a:pt x="0" y="1643743"/>
                </a:moveTo>
                <a:cubicBezTo>
                  <a:pt x="531586" y="821871"/>
                  <a:pt x="1063172" y="0"/>
                  <a:pt x="1654629" y="0"/>
                </a:cubicBezTo>
                <a:cubicBezTo>
                  <a:pt x="2246086" y="0"/>
                  <a:pt x="3340100" y="1513114"/>
                  <a:pt x="3548743" y="1643743"/>
                </a:cubicBezTo>
              </a:path>
            </a:pathLst>
          </a:custGeom>
          <a:noFill/>
          <a:ln w="57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85716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214308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8"/>
          <p:cNvSpPr/>
          <p:nvPr/>
        </p:nvSpPr>
        <p:spPr>
          <a:xfrm>
            <a:off x="307188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9"/>
          <p:cNvSpPr/>
          <p:nvPr/>
        </p:nvSpPr>
        <p:spPr>
          <a:xfrm>
            <a:off x="428616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528624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21"/>
          <p:cNvSpPr/>
          <p:nvPr/>
        </p:nvSpPr>
        <p:spPr>
          <a:xfrm>
            <a:off x="657216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7929720" y="37861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2214720" y="6429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3786120" y="642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3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25"/>
          <p:cNvSpPr/>
          <p:nvPr/>
        </p:nvSpPr>
        <p:spPr>
          <a:xfrm>
            <a:off x="2928960" y="642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357192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2110232-n--n--n--n-n------n-n------n.jpg"/>
          <p:cNvPicPr/>
          <p:nvPr/>
        </p:nvPicPr>
        <p:blipFill>
          <a:blip r:embed="rId2"/>
          <a:stretch/>
        </p:blipFill>
        <p:spPr>
          <a:xfrm>
            <a:off x="328680" y="1143000"/>
            <a:ext cx="86011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500040" y="-21276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2343240" y="642960"/>
            <a:ext cx="4457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3" descr="0_5203a_f35cdb6e_XL.jpg"/>
          <p:cNvPicPr/>
          <p:nvPr/>
        </p:nvPicPr>
        <p:blipFill>
          <a:blip r:embed="rId2"/>
          <a:stretch/>
        </p:blipFill>
        <p:spPr>
          <a:xfrm>
            <a:off x="2286000" y="1141560"/>
            <a:ext cx="4572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Pocket_watch_with_chain.jpg"/>
          <p:cNvPicPr/>
          <p:nvPr/>
        </p:nvPicPr>
        <p:blipFill>
          <a:blip r:embed="rId2"/>
          <a:stretch/>
        </p:blipFill>
        <p:spPr>
          <a:xfrm>
            <a:off x="569880" y="1071720"/>
            <a:ext cx="78598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Содержимое 3" descr="загруженно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5:14:19Z</dcterms:created>
  <dc:creator>cmq</dc:creator>
  <dc:description/>
  <dc:language>en-US</dc:language>
  <cp:lastModifiedBy>User</cp:lastModifiedBy>
  <dcterms:modified xsi:type="dcterms:W3CDTF">2019-12-01T10:31:28Z</dcterms:modified>
  <cp:revision>10</cp:revision>
  <dc:subject/>
  <dc:title>Урок математики  в 3 классе</dc:title>
</cp:coreProperties>
</file>