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96E-817A-4EA2-99CE-91CEE5BB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9E8-6EF1-4670-A4BC-542C380C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2F1-08F3-4B9D-B605-5AD8F330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C6B-97EF-4CD3-9DA5-62375E0A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E84D-8589-4399-A89C-842CD03E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A8E4-ED81-43D8-BACE-D5FBBCC2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F898-DE17-43A3-A96A-F14475DE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4AE8-1E56-47F6-B9DC-61D89884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0522-04B7-4A31-99A2-493E45BB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EC3-C0D5-4F45-82AC-644F73A8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976B-941C-4E1C-9BCA-BEDC11D8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3F7-B26A-4E90-BBF0-2C019B25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708A-666E-49EB-8771-E382097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A215-E97C-4FC7-B69B-F1AE1A18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9B9F-2885-430B-BC23-F2B8639C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2903-CF47-462F-8385-E1935C11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4359-CAEC-4E58-A12F-6C4E9FF3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F6FFD-6C5F-4056-9665-30145189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7C68-2442-404E-8350-F2423800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3993-2F18-4857-A107-00263D85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6D2C-9DEB-414E-A27A-A319116F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AA99-AD7A-42A0-8CC3-A7CC533E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B9E-CD51-4FE9-95CA-8DC4BE36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45E8-6A3A-4C35-9E8F-EB1EFE01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4372-60A8-4E00-9DD0-83961F14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405E-314B-4E6B-AA85-27AC855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C45D-64D1-453B-8956-7E3E63C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B07D-2DBF-41CC-8709-DC4632BD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3224-3CFA-48A0-AD92-7BE0A8AC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361F-7B9D-4E63-AF52-ECC1BBD9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B41-FFA1-4263-9098-6C8FE26D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B1F-ECC1-4105-B67C-ED1F4024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4D8-1D15-4622-BE0A-A1E19B91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EC0-C95E-4C6D-952C-3441B9E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26B-8ABC-4CD8-9177-DA80247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137-BDF5-4397-83B1-B0D5CD8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1FCD8A-84A9-4064-A9F5-5E082A6D7A6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F9A25F-E2E9-4524-A981-59A0D02DE2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54000A-7AC6-4B13-BD63-983264CC6EE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67813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тоговое занятие с детьми средней группы</a:t>
            </a:r>
            <a:br>
              <a:rPr sz="4400"/>
            </a:br>
            <a:r>
              <a:rPr b="1" i="1" lang="ru-RU" sz="6700" spc="-1" strike="noStrike">
                <a:solidFill>
                  <a:srgbClr val="7030a0"/>
                </a:solidFill>
                <a:latin typeface="Arial"/>
              </a:rPr>
              <a:t>«Путешествие в сказку»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124080" y="4267080"/>
            <a:ext cx="50288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Воспитатели: Казицына П.А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6" descr="fd682b225f6c1239ab3d5db4184c7acd.jpg"/>
          <p:cNvPicPr/>
          <p:nvPr/>
        </p:nvPicPr>
        <p:blipFill>
          <a:blip r:embed="rId1"/>
          <a:stretch/>
        </p:blipFill>
        <p:spPr>
          <a:xfrm>
            <a:off x="0" y="-720"/>
            <a:ext cx="9143640" cy="68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9710406.jpg"/>
          <p:cNvPicPr/>
          <p:nvPr/>
        </p:nvPicPr>
        <p:blipFill>
          <a:blip r:embed="rId1"/>
          <a:stretch/>
        </p:blipFill>
        <p:spPr>
          <a:xfrm>
            <a:off x="0" y="-228600"/>
            <a:ext cx="9143640" cy="73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winter-forest-scenery.jpg"/>
          <p:cNvPicPr/>
          <p:nvPr/>
        </p:nvPicPr>
        <p:blipFill>
          <a:blip r:embed="rId1"/>
          <a:stretch/>
        </p:blipFill>
        <p:spPr>
          <a:xfrm>
            <a:off x="304920" y="217080"/>
            <a:ext cx="3962160" cy="2971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7" name="Picture 4" descr="http://prosto-tak.alter-world.net/wp-content/uploads/sites/3/2010/02/pochki.jpg"/>
          <p:cNvPicPr/>
          <p:nvPr/>
        </p:nvPicPr>
        <p:blipFill>
          <a:blip r:embed="rId2"/>
          <a:stretch/>
        </p:blipFill>
        <p:spPr>
          <a:xfrm>
            <a:off x="5029200" y="304920"/>
            <a:ext cx="3866400" cy="2819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8" name="Содержимое 6" descr="fd682b225f6c1239ab3d5db4184c7acd.jpg"/>
          <p:cNvPicPr/>
          <p:nvPr/>
        </p:nvPicPr>
        <p:blipFill>
          <a:blip r:embed="rId3"/>
          <a:stretch/>
        </p:blipFill>
        <p:spPr>
          <a:xfrm>
            <a:off x="228600" y="3352680"/>
            <a:ext cx="4065480" cy="3060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9" name="Содержимое 3" descr="9710406.jpg"/>
          <p:cNvPicPr/>
          <p:nvPr/>
        </p:nvPicPr>
        <p:blipFill>
          <a:blip r:embed="rId4"/>
          <a:stretch/>
        </p:blipFill>
        <p:spPr>
          <a:xfrm>
            <a:off x="5029200" y="3352680"/>
            <a:ext cx="3809520" cy="3047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02labj7ga1277038035.gif"/>
          <p:cNvPicPr/>
          <p:nvPr/>
        </p:nvPicPr>
        <p:blipFill>
          <a:blip r:embed="rId1"/>
          <a:stretch/>
        </p:blipFill>
        <p:spPr>
          <a:xfrm>
            <a:off x="0" y="-228600"/>
            <a:ext cx="9295920" cy="70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21" descr="hello_html_23c397c.jpg"/>
          <p:cNvPicPr/>
          <p:nvPr/>
        </p:nvPicPr>
        <p:blipFill>
          <a:blip r:embed="rId2"/>
          <a:stretch/>
        </p:blipFill>
        <p:spPr>
          <a:xfrm>
            <a:off x="-3600" y="0"/>
            <a:ext cx="91472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одержимое 3" descr="teremok-dlya-sayt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9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Содержимое 3" descr="c48ef99a694df2fa35f89fbdee1d6350.jpg"/>
          <p:cNvPicPr/>
          <p:nvPr/>
        </p:nvPicPr>
        <p:blipFill>
          <a:blip r:embed="rId1"/>
          <a:stretch/>
        </p:blipFill>
        <p:spPr>
          <a:xfrm>
            <a:off x="0" y="-428760"/>
            <a:ext cx="9295920" cy="70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Минутка отдых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http://moi-skazki.ru/media/k2/items/cache/4251dec72b18ac89643edfb7a8300016_L.jpg"/>
          <p:cNvPicPr/>
          <p:nvPr/>
        </p:nvPicPr>
        <p:blipFill>
          <a:blip r:embed="rId2"/>
          <a:stretch/>
        </p:blipFill>
        <p:spPr>
          <a:xfrm>
            <a:off x="-152280" y="0"/>
            <a:ext cx="93405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0010-010--JA-myshka-norushka.jpg"/>
          <p:cNvPicPr/>
          <p:nvPr/>
        </p:nvPicPr>
        <p:blipFill>
          <a:blip r:embed="rId1"/>
          <a:stretch/>
        </p:blipFill>
        <p:spPr>
          <a:xfrm>
            <a:off x="-13680" y="0"/>
            <a:ext cx="9157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0" y="0"/>
            <a:ext cx="9189720" cy="685764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9" descr="teremok1.jpg"/>
          <p:cNvPicPr/>
          <p:nvPr/>
        </p:nvPicPr>
        <p:blipFill>
          <a:blip r:embed="rId2"/>
          <a:stretch/>
        </p:blipFill>
        <p:spPr>
          <a:xfrm>
            <a:off x="609480" y="762120"/>
            <a:ext cx="6705360" cy="5486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80006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Программное содержание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выявить знания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1. Умение соотносить цифру с кол.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2. Знания о геометрических фигу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3. Знания о временах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4. Умение ориентироваться на листе бума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5. Группировать предметы по основным призна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6. Упражнять детей в образовании слов по аналог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7. Развивать осн. псих. проц.: память, образное мышление, вним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8. Воспитывать культуру поведения и умение выполнять поставленную зада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8" descr="0014-014-Medved-i-polez-v-teremok.jpg"/>
          <p:cNvPicPr/>
          <p:nvPr/>
        </p:nvPicPr>
        <p:blipFill>
          <a:blip r:embed="rId2"/>
          <a:stretch/>
        </p:blipFill>
        <p:spPr>
          <a:xfrm>
            <a:off x="762120" y="990720"/>
            <a:ext cx="6494400" cy="5133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815506_html_6e10fd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009920" cy="19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600" spc="-1" strike="noStrike">
                <a:solidFill>
                  <a:srgbClr val="7030a0"/>
                </a:solidFill>
                <a:latin typeface="Calibri"/>
              </a:rPr>
              <a:t>С героями какой сказки мы с вами путешествовали? Чем мы помогли зверятам? Все зверята говорят Вам «спасибо за помощ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3048120" y="3581280"/>
            <a:ext cx="2666520" cy="208476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0" y="4191120"/>
            <a:ext cx="1828440" cy="2057760"/>
          </a:xfrm>
          <a:prstGeom prst="rect">
            <a:avLst/>
          </a:prstGeom>
          <a:ln w="9525">
            <a:noFill/>
          </a:ln>
        </p:spPr>
      </p:pic>
      <p:pic>
        <p:nvPicPr>
          <p:cNvPr id="184" name="Picture 14" descr=""/>
          <p:cNvPicPr/>
          <p:nvPr/>
        </p:nvPicPr>
        <p:blipFill>
          <a:blip r:embed="rId4"/>
          <a:stretch/>
        </p:blipFill>
        <p:spPr>
          <a:xfrm>
            <a:off x="2133720" y="5410080"/>
            <a:ext cx="1218960" cy="124236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24" descr=""/>
          <p:cNvPicPr/>
          <p:nvPr/>
        </p:nvPicPr>
        <p:blipFill>
          <a:blip r:embed="rId5"/>
          <a:stretch/>
        </p:blipFill>
        <p:spPr>
          <a:xfrm>
            <a:off x="6553080" y="2819520"/>
            <a:ext cx="1523520" cy="201168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6"/>
          <a:stretch/>
        </p:blipFill>
        <p:spPr>
          <a:xfrm>
            <a:off x="5410080" y="4572000"/>
            <a:ext cx="1980720" cy="198072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7"/>
          <a:stretch/>
        </p:blipFill>
        <p:spPr>
          <a:xfrm>
            <a:off x="1447920" y="3048120"/>
            <a:ext cx="1142640" cy="1896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68 0.11667 L 0.35868 -0.02778 E">
                                      <p:cBhvr>
                                        <p:cTn id="1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61976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Calibri"/>
              </a:rPr>
              <a:t>             </a:t>
            </a:r>
            <a:r>
              <a:rPr b="0" i="1" lang="ru-RU" sz="3600" spc="-1" strike="noStrike" u="sng">
                <a:solidFill>
                  <a:srgbClr val="7030a0"/>
                </a:solidFill>
                <a:uFillTx/>
                <a:latin typeface="Calibri"/>
              </a:rPr>
              <a:t> </a:t>
            </a:r>
            <a:r>
              <a:rPr b="0" i="1" lang="ru-RU" sz="6000" spc="-1" strike="noStrike" u="sng">
                <a:solidFill>
                  <a:srgbClr val="7030a0"/>
                </a:solidFill>
                <a:uFillTx/>
                <a:latin typeface="Calibri"/>
              </a:rPr>
              <a:t>Материал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Ковер-сам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Картинки времена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Игра «Паззл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Карточки-цыф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Картинки с изображением терем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7030a0"/>
                </a:solidFill>
                <a:latin typeface="Calibri"/>
              </a:rPr>
              <a:t>Картинки с изображением предметов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7030a0"/>
                </a:solidFill>
                <a:latin typeface="Calibri"/>
              </a:rPr>
              <a:t>Счетные палочк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533520"/>
            <a:ext cx="7924320" cy="55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Объяснительно репродуктив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Нагляд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Вербальный (словесны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иё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Создание проблемной игровой ситу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Художественное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Использование мультимедий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обору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Предварительная рабо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6197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Чтение сказки «Терем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Просмотр ска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исование по сказке «Теремок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Индивидуальная рабо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Documents and Settings\User\Рабочий стол\571804.jpg"/>
          <p:cNvPicPr/>
          <p:nvPr/>
        </p:nvPicPr>
        <p:blipFill>
          <a:blip r:embed="rId2"/>
          <a:stretch/>
        </p:blipFill>
        <p:spPr>
          <a:xfrm>
            <a:off x="6248520" y="3962520"/>
            <a:ext cx="251424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609480" y="990720"/>
            <a:ext cx="62481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chemeClr val="accent4"/>
                </a:solidFill>
                <a:latin typeface="Calibri"/>
              </a:rPr>
              <a:t>Путешествие в сказку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energy-culture.ru/wp-content/uploads/2015/10/dGXeySK9cd4.jpg"/>
          <p:cNvPicPr/>
          <p:nvPr/>
        </p:nvPicPr>
        <p:blipFill>
          <a:blip r:embed="rId2"/>
          <a:stretch/>
        </p:blipFill>
        <p:spPr>
          <a:xfrm>
            <a:off x="1371600" y="2514600"/>
            <a:ext cx="5638320" cy="371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00064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762120" y="914400"/>
            <a:ext cx="6248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chemeClr val="accent4"/>
                </a:solidFill>
                <a:latin typeface="Calibri"/>
              </a:rPr>
              <a:t>Сказка начинаетс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www.rebenok.com/img/13171_400_2.jpg"/>
          <p:cNvPicPr/>
          <p:nvPr/>
        </p:nvPicPr>
        <p:blipFill>
          <a:blip r:embed="rId2"/>
          <a:stretch/>
        </p:blipFill>
        <p:spPr>
          <a:xfrm>
            <a:off x="838080" y="1676520"/>
            <a:ext cx="6667200" cy="4628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winter-forest-scenery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User\Рабочий стол\fon13.jpg"/>
          <p:cNvPicPr/>
          <p:nvPr/>
        </p:nvPicPr>
        <p:blipFill>
          <a:blip r:embed="rId1"/>
          <a:stretch/>
        </p:blipFill>
        <p:spPr>
          <a:xfrm>
            <a:off x="-46080" y="0"/>
            <a:ext cx="9189720" cy="6857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http://prosto-tak.alter-world.net/wp-content/uploads/sites/3/2010/02/pochki.jpg"/>
          <p:cNvPicPr/>
          <p:nvPr/>
        </p:nvPicPr>
        <p:blipFill>
          <a:blip r:embed="rId2"/>
          <a:stretch/>
        </p:blipFill>
        <p:spPr>
          <a:xfrm>
            <a:off x="-261360" y="0"/>
            <a:ext cx="94050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  <Words>196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12-09T09:58:55Z</dcterms:modified>
  <cp:revision>50</cp:revision>
  <dc:subject/>
  <dc:title>Современный урок (занятие) Номинация: современное занятие в системе дошкольного образования «Путешествие в сказку терем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