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229-7B8F-40E2-9148-5D7006E1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0BA-71B4-40CE-B220-2B7C440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B9B-71F0-4BC6-A89C-BC3FD1A1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CDF-06FF-4F84-ACEF-BE4C96EB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EB60-9884-4BBB-9C0C-1CD9C51C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B64-6EB9-4A8D-BA0B-A8D5C72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FDC8-A519-4877-A511-1A20545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82A-BAA8-4B45-B7B5-1638E0B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AF6-5A7F-4850-9DBE-C7BFFA9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8CC6-6504-45E8-A33C-D1FA44CF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477-86F9-4ABB-8007-0D64FB6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BDF-7647-4FF3-934B-BF095F5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0154-3B37-4F3D-B230-EF27570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944-8774-465E-A749-6C3A71C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9CF-B50E-409C-94FD-C51B5FD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7F1-C495-42C4-BE3E-ECA564DA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2F9E-D909-4393-AED0-3608D75D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F58-875F-4B86-B775-0B806543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9FB-851C-4554-97BC-8072FAE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ABB-8A3C-43CF-8715-E3A7BB44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779-46EA-4204-96FE-54F542CC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203-672C-4F7A-8A6F-0D5C38F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18C-3BCA-4605-86EE-0A5A390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416-7632-45B5-A584-8D9C9AB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124-716A-4A56-A9DE-D4D6C80F1E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455-EE94-4350-8B99-89DFEB2974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8000"/>
                </a:solidFill>
                <a:latin typeface="Garamond"/>
              </a:rPr>
              <a:t>Тема урока «Организация рабочего места для выполнения ручных работ»</a:t>
            </a:r>
            <a:br>
              <a:rPr sz="4200"/>
            </a:br>
            <a:r>
              <a:rPr b="1" lang="en-US" sz="4200" spc="-1" strike="noStrike">
                <a:solidFill>
                  <a:srgbClr val="008000"/>
                </a:solidFill>
                <a:latin typeface="Garamond"/>
              </a:rPr>
              <a:t>5 класс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Picture 9" descr="нитки"/>
          <p:cNvPicPr/>
          <p:nvPr/>
        </p:nvPicPr>
        <p:blipFill>
          <a:blip r:embed="rId2"/>
          <a:srcRect l="0" t="27271" r="0" b="0"/>
          <a:stretch/>
        </p:blipFill>
        <p:spPr>
          <a:xfrm>
            <a:off x="3059280" y="3068640"/>
            <a:ext cx="2770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b6bcf"/>
                </a:solidFill>
                <a:latin typeface="Garamond"/>
              </a:rPr>
              <a:t>Задачи уро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500040" y="1591200"/>
            <a:ext cx="842976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1. воспитать чувство ответствен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2. привить навыки аккуратности в рабо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3. сформировать у учащихся знания о правильной организации рабочего места для выполнения ручных рабо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cc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При выполнении ручных работ необходимо соблюдать правила техники безопасности при работе с булавками, иголками и ножница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511164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Иглы и булавки хранить в иголь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Ножницы хранить в короб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Ножницы подавать кольцами в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Нельзя брать иглы и булавки в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Нельзя вкалывать иглы в шторы, одежду и мебель</a:t>
            </a:r>
            <a:r>
              <a:rPr b="0" i="1" lang="en-US" sz="3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8098" t="0" r="24294" b="0"/>
          <a:stretch/>
        </p:blipFill>
        <p:spPr>
          <a:xfrm>
            <a:off x="5345280" y="2133720"/>
            <a:ext cx="34700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Опасности в работе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8000" y="14126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cc"/>
                </a:solidFill>
                <a:latin typeface="Times New Roman"/>
              </a:rPr>
              <a:t>повреждение пальцев иглой или булавкой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cc"/>
                </a:solidFill>
                <a:latin typeface="Times New Roman"/>
              </a:rPr>
              <a:t>травма руки ножницами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cc"/>
                </a:solidFill>
                <a:latin typeface="Times New Roman"/>
              </a:rPr>
              <a:t>травма глаз.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3196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cc"/>
                </a:solidFill>
                <a:latin typeface="Times New Roman"/>
              </a:rPr>
              <a:t>До начала работы необходим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сосчитать количество иголок и булавок в игольн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положить инструменты и приспособления в отведённое для них мест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Во время работы необходимо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402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следить за правильной посадк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содержать в чистоте и порядке рабочее мест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вкалывать иглы и булавки только в игольниц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надевать напёрсток на средний палец правой руки, чтобы не уколоть 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класть ножницы справа с сомкнутыми лезвиями, направленными от себ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передавать ножницы только с сомкнутыми лезвиями и кольцами вперёд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99080" y="2997360"/>
            <a:ext cx="1797120" cy="216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0" t="0" r="25628" b="0"/>
          <a:stretch/>
        </p:blipFill>
        <p:spPr>
          <a:xfrm>
            <a:off x="6877080" y="4005360"/>
            <a:ext cx="18763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imes New Roman"/>
              </a:rPr>
              <a:t>По окончании работы необходим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Times New Roman"/>
              </a:rPr>
              <a:t>посчитать количество иголок и булавок в игольнице. Их должно быть столько, сколько было в начале работ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060"/>
                </a:solidFill>
                <a:latin typeface="Times New Roman"/>
              </a:rPr>
              <a:t>убрать свое рабочее место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дведение итогов уро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Записать правила по технике безопасности в тетрад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28:22Z</dcterms:created>
  <dc:creator>Admin</dc:creator>
  <dc:description/>
  <dc:language>en-US</dc:language>
  <cp:lastModifiedBy>sit</cp:lastModifiedBy>
  <dcterms:modified xsi:type="dcterms:W3CDTF">2013-01-13T13:47:07Z</dcterms:modified>
  <cp:revision>6</cp:revision>
  <dc:subject/>
  <dc:title>«Организация рабочего места для выполнения ручных работ» </dc:title>
</cp:coreProperties>
</file>