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9891B-C02F-4635-AD20-9569E0557C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20D72-FC2E-4F17-98CB-539954C74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80012-721D-464F-86FD-E28F3957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00E37-46CE-43BF-8037-8EF441F098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8422F-99A9-435B-A330-B689FCFCD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2A91A-CFE3-4E2D-B2AA-AF3313F41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17AEF-186E-48D1-A1E1-8F82CA0F7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7D957-F0F6-40B1-BC78-F42B0CEE0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EF505-97FA-43EC-A233-66D966A06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13DDC-DC60-481D-B5BA-C79D52F42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945F3-0080-41D3-9610-7849CFF54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B50C5-D26C-4A58-9E3E-5183EB2C4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304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304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C91F11-DB09-4D49-9CE1-92B2FD5F2528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4200" y="214200"/>
            <a:ext cx="8643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ямолинейное равноускоренное  движение - ПРУ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500040" y="42876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равнение движения ПРУ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14240" y="228600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х = 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x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 +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429000" y="2071800"/>
            <a:ext cx="257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500280" y="2571840"/>
            <a:ext cx="7858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98440" y="6711840"/>
            <a:ext cx="168480" cy="150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04760" y="179280"/>
            <a:ext cx="871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График кординаты  ПРУД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(зависимость кординаты от времен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419640" y="177336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 =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+V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·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 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475320" y="1538280"/>
            <a:ext cx="78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5400000">
            <a:off x="-1175400" y="1678680"/>
            <a:ext cx="4071960" cy="3286080"/>
          </a:xfrm>
          <a:prstGeom prst="pie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rot="16432200">
            <a:off x="363960" y="2235600"/>
            <a:ext cx="4357800" cy="328608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85840" y="142884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8360" y="422100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716360" y="4508640"/>
            <a:ext cx="3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535800" y="2131920"/>
            <a:ext cx="6429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986520" y="144000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35280" y="3000240"/>
            <a:ext cx="32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= 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· t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661080" y="2786040"/>
            <a:ext cx="125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737400" y="3417840"/>
            <a:ext cx="6429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900000" y="1619280"/>
            <a:ext cx="1800" cy="378288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00000" y="4508640"/>
            <a:ext cx="3780000" cy="14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03640" y="1484280"/>
            <a:ext cx="4392720" cy="1081080"/>
          </a:xfrm>
          <a:prstGeom prst="rect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564000" y="2708280"/>
            <a:ext cx="4248000" cy="1297080"/>
          </a:xfrm>
          <a:prstGeom prst="rect">
            <a:avLst/>
          </a:prstGeom>
          <a:noFill/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 flipH="1">
            <a:off x="2143080" y="1192320"/>
            <a:ext cx="7920" cy="71424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873520" y="1260360"/>
            <a:ext cx="7920" cy="71460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782880" y="1214280"/>
            <a:ext cx="7920" cy="71460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213520" y="1260360"/>
            <a:ext cx="7920" cy="71460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783480" y="1214280"/>
            <a:ext cx="7920" cy="71460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14720" y="57168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00360" y="55080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≠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43200" y="500040"/>
            <a:ext cx="12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≠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57840" y="500040"/>
            <a:ext cx="198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≠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14720" y="192888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43120" y="192888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  t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71920" y="19288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  t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57840" y="1928880"/>
            <a:ext cx="14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      t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85960" y="164304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715160" y="1714680"/>
            <a:ext cx="7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85840" y="142920"/>
            <a:ext cx="85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ределение равноускоренного прямолинейного движ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7120" y="3500280"/>
            <a:ext cx="8286840" cy="25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Равноускоренным прямолинейным движением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зывают   такое прямолинейное движение, при котором скорость тела за любые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вные промежутки времен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зменяется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динаково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43080" y="235728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86040" y="235728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≠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6120" y="2357280"/>
            <a:ext cx="12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≠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00760" y="2357280"/>
            <a:ext cx="142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≠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28880" y="2786040"/>
            <a:ext cx="7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2711520"/>
            <a:ext cx="12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57760" y="2786040"/>
            <a:ext cx="136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=  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00760" y="2786040"/>
            <a:ext cx="165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=    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60720" y="1260360"/>
            <a:ext cx="720720" cy="180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79640" y="1260360"/>
            <a:ext cx="900360" cy="180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780000" y="1260360"/>
            <a:ext cx="1439640" cy="180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19640" y="1260360"/>
            <a:ext cx="1619280" cy="180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160720" y="1979640"/>
            <a:ext cx="5580000" cy="14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8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6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8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2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4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6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8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0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20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4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60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80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00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2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4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6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500120" y="3571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Ускорение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28760" y="1000080"/>
            <a:ext cx="828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 физическая величина характеризующая быстроту изменения скор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57120" y="2214720"/>
            <a:ext cx="514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означается:            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8760" y="2714760"/>
            <a:ext cx="5643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д. изм. В СИ:           [м/с  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8760" y="3857760"/>
            <a:ext cx="76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ар-ка величины:   вектор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067280" y="2349360"/>
            <a:ext cx="360360" cy="180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42960" y="428760"/>
            <a:ext cx="792972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Ускорение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называют векторную величину, равную отношению изменения скорости тела 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v-v</a:t>
            </a:r>
            <a:r>
              <a:rPr b="1" i="1" lang="ru-RU" sz="3200" spc="-1" strike="noStrike" baseline="-25000">
                <a:solidFill>
                  <a:srgbClr val="c00000"/>
                </a:solidFill>
                <a:latin typeface="Calibri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к промежутку времени 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в течение которого это изменение произош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1432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393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403280" y="3284640"/>
            <a:ext cx="4000680" cy="121104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0" y="1668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76360" y="3789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00040" y="357120"/>
            <a:ext cx="828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График проекции вектора ускорения  ПРУД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(зависимость проекции ускорения от времен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85880" y="2643120"/>
            <a:ext cx="3000240" cy="1800"/>
          </a:xfrm>
          <a:prstGeom prst="line">
            <a:avLst/>
          </a:prstGeom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85880" y="4286160"/>
            <a:ext cx="3071880" cy="180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215040" y="3000240"/>
            <a:ext cx="78588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0" y="3857760"/>
            <a:ext cx="785880" cy="28548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5600" y="145080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42920" y="2286000"/>
            <a:ext cx="7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2920" y="400068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8760" y="321480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429080" y="328608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2286000"/>
            <a:ext cx="7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858080" y="4286160"/>
            <a:ext cx="7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286840" y="321480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19640" y="1571760"/>
            <a:ext cx="55800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1x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&gt; 0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19640" y="5000760"/>
            <a:ext cx="55800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0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754200" y="1438200"/>
            <a:ext cx="1440" cy="342288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20720" y="3419640"/>
            <a:ext cx="3780000" cy="14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80000" y="2700360"/>
            <a:ext cx="721080" cy="14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59280" y="2340000"/>
            <a:ext cx="360360" cy="14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59280" y="3600360"/>
            <a:ext cx="2519640" cy="180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7199280" y="4680000"/>
            <a:ext cx="542880" cy="14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920000" y="4319640"/>
            <a:ext cx="360360" cy="14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000080" y="42876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корость при ПРУ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285920" y="1928880"/>
            <a:ext cx="3857760" cy="128592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428840" y="3929040"/>
            <a:ext cx="4071960" cy="118908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0" y="107460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00040" y="285840"/>
            <a:ext cx="82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График проекции вектора скорости  ПРУД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(зависимость проекции скорости от времен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/>
          <p:nvPr/>
        </p:nvCxnSpPr>
        <p:spPr>
          <a:xfrm>
            <a:off x="5724000" y="3644640"/>
            <a:ext cx="2716920" cy="396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5929200" y="3071880"/>
            <a:ext cx="100008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500880" y="3929040"/>
            <a:ext cx="1000080" cy="35712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4200" y="114300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720720" y="1996560"/>
            <a:ext cx="2208240" cy="268452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20720" y="2160720"/>
            <a:ext cx="2708280" cy="255420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200016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21488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29080" y="457200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0360" y="468000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000920" y="271476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572240" y="3643200"/>
            <a:ext cx="7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15040" y="242892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86720" y="450072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643200" y="1500120"/>
            <a:ext cx="514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то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000680" y="5286240"/>
            <a:ext cx="40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 а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т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071880" y="2071800"/>
            <a:ext cx="2857320" cy="6174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071880" y="5929200"/>
            <a:ext cx="2873160" cy="6177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720720" y="1258560"/>
            <a:ext cx="1440" cy="342252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20720" y="4680000"/>
            <a:ext cx="3780000" cy="14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00720" y="1628640"/>
            <a:ext cx="360360" cy="180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64000" y="1628640"/>
            <a:ext cx="360360" cy="180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040360" y="1617480"/>
            <a:ext cx="1440" cy="3632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5219640" y="1617480"/>
            <a:ext cx="1800" cy="3632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300720" y="2519280"/>
            <a:ext cx="360360" cy="180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732720" y="2708280"/>
            <a:ext cx="539640" cy="14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020000" y="3240000"/>
            <a:ext cx="720720" cy="180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524720" y="3789360"/>
            <a:ext cx="360360" cy="14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40360" y="4680000"/>
            <a:ext cx="360720" cy="14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559640" y="4140360"/>
            <a:ext cx="720720" cy="14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6012000" y="4653000"/>
            <a:ext cx="652320" cy="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32360" y="5373720"/>
            <a:ext cx="360360" cy="14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67280" y="5373720"/>
            <a:ext cx="360360" cy="14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5580000" y="5397480"/>
            <a:ext cx="1800" cy="36360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59280" y="5400720"/>
            <a:ext cx="1800" cy="36036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6588000" y="1557360"/>
            <a:ext cx="1800" cy="36360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020000" y="5373720"/>
            <a:ext cx="1440" cy="36036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020000" y="2852640"/>
            <a:ext cx="360360" cy="180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532720" y="35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857160" y="428760"/>
            <a:ext cx="77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пределение перемещения по графику скор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928800" y="2354400"/>
            <a:ext cx="3214440" cy="1506240"/>
          </a:xfrm>
          <a:prstGeom prst="line">
            <a:avLst/>
          </a:prstGeom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2920" y="114300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5840" y="364320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14200" y="221472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925200" y="2354400"/>
            <a:ext cx="3220920" cy="7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138560" y="2357280"/>
            <a:ext cx="7920" cy="30736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28760" y="500076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85880" y="550080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929040" y="55008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786280" y="542916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907920" y="3840120"/>
            <a:ext cx="3254400" cy="1535040"/>
            <a:chOff x="907920" y="3840120"/>
            <a:chExt cx="3254400" cy="1535040"/>
          </a:xfrm>
        </p:grpSpPr>
        <p:pic>
          <p:nvPicPr>
            <p:cNvPr id="172" name="" descr=""/>
            <p:cNvPicPr/>
            <p:nvPr/>
          </p:nvPicPr>
          <p:blipFill>
            <a:blip r:embed="rId1"/>
            <a:stretch/>
          </p:blipFill>
          <p:spPr>
            <a:xfrm>
              <a:off x="907920" y="3840120"/>
              <a:ext cx="3254400" cy="15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928440" y="3857400"/>
              <a:ext cx="3212640" cy="149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1928880" y="4286160"/>
            <a:ext cx="20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·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357800" y="2286000"/>
            <a:ext cx="39290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V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x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V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·t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29080" y="2786040"/>
            <a:ext cx="17146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215040" y="2643120"/>
            <a:ext cx="214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15040" y="2786040"/>
            <a:ext cx="214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86720" y="2786040"/>
            <a:ext cx="4284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215120" y="22860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29080" y="4071960"/>
            <a:ext cx="44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V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·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 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588000" y="3933720"/>
            <a:ext cx="78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20000" y="38606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588000" y="4508640"/>
            <a:ext cx="5716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28800" y="2357280"/>
            <a:ext cx="3214440" cy="1500480"/>
          </a:xfrm>
          <a:prstGeom prst="triangle">
            <a:avLst>
              <a:gd name="adj" fmla="val 100000"/>
            </a:avLst>
          </a:prstGeom>
          <a:solidFill>
            <a:srgbClr val="fcd5b5"/>
          </a:solidFill>
          <a:ln w="25560">
            <a:solidFill>
              <a:srgbClr val="385d8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900000" y="1258560"/>
            <a:ext cx="1800" cy="41432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00000" y="5400720"/>
            <a:ext cx="5040360" cy="14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4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04760" y="179280"/>
            <a:ext cx="871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График проекции вектора перемещения  ПРУД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(зависимость проекции перемещения от времен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214880" y="1785960"/>
            <a:ext cx="226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 = V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·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 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475320" y="1538280"/>
            <a:ext cx="78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-1175400" y="1678680"/>
            <a:ext cx="4071960" cy="3286080"/>
          </a:xfrm>
          <a:prstGeom prst="pie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rot="16432200">
            <a:off x="435960" y="3532680"/>
            <a:ext cx="4357440" cy="328608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85840" y="142884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8360" y="515772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286160" y="5572080"/>
            <a:ext cx="3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535800" y="2131920"/>
            <a:ext cx="6429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986520" y="144000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357800" y="3000240"/>
            <a:ext cx="24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V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·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 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661080" y="2786040"/>
            <a:ext cx="125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737400" y="3417840"/>
            <a:ext cx="6429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71840" y="3857760"/>
            <a:ext cx="192888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↑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071720" y="2071800"/>
            <a:ext cx="192852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↑↓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900000" y="1619280"/>
            <a:ext cx="1800" cy="378288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00000" y="5373720"/>
            <a:ext cx="3780000" cy="14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079640" y="2160720"/>
            <a:ext cx="360360" cy="14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268360" y="2205000"/>
            <a:ext cx="360720" cy="180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00360" y="3959280"/>
            <a:ext cx="360360" cy="14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780000" y="3933720"/>
            <a:ext cx="360360" cy="180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319640" y="1800360"/>
            <a:ext cx="360360" cy="14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859280" y="1844640"/>
            <a:ext cx="360360" cy="180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80000" y="1619280"/>
            <a:ext cx="360360" cy="14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3:50Z</dcterms:created>
  <dc:creator>User</dc:creator>
  <dc:description/>
  <dc:language>en-US</dc:language>
  <cp:lastModifiedBy>User</cp:lastModifiedBy>
  <dcterms:modified xsi:type="dcterms:W3CDTF">2019-09-17T11:56:43Z</dcterms:modified>
  <cp:revision>41</cp:revision>
  <dc:subject/>
  <dc:title>Слайд 1</dc:title>
</cp:coreProperties>
</file>