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2BC0F-9E2C-4FDB-9598-1BC4C0D863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3495-48B6-4923-B1C5-573301DC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4194-C4EE-4A5D-8CD6-0B5EBF75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81E71-BD8B-4293-8CB3-8654DB6526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D3C4-D252-4EFA-AA6F-B481E8DA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2BDF-92F2-492B-ABC9-12BBEF25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858B-1015-40B8-840B-15D949CA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EB47-0894-4EF7-B6A3-576A9631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9BD77-3321-4B18-B69B-D49CCD89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EFE1-F304-465F-A86D-620AA532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1F535-2A96-4436-9823-7C8D38D4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C74B-E720-4970-A282-73326F96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7CD03-EE0B-46B8-9ECA-FCA30AA5D91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4200" y="214200"/>
            <a:ext cx="864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ямолинейное равноускоренное  движение - ПР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00040" y="4287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авнение движения ПР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4240" y="22860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 = 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 +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07180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00280" y="2571840"/>
            <a:ext cx="785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98440" y="6711840"/>
            <a:ext cx="168480" cy="150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4760" y="1792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рафик кординаты  ПРУД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зависимость кординаты от врем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19640" y="1773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·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75320" y="1538280"/>
            <a:ext cx="78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-1175400" y="1678680"/>
            <a:ext cx="4071960" cy="328608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432200">
            <a:off x="363960" y="2235600"/>
            <a:ext cx="4357800" cy="328608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5840" y="142884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22100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450864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35800" y="2131920"/>
            <a:ext cx="642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86520" y="14400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3000240"/>
            <a:ext cx="32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· t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61080" y="278604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37400" y="3417840"/>
            <a:ext cx="642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900000" y="1619280"/>
            <a:ext cx="1800" cy="378288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00000" y="4508640"/>
            <a:ext cx="378000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3640" y="1484280"/>
            <a:ext cx="4392720" cy="108108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64000" y="2708280"/>
            <a:ext cx="4248000" cy="129708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flipH="1">
            <a:off x="2143080" y="1192320"/>
            <a:ext cx="7920" cy="7142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73520" y="1260360"/>
            <a:ext cx="7920" cy="7146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782880" y="1214280"/>
            <a:ext cx="7920" cy="7146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213520" y="1260360"/>
            <a:ext cx="7920" cy="7146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783480" y="1214280"/>
            <a:ext cx="7920" cy="7146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14720" y="5716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5508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≠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43200" y="50004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≠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7840" y="500040"/>
            <a:ext cx="19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≠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14720" y="19288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43120" y="19288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  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71920" y="1928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  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7840" y="192888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      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85960" y="16430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15160" y="171468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5840" y="14292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 равноускоренного прямолинейного дви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7120" y="3500280"/>
            <a:ext cx="828684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вноускоренным прямолинейным движением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ывают   такое прямолинейное движение, при котором скорость тела за любы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вные промежутки време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зменяет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динаково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43080" y="23572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86040" y="23572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≠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6120" y="235728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≠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0760" y="235728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≠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28880" y="27860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2711520"/>
            <a:ext cx="12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7760" y="278604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0760" y="2786040"/>
            <a:ext cx="16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  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60720" y="1260360"/>
            <a:ext cx="72072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79640" y="1260360"/>
            <a:ext cx="90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1260360"/>
            <a:ext cx="143964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1260360"/>
            <a:ext cx="161928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60720" y="1979640"/>
            <a:ext cx="558000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6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6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8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00120" y="357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скорение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760" y="100008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физическая величина характеризующая быстроту изменения скор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7120" y="221472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ается:          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760" y="2714760"/>
            <a:ext cx="5643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. изм. В СИ:           [м/с 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760" y="3857760"/>
            <a:ext cx="76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-ка величины:   вект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67280" y="234936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42960" y="428760"/>
            <a:ext cx="792972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скорени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зывают векторную величину, равную отношению изменения скорости тела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v-v</a:t>
            </a:r>
            <a:r>
              <a:rPr b="1" i="1" lang="ru-RU" sz="3200" spc="-1" strike="noStrike" baseline="-25000">
                <a:solidFill>
                  <a:srgbClr val="c00000"/>
                </a:solidFill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 промежутку времени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 течение которого это изменение произ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3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393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4000680" cy="12110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1668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378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0040" y="3571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рафик проекции вектора ускорения  ПРУД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зависимость проекции ускорения от врем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5880" y="2643120"/>
            <a:ext cx="3000240" cy="180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5880" y="4286160"/>
            <a:ext cx="3071880" cy="18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15040" y="3000240"/>
            <a:ext cx="78588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3857760"/>
            <a:ext cx="785880" cy="285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" y="14508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2920" y="228600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2920" y="400068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32148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9080" y="32860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228600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58080" y="428616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86840" y="32148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1571760"/>
            <a:ext cx="5580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1x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5000760"/>
            <a:ext cx="5580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54200" y="1438200"/>
            <a:ext cx="1440" cy="342288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0720" y="3419640"/>
            <a:ext cx="378000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80000" y="2700360"/>
            <a:ext cx="72108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59280" y="234000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59280" y="3600360"/>
            <a:ext cx="251964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199280" y="4680000"/>
            <a:ext cx="54288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20000" y="431964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00080" y="4287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корость при ПРУ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85920" y="1928880"/>
            <a:ext cx="3857760" cy="1285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428840" y="3929040"/>
            <a:ext cx="4071960" cy="1189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0" y="10746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0040" y="2858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рафик проекции вектора скорости  ПРУД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зависимость проекции скорости от врем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/>
          <p:nvPr/>
        </p:nvCxnSpPr>
        <p:spPr>
          <a:xfrm>
            <a:off x="5724000" y="3644640"/>
            <a:ext cx="2716920" cy="39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5929200" y="3071880"/>
            <a:ext cx="100008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00880" y="3929040"/>
            <a:ext cx="1000080" cy="35712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4200" y="11430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20720" y="1996560"/>
            <a:ext cx="2208240" cy="26845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0720" y="2160720"/>
            <a:ext cx="2708280" cy="25542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001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2148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9080" y="45720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0360" y="46800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00920" y="27147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72240" y="364320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15040" y="242892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86720" y="4500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43200" y="150012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00680" y="528624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 а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71880" y="2071800"/>
            <a:ext cx="2857320" cy="617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71880" y="5929200"/>
            <a:ext cx="2873160" cy="61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720720" y="1258560"/>
            <a:ext cx="1440" cy="342252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0720" y="4680000"/>
            <a:ext cx="378000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00720" y="162864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162864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040360" y="1617480"/>
            <a:ext cx="1440" cy="3632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219640" y="1617480"/>
            <a:ext cx="1800" cy="3632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251928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2708280"/>
            <a:ext cx="53964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240000"/>
            <a:ext cx="72072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378936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0360" y="4680000"/>
            <a:ext cx="36072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9640" y="4140360"/>
            <a:ext cx="72072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12000" y="4653000"/>
            <a:ext cx="652320" cy="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537372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537372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580000" y="5397480"/>
            <a:ext cx="1800" cy="3636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59280" y="5400720"/>
            <a:ext cx="1800" cy="3603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588000" y="1557360"/>
            <a:ext cx="1800" cy="3636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20000" y="5373720"/>
            <a:ext cx="1440" cy="3603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285264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3272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57160" y="4287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перемещения по графику скор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928800" y="2354400"/>
            <a:ext cx="3214440" cy="150624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2920" y="11430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5840" y="36432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4200" y="22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925200" y="2354400"/>
            <a:ext cx="3220920" cy="7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138560" y="2357280"/>
            <a:ext cx="7920" cy="3073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8760" y="50007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5880" y="55008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2904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86280" y="54291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07920" y="3840120"/>
            <a:ext cx="3254400" cy="1535040"/>
            <a:chOff x="907920" y="3840120"/>
            <a:chExt cx="3254400" cy="153504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907920" y="3840120"/>
              <a:ext cx="325440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28440" y="3857400"/>
              <a:ext cx="321264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928880" y="428616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7800" y="2286000"/>
            <a:ext cx="3929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V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·t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29080" y="2786040"/>
            <a:ext cx="1714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15040" y="2643120"/>
            <a:ext cx="214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15040" y="2786040"/>
            <a:ext cx="214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6720" y="2786040"/>
            <a:ext cx="428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15120" y="2286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9080" y="407196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·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3933720"/>
            <a:ext cx="78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20000" y="38606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50864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28800" y="2357280"/>
            <a:ext cx="3214440" cy="1500480"/>
          </a:xfrm>
          <a:prstGeom prst="triangle">
            <a:avLst>
              <a:gd name="adj" fmla="val 100000"/>
            </a:avLst>
          </a:prstGeom>
          <a:solidFill>
            <a:srgbClr val="fcd5b5"/>
          </a:solidFill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00000" y="1258560"/>
            <a:ext cx="1800" cy="41432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5400720"/>
            <a:ext cx="504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4760" y="1792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рафик проекции вектора перемещения  ПРУД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зависимость проекции перемещения от врем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4880" y="1785960"/>
            <a:ext cx="22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= 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·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5320" y="1538280"/>
            <a:ext cx="78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-1175400" y="1678680"/>
            <a:ext cx="4071960" cy="328608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6432200">
            <a:off x="435960" y="3532680"/>
            <a:ext cx="4357440" cy="328608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5840" y="142884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51577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86160" y="557208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35800" y="2131920"/>
            <a:ext cx="642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86520" y="14400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57800" y="3000240"/>
            <a:ext cx="24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·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61080" y="278604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7400" y="3417840"/>
            <a:ext cx="642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71840" y="3857760"/>
            <a:ext cx="19288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↑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71720" y="2071800"/>
            <a:ext cx="19285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↑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900000" y="1619280"/>
            <a:ext cx="1800" cy="378288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5373720"/>
            <a:ext cx="378000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79640" y="216072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2205000"/>
            <a:ext cx="36072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00360" y="395928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0" y="393372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19640" y="180036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9280" y="1844640"/>
            <a:ext cx="360360" cy="180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80000" y="1619280"/>
            <a:ext cx="36036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3:50Z</dcterms:created>
  <dc:creator>User</dc:creator>
  <dc:description/>
  <dc:language>en-US</dc:language>
  <cp:lastModifiedBy>User</cp:lastModifiedBy>
  <dcterms:modified xsi:type="dcterms:W3CDTF">2019-09-17T11:56:43Z</dcterms:modified>
  <cp:revision>41</cp:revision>
  <dc:subject/>
  <dc:title>Слайд 1</dc:title>
</cp:coreProperties>
</file>