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E7B-6313-4AD9-ACDC-77488128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F39-38B8-4903-847A-1D4897D7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38D-4377-4817-83DE-6C48CEF8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694-8422-402C-A69D-2230D30A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8ED-8313-493E-90E1-0A7C5E4A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61E-C7CB-4D1C-BB0C-4CF912EA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9C7-234D-432A-9B4B-F25C9BB7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E7C-CAB0-49B3-B24C-D32B25E4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43A-93BC-4DFA-AB68-4A370ECC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EE1-6BF2-4B21-A737-E8178C23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A30-7353-47C8-A61E-7520604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AFF-713E-4738-93F0-E7E72BE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EC3B-788B-4D28-ACA4-521E758EB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04920" y="228600"/>
            <a:ext cx="8610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Уры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143000" y="1906920"/>
            <a:ext cx="7010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ый урок в свете требований ФГ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143000" y="1828800"/>
            <a:ext cx="701028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Урок – это зеркало общей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ой культуры учите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ило его интеллектуального богатства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ель его кругозора, эруди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609480" y="380880"/>
            <a:ext cx="8229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ременный урок в свете ФГО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реди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Оргмо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Определение тем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Актуализация и коррекция опорн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Целеполагание. Мотив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Закрепление в знакомой ситуации  в измененной ситу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 Творческое применение, углубление знаний в новой ситу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 Информация о домашнем зад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990720" y="189000"/>
            <a:ext cx="7505640" cy="103032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ланируемые результа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ри основные группы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20600" y="1373040"/>
            <a:ext cx="2633760" cy="762120"/>
            <a:chOff x="120600" y="1373040"/>
            <a:chExt cx="2633760" cy="762120"/>
          </a:xfrm>
        </p:grpSpPr>
        <p:pic>
          <p:nvPicPr>
            <p:cNvPr id="47" name="Picture 5" descr=""/>
            <p:cNvPicPr/>
            <p:nvPr/>
          </p:nvPicPr>
          <p:blipFill>
            <a:blip r:embed="rId1"/>
            <a:stretch/>
          </p:blipFill>
          <p:spPr>
            <a:xfrm>
              <a:off x="120600" y="1373040"/>
              <a:ext cx="26337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6"/>
            <p:cNvSpPr/>
            <p:nvPr/>
          </p:nvSpPr>
          <p:spPr>
            <a:xfrm>
              <a:off x="214200" y="1440000"/>
              <a:ext cx="24526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ЛИЧНОС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7"/>
          <p:cNvGrpSpPr/>
          <p:nvPr/>
        </p:nvGrpSpPr>
        <p:grpSpPr>
          <a:xfrm>
            <a:off x="2981160" y="1324080"/>
            <a:ext cx="2729160" cy="813960"/>
            <a:chOff x="2981160" y="1324080"/>
            <a:chExt cx="2729160" cy="813960"/>
          </a:xfrm>
        </p:grpSpPr>
        <p:pic>
          <p:nvPicPr>
            <p:cNvPr id="50" name="Picture 8" descr=""/>
            <p:cNvPicPr/>
            <p:nvPr/>
          </p:nvPicPr>
          <p:blipFill>
            <a:blip r:embed="rId2"/>
            <a:stretch/>
          </p:blipFill>
          <p:spPr>
            <a:xfrm>
              <a:off x="2981160" y="1324080"/>
              <a:ext cx="2729160" cy="8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9"/>
            <p:cNvSpPr/>
            <p:nvPr/>
          </p:nvSpPr>
          <p:spPr>
            <a:xfrm>
              <a:off x="3104640" y="1395720"/>
              <a:ext cx="245124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МЕТАПРЕДМ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5900760" y="1373040"/>
            <a:ext cx="3014280" cy="763560"/>
            <a:chOff x="5900760" y="1373040"/>
            <a:chExt cx="3014280" cy="763560"/>
          </a:xfrm>
        </p:grpSpPr>
        <p:pic>
          <p:nvPicPr>
            <p:cNvPr id="53" name="Picture 11" descr=""/>
            <p:cNvPicPr/>
            <p:nvPr/>
          </p:nvPicPr>
          <p:blipFill>
            <a:blip r:embed="rId3"/>
            <a:stretch/>
          </p:blipFill>
          <p:spPr>
            <a:xfrm>
              <a:off x="5900760" y="1373040"/>
              <a:ext cx="301428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2"/>
            <p:cNvSpPr/>
            <p:nvPr/>
          </p:nvSpPr>
          <p:spPr>
            <a:xfrm>
              <a:off x="6000840" y="1438560"/>
              <a:ext cx="28173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ПРЕДМ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152280" y="2139840"/>
            <a:ext cx="2638440" cy="983880"/>
            <a:chOff x="152280" y="2139840"/>
            <a:chExt cx="2638440" cy="983880"/>
          </a:xfrm>
        </p:grpSpPr>
        <p:pic>
          <p:nvPicPr>
            <p:cNvPr id="56" name="Picture 14" descr=""/>
            <p:cNvPicPr/>
            <p:nvPr/>
          </p:nvPicPr>
          <p:blipFill>
            <a:blip r:embed="rId4"/>
            <a:stretch/>
          </p:blipFill>
          <p:spPr>
            <a:xfrm>
              <a:off x="152280" y="2139840"/>
              <a:ext cx="2638440" cy="98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5"/>
            <p:cNvSpPr/>
            <p:nvPr/>
          </p:nvSpPr>
          <p:spPr>
            <a:xfrm>
              <a:off x="255240" y="2216880"/>
              <a:ext cx="24350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  <a:ea typeface="Lucida Sans Unicode"/>
                </a:rPr>
                <a:t>Самоопределение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внутренняя позиция школьника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самоуважение и само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6"/>
          <p:cNvGrpSpPr/>
          <p:nvPr/>
        </p:nvGrpSpPr>
        <p:grpSpPr>
          <a:xfrm>
            <a:off x="79200" y="3125880"/>
            <a:ext cx="2638440" cy="1456920"/>
            <a:chOff x="79200" y="3125880"/>
            <a:chExt cx="2638440" cy="1456920"/>
          </a:xfrm>
        </p:grpSpPr>
        <p:pic>
          <p:nvPicPr>
            <p:cNvPr id="59" name="Picture 17" descr=""/>
            <p:cNvPicPr/>
            <p:nvPr/>
          </p:nvPicPr>
          <p:blipFill>
            <a:blip r:embed="rId5"/>
            <a:stretch/>
          </p:blipFill>
          <p:spPr>
            <a:xfrm>
              <a:off x="79200" y="3125880"/>
              <a:ext cx="2638440" cy="14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8"/>
            <p:cNvSpPr/>
            <p:nvPr/>
          </p:nvSpPr>
          <p:spPr>
            <a:xfrm>
              <a:off x="185400" y="3241800"/>
              <a:ext cx="2431800" cy="11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  <a:ea typeface="Lucida Sans Unicode"/>
                </a:rPr>
                <a:t>Смыслообразование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мотивация (учебная, социальная)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границы собствен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знания и «незнания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9"/>
          <p:cNvGrpSpPr/>
          <p:nvPr/>
        </p:nvGrpSpPr>
        <p:grpSpPr>
          <a:xfrm>
            <a:off x="115920" y="4675320"/>
            <a:ext cx="2797200" cy="1573200"/>
            <a:chOff x="115920" y="4675320"/>
            <a:chExt cx="2797200" cy="1573200"/>
          </a:xfrm>
        </p:grpSpPr>
        <p:pic>
          <p:nvPicPr>
            <p:cNvPr id="62" name="Picture 20" descr=""/>
            <p:cNvPicPr/>
            <p:nvPr/>
          </p:nvPicPr>
          <p:blipFill>
            <a:blip r:embed="rId6"/>
            <a:stretch/>
          </p:blipFill>
          <p:spPr>
            <a:xfrm>
              <a:off x="115920" y="4675320"/>
              <a:ext cx="2797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1"/>
            <p:cNvSpPr/>
            <p:nvPr/>
          </p:nvSpPr>
          <p:spPr>
            <a:xfrm>
              <a:off x="264600" y="4780080"/>
              <a:ext cx="2505240" cy="13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  <a:ea typeface="Lucida Sans Unicode"/>
                </a:rPr>
                <a:t>Морально-эти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  <a:ea typeface="Lucida Sans Unicode"/>
                </a:rPr>
                <a:t>ориентация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ориентация на выполне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моральных норм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2"/>
          <p:cNvGrpSpPr/>
          <p:nvPr/>
        </p:nvGrpSpPr>
        <p:grpSpPr>
          <a:xfrm>
            <a:off x="2938320" y="2217600"/>
            <a:ext cx="2900520" cy="908280"/>
            <a:chOff x="2938320" y="2217600"/>
            <a:chExt cx="2900520" cy="908280"/>
          </a:xfrm>
        </p:grpSpPr>
        <p:pic>
          <p:nvPicPr>
            <p:cNvPr id="65" name="Picture 23" descr=""/>
            <p:cNvPicPr/>
            <p:nvPr/>
          </p:nvPicPr>
          <p:blipFill>
            <a:blip r:embed="rId7"/>
            <a:stretch/>
          </p:blipFill>
          <p:spPr>
            <a:xfrm>
              <a:off x="2938320" y="2217600"/>
              <a:ext cx="29005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4"/>
            <p:cNvSpPr/>
            <p:nvPr/>
          </p:nvSpPr>
          <p:spPr>
            <a:xfrm>
              <a:off x="3042720" y="2288520"/>
              <a:ext cx="26989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Lucida Sans Unicode"/>
                </a:rPr>
                <a:t>Регулятивные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управление своей деятельностью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контроль и коррекция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инициативность и самостоятель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5"/>
          <p:cNvGrpSpPr/>
          <p:nvPr/>
        </p:nvGrpSpPr>
        <p:grpSpPr>
          <a:xfrm>
            <a:off x="3011400" y="3241800"/>
            <a:ext cx="2632320" cy="1164600"/>
            <a:chOff x="3011400" y="3241800"/>
            <a:chExt cx="2632320" cy="1164600"/>
          </a:xfrm>
        </p:grpSpPr>
        <p:pic>
          <p:nvPicPr>
            <p:cNvPr id="68" name="Picture 26" descr=""/>
            <p:cNvPicPr/>
            <p:nvPr/>
          </p:nvPicPr>
          <p:blipFill>
            <a:blip r:embed="rId8"/>
            <a:stretch/>
          </p:blipFill>
          <p:spPr>
            <a:xfrm>
              <a:off x="3011400" y="3241800"/>
              <a:ext cx="2632320" cy="116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27"/>
            <p:cNvSpPr/>
            <p:nvPr/>
          </p:nvSpPr>
          <p:spPr>
            <a:xfrm>
              <a:off x="3106440" y="3344400"/>
              <a:ext cx="244944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Lucida Sans Unicode"/>
                </a:rPr>
                <a:t>Коммуникативные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речевая деятельность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навыки сотрудничеств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8"/>
          <p:cNvGrpSpPr/>
          <p:nvPr/>
        </p:nvGrpSpPr>
        <p:grpSpPr>
          <a:xfrm>
            <a:off x="2998800" y="4584600"/>
            <a:ext cx="2913120" cy="1665360"/>
            <a:chOff x="2998800" y="4584600"/>
            <a:chExt cx="2913120" cy="1665360"/>
          </a:xfrm>
        </p:grpSpPr>
        <p:pic>
          <p:nvPicPr>
            <p:cNvPr id="71" name="Picture 29" descr=""/>
            <p:cNvPicPr/>
            <p:nvPr/>
          </p:nvPicPr>
          <p:blipFill>
            <a:blip r:embed="rId9"/>
            <a:stretch/>
          </p:blipFill>
          <p:spPr>
            <a:xfrm>
              <a:off x="2998800" y="4584600"/>
              <a:ext cx="291312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30"/>
            <p:cNvSpPr/>
            <p:nvPr/>
          </p:nvSpPr>
          <p:spPr>
            <a:xfrm>
              <a:off x="3141360" y="4696200"/>
              <a:ext cx="2632320" cy="14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Lucida Sans Unicode"/>
                </a:rPr>
                <a:t>Познавательные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работа с информацией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работа с учебными моделям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использование знако-символически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средств, общих схем решения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выполнение логических операц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сравнения, анализа, обобщения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классификации, установл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аналогий, подведения под понят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1"/>
          <p:cNvGrpSpPr/>
          <p:nvPr/>
        </p:nvGrpSpPr>
        <p:grpSpPr>
          <a:xfrm>
            <a:off x="6083280" y="2217600"/>
            <a:ext cx="2541600" cy="800280"/>
            <a:chOff x="6083280" y="2217600"/>
            <a:chExt cx="2541600" cy="800280"/>
          </a:xfrm>
        </p:grpSpPr>
        <p:pic>
          <p:nvPicPr>
            <p:cNvPr id="74" name="Picture 32" descr=""/>
            <p:cNvPicPr/>
            <p:nvPr/>
          </p:nvPicPr>
          <p:blipFill>
            <a:blip r:embed="rId10"/>
            <a:stretch/>
          </p:blipFill>
          <p:spPr>
            <a:xfrm>
              <a:off x="6083280" y="2217600"/>
              <a:ext cx="25416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3"/>
            <p:cNvSpPr/>
            <p:nvPr/>
          </p:nvSpPr>
          <p:spPr>
            <a:xfrm>
              <a:off x="6178320" y="2283480"/>
              <a:ext cx="23572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Основы науч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4"/>
          <p:cNvGrpSpPr/>
          <p:nvPr/>
        </p:nvGrpSpPr>
        <p:grpSpPr>
          <a:xfrm>
            <a:off x="6083280" y="3241800"/>
            <a:ext cx="2687760" cy="1168200"/>
            <a:chOff x="6083280" y="3241800"/>
            <a:chExt cx="2687760" cy="1168200"/>
          </a:xfrm>
        </p:grpSpPr>
        <p:pic>
          <p:nvPicPr>
            <p:cNvPr id="77" name="Picture 35" descr=""/>
            <p:cNvPicPr/>
            <p:nvPr/>
          </p:nvPicPr>
          <p:blipFill>
            <a:blip r:embed="rId11"/>
            <a:stretch/>
          </p:blipFill>
          <p:spPr>
            <a:xfrm>
              <a:off x="6083280" y="3241800"/>
              <a:ext cx="268776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36"/>
            <p:cNvSpPr/>
            <p:nvPr/>
          </p:nvSpPr>
          <p:spPr>
            <a:xfrm>
              <a:off x="6210000" y="3323880"/>
              <a:ext cx="243684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Опыт по получен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и преобразован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нового зн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6156360" y="4675320"/>
            <a:ext cx="2541600" cy="1578960"/>
            <a:chOff x="6156360" y="4675320"/>
            <a:chExt cx="2541600" cy="1578960"/>
          </a:xfrm>
        </p:grpSpPr>
        <p:pic>
          <p:nvPicPr>
            <p:cNvPr id="80" name="Picture 41" descr=""/>
            <p:cNvPicPr/>
            <p:nvPr/>
          </p:nvPicPr>
          <p:blipFill>
            <a:blip r:embed="rId12"/>
            <a:stretch/>
          </p:blipFill>
          <p:spPr>
            <a:xfrm>
              <a:off x="6156360" y="4675320"/>
              <a:ext cx="2541600" cy="157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42"/>
            <p:cNvSpPr/>
            <p:nvPr/>
          </p:nvSpPr>
          <p:spPr>
            <a:xfrm>
              <a:off x="6267240" y="4803120"/>
              <a:ext cx="232236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Предметные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метапредме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действия 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материал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Diagram 48"/>
          <p:cNvGrpSpPr/>
          <p:nvPr/>
        </p:nvGrpSpPr>
        <p:grpSpPr>
          <a:xfrm>
            <a:off x="1170360" y="1405800"/>
            <a:ext cx="7185600" cy="4710960"/>
            <a:chOff x="1170360" y="1405800"/>
            <a:chExt cx="7185600" cy="4710960"/>
          </a:xfrm>
        </p:grpSpPr>
        <p:sp>
          <p:nvSpPr>
            <p:cNvPr id="83" name="_s1028"/>
            <p:cNvSpPr/>
            <p:nvPr/>
          </p:nvSpPr>
          <p:spPr>
            <a:xfrm>
              <a:off x="3293280" y="1720080"/>
              <a:ext cx="2937600" cy="1739520"/>
            </a:xfrm>
            <a:custGeom>
              <a:avLst/>
              <a:gdLst>
                <a:gd name="textAreaLeft" fmla="*/ 0 w 2937600"/>
                <a:gd name="textAreaRight" fmla="*/ 2937960 w 293760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ffffff"/>
                </a:gs>
                <a:gs pos="100000">
                  <a:srgbClr val="cc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29"/>
            <p:cNvSpPr/>
            <p:nvPr/>
          </p:nvSpPr>
          <p:spPr>
            <a:xfrm rot="3060000">
              <a:off x="5349600" y="1537200"/>
              <a:ext cx="1739880" cy="293760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ffffff"/>
                </a:gs>
                <a:gs pos="100000">
                  <a:srgbClr val="cc6600"/>
                </a:gs>
              </a:gsLst>
              <a:lin ang="23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0"/>
            <p:cNvSpPr/>
            <p:nvPr/>
          </p:nvSpPr>
          <p:spPr>
            <a:xfrm rot="6180000">
              <a:off x="5712480" y="2471760"/>
              <a:ext cx="1739880" cy="293760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ffffff"/>
                </a:gs>
                <a:gs pos="100000">
                  <a:srgbClr val="cc6600"/>
                </a:gs>
              </a:gsLst>
              <a:lin ang="208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1"/>
            <p:cNvSpPr/>
            <p:nvPr/>
          </p:nvSpPr>
          <p:spPr>
            <a:xfrm rot="9240000">
              <a:off x="4102200" y="3821040"/>
              <a:ext cx="2937600" cy="1739880"/>
            </a:xfrm>
            <a:custGeom>
              <a:avLst/>
              <a:gdLst>
                <a:gd name="textAreaLeft" fmla="*/ 0 w 2937600"/>
                <a:gd name="textAreaRight" fmla="*/ 2937960 w 2937600"/>
                <a:gd name="textAreaTop" fmla="*/ 0 h 1739880"/>
                <a:gd name="textAreaBottom" fmla="*/ 1740240 h 17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ffffff"/>
                </a:gs>
                <a:gs pos="100000">
                  <a:srgbClr val="cc6600"/>
                </a:gs>
              </a:gsLst>
              <a:lin ang="1776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2"/>
            <p:cNvSpPr/>
            <p:nvPr/>
          </p:nvSpPr>
          <p:spPr>
            <a:xfrm rot="12360000">
              <a:off x="2483640" y="3821040"/>
              <a:ext cx="2937600" cy="1739880"/>
            </a:xfrm>
            <a:custGeom>
              <a:avLst/>
              <a:gdLst>
                <a:gd name="textAreaLeft" fmla="*/ 0 w 2937600"/>
                <a:gd name="textAreaRight" fmla="*/ 2937960 w 2937600"/>
                <a:gd name="textAreaTop" fmla="*/ 0 h 1739880"/>
                <a:gd name="textAreaBottom" fmla="*/ 1740240 h 17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ffffff"/>
                </a:gs>
                <a:gs pos="100000">
                  <a:srgbClr val="cc6600"/>
                </a:gs>
              </a:gsLst>
              <a:lin ang="146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3"/>
            <p:cNvSpPr/>
            <p:nvPr/>
          </p:nvSpPr>
          <p:spPr>
            <a:xfrm rot="15420000">
              <a:off x="2071080" y="2473200"/>
              <a:ext cx="1739880" cy="293760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ffffff"/>
                </a:gs>
                <a:gs pos="100000">
                  <a:srgbClr val="cc6600"/>
                </a:gs>
              </a:gsLst>
              <a:lin ang="115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4"/>
            <p:cNvSpPr/>
            <p:nvPr/>
          </p:nvSpPr>
          <p:spPr>
            <a:xfrm rot="18540000">
              <a:off x="2431440" y="1537200"/>
              <a:ext cx="1739880" cy="293724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2937240"/>
                <a:gd name="textAreaBottom" fmla="*/ 2937600 h 293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50000">
                  <a:srgbClr val="ffffff"/>
                </a:gs>
                <a:gs pos="100000">
                  <a:srgbClr val="cc6600"/>
                </a:gs>
              </a:gsLst>
              <a:lin ang="846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5"/>
            <p:cNvSpPr/>
            <p:nvPr/>
          </p:nvSpPr>
          <p:spPr>
            <a:xfrm>
              <a:off x="5531040" y="1701000"/>
              <a:ext cx="1149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выявлен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спор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вопрос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6"/>
            <p:cNvSpPr/>
            <p:nvPr/>
          </p:nvSpPr>
          <p:spPr>
            <a:xfrm>
              <a:off x="4190040" y="5187240"/>
              <a:ext cx="11498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выступл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перед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аудиторие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7"/>
            <p:cNvSpPr/>
            <p:nvPr/>
          </p:nvSpPr>
          <p:spPr>
            <a:xfrm>
              <a:off x="1769760" y="4497840"/>
              <a:ext cx="11498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экскурс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8"/>
            <p:cNvSpPr/>
            <p:nvPr/>
          </p:nvSpPr>
          <p:spPr>
            <a:xfrm>
              <a:off x="1170360" y="2946600"/>
              <a:ext cx="11498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поис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дополнительног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материал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на заданную тем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9"/>
            <p:cNvSpPr/>
            <p:nvPr/>
          </p:nvSpPr>
          <p:spPr>
            <a:xfrm>
              <a:off x="2844000" y="1702440"/>
              <a:ext cx="11491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обме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мнения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40"/>
            <p:cNvSpPr/>
            <p:nvPr/>
          </p:nvSpPr>
          <p:spPr>
            <a:xfrm>
              <a:off x="7206840" y="2944800"/>
              <a:ext cx="11491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построен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системы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доказательст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41"/>
            <p:cNvSpPr/>
            <p:nvPr/>
          </p:nvSpPr>
          <p:spPr>
            <a:xfrm>
              <a:off x="6609960" y="4496040"/>
              <a:ext cx="11498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обсужден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в группа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WordArt 65"/>
          <p:cNvSpPr txBox="1"/>
          <p:nvPr/>
        </p:nvSpPr>
        <p:spPr>
          <a:xfrm>
            <a:off x="3429000" y="2819520"/>
            <a:ext cx="235728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УД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ормируются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процессе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457200" y="6094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рок с использованием тех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рок, на котором осуществляется индивидуальный подход каждому учени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рок , содержащий разные виды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рок , на котором ученику должно быть комфор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рок, на котором деятельность должна стимулировать развитие познавательной активности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овременный урок развивает у детей креативное мыш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овременный урок воспитывает думающего ученика-интеллекту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рок предполагает сотрудничество, взаимопонимание, атмосферу радости и увл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295280" y="198072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   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рошее начало и хорошее оконч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1905120" y="457200"/>
            <a:ext cx="5562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бован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современному уроку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295280" y="2437920"/>
            <a:ext cx="6782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   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тко сформулированные тема, цель, задачи ур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295280" y="2895120"/>
            <a:ext cx="6172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   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ок должен быть проблемным и развивающ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295280" y="3352320"/>
            <a:ext cx="6172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   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активизирует деятельность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295280" y="3809520"/>
            <a:ext cx="6248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   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од делают сами учащие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295280" y="4266720"/>
            <a:ext cx="7848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   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ум репродукции и максимум творчества и сотвор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295280" y="4723920"/>
            <a:ext cx="556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   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емясбережение и здоровьесбере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295280" y="5181120"/>
            <a:ext cx="5486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   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т уровня и возможностей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295280" y="5638320"/>
            <a:ext cx="487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   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ок должен быть добр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762120" y="168840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тличие от стандарта 2004 года новый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ГОС  внес существенные изменения в цели, содержание и организацию учебно-воспитательного процесса, которые влекут за собой необходимость перестройки всей образовательной деятельности в начальной школе и в первую очередь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ИТЕЛ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обеспечивающего 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362320" y="1447920"/>
            <a:ext cx="624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 детей сегодня труд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раньше было нелег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ть, считать, писать уч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аёт корова молок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 XXI – век откры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 инноваций, новиз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  от учителя завис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ми дети быть дол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ем вам, чтоб дети  в ваше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ились от улыбок и люб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я вам и творческих усп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ек инноваций, новиз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9-12-09T11:48:0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