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60D-D1BE-4587-B3D9-551076D7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8A0-867F-4621-85B2-3C8FEC6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095-085E-4D56-AB4F-00B69A1D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9D4-1D9D-45B8-906F-4023C90B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BA0C-B6EB-41BD-864D-240431C9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FB5-7269-4760-86EF-40E2FB3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9D9A-4BD8-4162-9062-9D0A700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3FF-55A8-4581-8B5E-B00E403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A0E-BF9C-4AB6-BF7B-7963229E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EE6D-4725-4B48-B7E7-0080E3E5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D49-76FB-47F5-A285-4AD8BAF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31C-07EA-478F-86CC-8EA6D76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1FCE-C3E0-4A02-8443-F909C48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55E8-CF87-4CFC-9E11-64CA98F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A5F-717A-4AD0-8CC6-43ADFEC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26CE-5608-44E5-B7F8-7C0B7DED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710-C113-4BBD-AAD6-E5E27AED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F11-A2E5-4807-8EDE-6AE0858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D59-DAEC-4F44-980B-600668A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1DE-545A-47BC-AEFA-E25FA51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974-3845-4A3A-86F2-C1EE019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A41-EE81-449B-B1FE-A500962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B54-7CE0-4353-B142-BE8F44C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E30-5CB4-4933-AE13-FEB78A6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9B1-D765-4B8E-9F21-8D657ACD99C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78E8-C446-4CE2-9746-0139D7414F0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000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Verdana"/>
              </a:rPr>
              <a:t>Выполнила 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Verdana"/>
              </a:rPr>
              <a:t>Сорокина В.</a:t>
            </a:r>
            <a:br>
              <a:rPr sz="6000"/>
            </a:b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учитель: Лисовская А.А.</a:t>
            </a: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ладиолус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л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ноголетнее растение из семейства Лилейные, класс Двудо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Лилии – красивейшая цветочная культура. Это многолетнее травянистое растение с подземной чешуйчатой луковицей, окрашенной в разные оттенки: от белого до фиолетового. Из луковицы каждую весну развивается округлый стебель высотой до 150 см, на котором поочередно или мутовками располагаются простые крупные листья, имеющие различную форму: удлиненную, ланцетную, яйце, элипсо- или сердцевидную. На верхушке стеблей расцветают одиночные или собранные в зонтиковидное, метельчатое или кистевидное соцветие, цвет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незабуд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езабуд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Verdana"/>
              </a:rPr>
              <a:t>Многолетнее растение из семейства Бурачниковые, класс Двудо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59"/>
                </a:solidFill>
                <a:latin typeface="Verdana"/>
              </a:rPr>
              <a:t>Незабудки – невысокие растения, образующие компактные кустики. Некрупные цветки с нежно- голубыми или бирюзовыми лепестками и солнечно- желтой серединкой часто украшают весенние цветники. Небольшие соцветия возвышаются над прикорневой розеткой удлиненных, шершавых от опушения листьев. Садовые незабудки выведены от дикорастущих, произрастающих по всей Европе. О возникновении незабудок в разных странах бытуют сходные легенды, во многих из них незабудка появляется из слез невест, пролитых ими при расставании с любим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Цветок тюльпа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юльпа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ноголетнее растение из семейства Лилейные, класс Однодо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Тюльпаны – одни из красивейших луковичных  многолетних растений. Тюльпан выглядит удивительно привлекательно. Крупные простые продолговатые или ланцетные листья с окраской от ярко- до темно-зеленой, с сизым налетом, у некоторых сортов с волнистыми краями, скульптурно выделяются среди весенней зелени цветников. Прямой высокий стебель заканчивается крупным цветком, форма которого может быть разной: чашечковидной, бокаловидной, шаровидной, лилиевидной, махровой и двойной. Живописно выглядят коричневые или темно- синие тычинки внутри околоцветни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j0182731"/>
          <p:cNvPicPr/>
          <p:nvPr/>
        </p:nvPicPr>
        <p:blipFill>
          <a:blip r:embed="rId1"/>
          <a:stretch/>
        </p:blipFill>
        <p:spPr>
          <a:xfrm>
            <a:off x="0" y="0"/>
            <a:ext cx="2008080" cy="299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Красные тюльпаны"/>
          <p:cNvPicPr/>
          <p:nvPr/>
        </p:nvPicPr>
        <p:blipFill>
          <a:blip r:embed="rId2"/>
          <a:stretch/>
        </p:blipFill>
        <p:spPr>
          <a:xfrm>
            <a:off x="2050920" y="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ЛИЛИИ"/>
          <p:cNvPicPr/>
          <p:nvPr/>
        </p:nvPicPr>
        <p:blipFill>
          <a:blip r:embed="rId3"/>
          <a:stretch/>
        </p:blipFill>
        <p:spPr>
          <a:xfrm>
            <a:off x="0" y="2997360"/>
            <a:ext cx="3492360" cy="28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незабудка"/>
          <p:cNvPicPr/>
          <p:nvPr/>
        </p:nvPicPr>
        <p:blipFill>
          <a:blip r:embed="rId4"/>
          <a:stretch/>
        </p:blipFill>
        <p:spPr>
          <a:xfrm>
            <a:off x="6732720" y="3573360"/>
            <a:ext cx="2203200" cy="2979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лилия бел"/>
          <p:cNvPicPr/>
          <p:nvPr/>
        </p:nvPicPr>
        <p:blipFill>
          <a:blip r:embed="rId5"/>
          <a:stretch/>
        </p:blipFill>
        <p:spPr>
          <a:xfrm>
            <a:off x="2987640" y="4005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Тюльпан 1"/>
          <p:cNvPicPr/>
          <p:nvPr/>
        </p:nvPicPr>
        <p:blipFill>
          <a:blip r:embed="rId6"/>
          <a:stretch/>
        </p:blipFill>
        <p:spPr>
          <a:xfrm>
            <a:off x="4500720" y="0"/>
            <a:ext cx="4289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Цветы  Незабудки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незабудки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тюльпа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530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юльпан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Тюльпановый р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Вывод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ы помогают нам сохранять память о прошлом, выражать благодарность, выказывать уважение. Цветы повышают настроение, а значит, сберегают здоровье.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анимац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Источ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Цветы садов и по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Москва издательский центр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                   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«Вентана-Граф» 200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Н.А. Горская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flowers_049"/>
          <p:cNvPicPr/>
          <p:nvPr/>
        </p:nvPicPr>
        <p:blipFill>
          <a:blip r:embed="rId1"/>
          <a:stretch/>
        </p:blipFill>
        <p:spPr>
          <a:xfrm>
            <a:off x="0" y="-25560"/>
            <a:ext cx="9177480" cy="6883560"/>
          </a:xfrm>
          <a:prstGeom prst="rect">
            <a:avLst/>
          </a:prstGeom>
          <a:ln w="0">
            <a:noFill/>
          </a:ln>
        </p:spPr>
      </p:pic>
      <p:sp>
        <p:nvSpPr>
          <p:cNvPr id="220" name="WordArt 6"/>
          <p:cNvSpPr txBox="1"/>
          <p:nvPr/>
        </p:nvSpPr>
        <p:spPr>
          <a:xfrm>
            <a:off x="539640" y="5373720"/>
            <a:ext cx="3600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Verdana"/>
              </a:rPr>
              <a:t>Цветы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Природа Осень на ре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Verdana"/>
              </a:rPr>
              <a:t>Цель:</a:t>
            </a:r>
            <a:endParaRPr b="0" lang="en-US" sz="8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Verdana"/>
              </a:rPr>
              <a:t>Знакомства с цветами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04Водопа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Verdana"/>
              </a:rPr>
              <a:t>Вступление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Растения делятся на две группы-низшие и высшие. Размножение представителей первой группы происходит только при наличии влаги. Размеры этих более простых растений колеблются от микроскопических бактерий до гигантских морских водорослей. Водоросли и немногие бактерии содержат хлорофилл, а у грибов и большинства других бактерий его нет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Высшие   растения становились в своем размножение все более независимыми от водной среды. В большинстве своём неземные обитатели, они развили корни, стебли и листья, а также сосудистую систему, распределяющую воду по всему растению. Образование семян и развитие цветов- позднейшие приобретения этих растений в ходе их эволюционного развития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Розы2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66"/>
                </a:solidFill>
                <a:latin typeface="Verdana"/>
              </a:rPr>
              <a:t>Роза 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Многолетнее растение из семейства Розоцветные, класс Двудольны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66ff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Verdana"/>
              </a:rPr>
              <a:t>Во всем мире розы – общепризнанные любимицы, украшающие сады, парки, скверы, бульвары, приусадебные участки в городах, селах и деревнях. Роза имеет сходство со своим скромным предком шиповником в строении сложных листьев, прямых, деревянистых стеблей с твердыми частыми тонкими шипами. Роза отличается от шиповника прежде всего тем, что ее цветы махровые, то есть из многих лепестк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66ff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Verdana"/>
              </a:rPr>
              <a:t>Розу называют царицей цветов, выражая тем самым восхищение красотой, благоуханием, нежностью белых, розовых, желтых, красных цветк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Изображение 5803"/>
          <p:cNvPicPr/>
          <p:nvPr/>
        </p:nvPicPr>
        <p:blipFill>
          <a:blip r:embed="rId1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растение"/>
          <p:cNvPicPr/>
          <p:nvPr/>
        </p:nvPicPr>
        <p:blipFill>
          <a:blip r:embed="rId2"/>
          <a:stretch/>
        </p:blipFill>
        <p:spPr>
          <a:xfrm>
            <a:off x="57240" y="189000"/>
            <a:ext cx="3954240" cy="640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j0227689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глаз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нютины глаз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Verdana"/>
              </a:rPr>
              <a:t>Однолетнее или двулетнее растение из семейства Фиалковые, класс Двудольны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Verdana"/>
              </a:rPr>
              <a:t>Крупные бархатные цветки садовых сортов анютиных глазок имеют некоторое сходство со скромными небольшими бело-желто-фиолетовыми фиалками трехцветными. Именно фиалки трехцветные, повсеместно растущие по пашням, полям, лугам и оврагам, являются предками анютиных глазок. Садовые анютины глазки превосходят своих «дикорастущих родственников» по размерам и красочности цветков, но имеют с ними сходное строение очередных листьев с прилистниками, а также похожую форму лепестков, один из которых имеет своеобразный вырост- шпорец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3399"/>
                </a:solidFill>
                <a:latin typeface="Verdana"/>
              </a:rPr>
              <a:t>Совпадают и сроки цветения: с начала до мая осе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аст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ст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Verdana"/>
              </a:rPr>
              <a:t>Однолетние или многолетние растения из семейства Сложноцветные, класс Двудо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Verdana"/>
              </a:rPr>
              <a:t>Астры- декоративные, красиво и продолжительно цветущие садовые растения. Однолетние и многолетние астры образуют кусты и кустики разной высоты и плотности, верхушки побегов которых бывают увенчаны белыми, желтыми, розовыми, кремовыми, красными, лиловыми или фиолетовыми соцветиями разных форм и размеров. Сходное строение имеют прочные, облиственные побеги простые листья с выемчатыми краями. Подземные органы различаются: у однолетних астр компактная корневая система, у многолетних- корни и корневища. Однолетние астры высаживают каждый год. Многолетние чаще всего растут на одном месте до 10 лет, их размножают делением куст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Гладиол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ладиолу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Verdana"/>
              </a:rPr>
              <a:t>Многолетние растение из семейства Ирисовые, класс однодо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Гладиолусы производят завораживающее впечатление в середине лета, когда на травянисты стеблях высотой более метра, от которых отходят изящные длинные мечевидные листья, начинают распускаться поочередно, один за другим, крупные воронковидные цветки. По разнообразию окрасок цветков и их красоте гладиолусы превосходят многие другие многолетние цветочные культуры. Гладиолусы являются отличным украшением цветников; будучи срезанными, сохраняются в букете довольно дол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6:13Z</dcterms:created>
  <dc:creator>Алеся</dc:creator>
  <dc:description/>
  <dc:language>en-US</dc:language>
  <cp:lastModifiedBy>Школа</cp:lastModifiedBy>
  <dcterms:modified xsi:type="dcterms:W3CDTF">2019-12-09T14:52:51Z</dcterms:modified>
  <cp:revision>14</cp:revision>
  <dc:subject/>
  <dc:title>Выполнили ученицы 6 «Б» класса МОУ СОШ №1 Полякова Аня, Полякова Юля, Чакрыгина Марина.</dc:title>
</cp:coreProperties>
</file>