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407-B90E-4EBD-B2AD-0198CE8F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A45-FCA2-4FCC-BC5D-64DDAF4C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98E-4B23-468A-8FD3-34F895AA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231-493E-48C9-804F-4DADDF01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90E-401D-4136-BAE6-36B7EC64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313-7801-4931-A48B-98FC67A9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3E0-9F39-43AF-A726-C10892F3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0ED-79E4-46FF-853A-B9B5010E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1CC-D8D0-4990-B1FF-59DA3F57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5D8-6B6B-4B46-8F1D-FA3F9124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0C4-1A56-4C52-83EA-C048D55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516-938B-420B-ADE3-39CE097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5EB0-DEE5-4A41-9A28-744113970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и добро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Станция «Тренингов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2.bp.blogspot.com/-NRz_9q6GTj4/WiLbn1GYshI/AAAAAAAAMy0/E4iJrUwHjHoQb_zlWn1Hy4uZpZxJRwfAwCLcBGAs/s1600/Untitled-1.jpg"/>
          <p:cNvPicPr/>
          <p:nvPr/>
        </p:nvPicPr>
        <p:blipFill>
          <a:blip r:embed="rId1"/>
          <a:stretch/>
        </p:blipFill>
        <p:spPr>
          <a:xfrm>
            <a:off x="214200" y="12142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Станция «Литератур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image.jimcdn.com/app/cms/image/transf/dimension=682x2048:format=jpg/path/scde64fe950840a8d/image/ib8eb304c95bdcb0e/version/1507887798/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бери послов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2" descr=""/>
          <p:cNvPicPr/>
          <p:nvPr/>
        </p:nvPicPr>
        <p:blipFill>
          <a:blip r:embed="rId1"/>
          <a:stretch/>
        </p:blipFill>
        <p:spPr>
          <a:xfrm>
            <a:off x="-6480" y="1006560"/>
            <a:ext cx="9296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. Станция «Мультипликационная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Станция «Справоч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643040" y="500076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 мои, внушайте людям ве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аще говорите «Добрый день!»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ледуйте хорошему пример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яйте добрым словом жизнь люд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mg-fotki.yandex.ru/get/6505/47407354.6df/0_e9726_7061aec0_orig.jpg"/>
          <p:cNvPicPr/>
          <p:nvPr/>
        </p:nvPicPr>
        <p:blipFill>
          <a:blip r:embed="rId1"/>
          <a:stretch/>
        </p:blipFill>
        <p:spPr>
          <a:xfrm>
            <a:off x="285840" y="121428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71720" y="1643040"/>
            <a:ext cx="6929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 – всё положительное, хоро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з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Покаяние и спасение в религиях мира. В буддизме нет представления о Боге и гр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гласно библейскому рассказу, мир, сотворённый Богом, был прекрасен. Деревь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1. Написать сочинение на тему «Добро и зло в народных сказках». 2. Подобрать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www.diets.ru/data/cache/2012feb/03/16/588384_31081-700x500.jpg"/>
          <p:cNvPicPr/>
          <p:nvPr/>
        </p:nvPicPr>
        <p:blipFill>
          <a:blip r:embed="rId2"/>
          <a:stretch/>
        </p:blipFill>
        <p:spPr>
          <a:xfrm>
            <a:off x="71280" y="285840"/>
            <a:ext cx="3275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Станция «Синонимична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s://klv-oboi.ru/img/gallery/3/thumbs/thumb_l_8357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берите синонимы к слову «Добро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s://www.metod-kopilka.ru/images/doc/31/25034/2/img12.jpg"/>
          <p:cNvPicPr/>
          <p:nvPr/>
        </p:nvPicPr>
        <p:blipFill>
          <a:blip r:embed="rId1"/>
          <a:stretch/>
        </p:blipFill>
        <p:spPr>
          <a:xfrm>
            <a:off x="1285920" y="1571760"/>
            <a:ext cx="6643800" cy="498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s://ds03.infourok.ru/uploads/ex/0bdd/0001a604-d86b38f6/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s://bigslide.ru/images/18/17086/960/img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095480"/>
            <a:ext cx="90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подобрать антонимы к словам-злодея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дн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ос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сть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тельст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3922560" y="3244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есто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3744000" y="32446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ренингов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6:24:41Z</dcterms:created>
  <dc:creator>User</dc:creator>
  <dc:description/>
  <dc:language>en-US</dc:language>
  <cp:lastModifiedBy>User</cp:lastModifiedBy>
  <dcterms:modified xsi:type="dcterms:W3CDTF">2019-12-09T08:42:54Z</dcterms:modified>
  <cp:revision>12</cp:revision>
  <dc:subject/>
  <dc:title>Твори добро!</dc:title>
</cp:coreProperties>
</file>