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433-A979-4A5E-BE0D-98E6D7C1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1DA-4274-4930-B26C-003B5174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33E-5555-4A0B-BCAD-0CA8D658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D30-A2F3-436E-942E-1CF7B5EB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C40-FBF7-4A3F-BC3C-2F4C2068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881-5AA7-4EED-BFFF-CDDC1B39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5CD-BBC8-461E-947D-1806FFD1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EBB-FA90-4A46-9A3A-5880C12B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7A2-CC70-4F33-8497-47A3D8DF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453-AB5E-493D-B285-05DDB8B6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50D-7B24-46A5-B894-3E2E488C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141-D9BA-4C4F-B3EA-27438864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6F21-6A3A-4097-8348-B80553A93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и добро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Станция «Тренингов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s://klv-oboi.ru/img/gallery/3/thumbs/thumb_l_8357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2.bp.blogspot.com/-NRz_9q6GTj4/WiLbn1GYshI/AAAAAAAAMy0/E4iJrUwHjHoQb_zlWn1Hy4uZpZxJRwfAwCLcBGAs/s1600/Untitled-1.jpg"/>
          <p:cNvPicPr/>
          <p:nvPr/>
        </p:nvPicPr>
        <p:blipFill>
          <a:blip r:embed="rId1"/>
          <a:stretch/>
        </p:blipFill>
        <p:spPr>
          <a:xfrm>
            <a:off x="214200" y="121428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Станция «Литературн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s://klv-oboi.ru/img/gallery/3/thumbs/thumb_l_8357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image.jimcdn.com/app/cms/image/transf/dimension=682x2048:format=jpg/path/scde64fe950840a8d/image/ib8eb304c95bdcb0e/version/1507887798/im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бери послов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2" descr=""/>
          <p:cNvPicPr/>
          <p:nvPr/>
        </p:nvPicPr>
        <p:blipFill>
          <a:blip r:embed="rId1"/>
          <a:stretch/>
        </p:blipFill>
        <p:spPr>
          <a:xfrm>
            <a:off x="-6480" y="1006560"/>
            <a:ext cx="92966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Станция «Мультипликационная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s://klv-oboi.ru/img/gallery/3/thumbs/thumb_l_8357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Станция «Справочн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klv-oboi.ru/img/gallery/3/thumbs/thumb_l_8357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0579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1643040" y="5000760"/>
            <a:ext cx="61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мои, внушайте людям вер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аще говорите «Добрый день!»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ледуйте хорошему пример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яйте добрым словом жизнь люд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mg-fotki.yandex.ru/get/6505/47407354.6df/0_e9726_7061aec0_orig.jpg"/>
          <p:cNvPicPr/>
          <p:nvPr/>
        </p:nvPicPr>
        <p:blipFill>
          <a:blip r:embed="rId1"/>
          <a:stretch/>
        </p:blipFill>
        <p:spPr>
          <a:xfrm>
            <a:off x="285840" y="1214280"/>
            <a:ext cx="8501040" cy="5357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чен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71720" y="1643040"/>
            <a:ext cx="6929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 – всё положительное, хорош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ез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Покаяние и спасение в религиях мира. В буддизме нет представления о Боге и гр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огласно библейскому рассказу, мир, сотворённый Богом, был прекрасен. Деревь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1. Написать сочинение на тему «Добро и зло в народных сказках». 2. Подобрать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s://www.diets.ru/data/cache/2012feb/03/16/588384_31081-700x500.jpg"/>
          <p:cNvPicPr/>
          <p:nvPr/>
        </p:nvPicPr>
        <p:blipFill>
          <a:blip r:embed="rId2"/>
          <a:stretch/>
        </p:blipFill>
        <p:spPr>
          <a:xfrm>
            <a:off x="71280" y="285840"/>
            <a:ext cx="3275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Станция «Синонимичн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s://klv-oboi.ru/img/gallery/3/thumbs/thumb_l_8357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берите синонимы к слову «Добр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s://www.metod-kopilka.ru/images/doc/31/25034/2/img12.jpg"/>
          <p:cNvPicPr/>
          <p:nvPr/>
        </p:nvPicPr>
        <p:blipFill>
          <a:blip r:embed="rId1"/>
          <a:stretch/>
        </p:blipFill>
        <p:spPr>
          <a:xfrm>
            <a:off x="1285920" y="1571760"/>
            <a:ext cx="6643800" cy="498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s://ds03.infourok.ru/uploads/ex/0bdd/0001a604-d86b38f6/im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s://bigslide.ru/images/18/17086/960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1095480"/>
            <a:ext cx="90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подобрать антонимы к словам-злодея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д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сть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тельст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3922560" y="3244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Тестов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3744000" y="32446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Тренингов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5T16:24:41Z</dcterms:created>
  <dc:creator>User</dc:creator>
  <dc:description/>
  <dc:language>en-US</dc:language>
  <cp:lastModifiedBy>User</cp:lastModifiedBy>
  <dcterms:modified xsi:type="dcterms:W3CDTF">2019-12-09T08:42:54Z</dcterms:modified>
  <cp:revision>12</cp:revision>
  <dc:subject/>
  <dc:title>Твори добро!</dc:title>
</cp:coreProperties>
</file>