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3843-DEAD-456F-A6AD-3F875CF6C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D1BE-A7BA-4D84-BE2D-2A20B4871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EBFAF-AA55-46FD-823D-A24B6CE5B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A0285-4AD9-4A6F-8091-868F30621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9FDE8-7344-4E53-9C0D-B20075D9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4852F-0C4A-477F-ACE2-7D302074F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87E0-15B2-4758-A71C-D605D991C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4FC3-C5B8-4180-BEA2-C0EB873AD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01E0-A6D2-4C5E-963C-CBFD5B91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4BB6-9A17-4A86-8FE1-264D2FFC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0586-2ED8-4FB1-AAD4-1D5CB60D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6DBC-4C45-466B-AF37-567CC91D4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7A9E-F0B6-409B-BC66-81919AF52F2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857160" y="1928880"/>
            <a:ext cx="721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Техники управления стрессом</a:t>
            </a:r>
            <a:endParaRPr b="0" lang="en-US" sz="3600" spc="-1" strike="noStrike">
              <a:solidFill>
                <a:srgbClr val="000000"/>
              </a:solidFill>
              <a:latin typeface="Calibri"/>
            </a:endParaRPr>
          </a:p>
        </p:txBody>
      </p:sp>
      <p:sp>
        <p:nvSpPr>
          <p:cNvPr id="42" name="TextBox 4"/>
          <p:cNvSpPr/>
          <p:nvPr/>
        </p:nvSpPr>
        <p:spPr>
          <a:xfrm>
            <a:off x="428760" y="5286240"/>
            <a:ext cx="43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стер-класс</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ставитель: Ирина Вавилова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014 год</a:t>
            </a:r>
            <a:endParaRPr b="0" lang="en-US" sz="2400" spc="-1" strike="noStrike">
              <a:solidFill>
                <a:srgbClr val="000000"/>
              </a:solidFill>
              <a:latin typeface="Calibri"/>
            </a:endParaRPr>
          </a:p>
        </p:txBody>
      </p:sp>
      <p:pic>
        <p:nvPicPr>
          <p:cNvPr id="43" name="Picture 2" descr="http://gov.cap.ru/UserFiles/news/201404/18/Original/stopstress.jpg"/>
          <p:cNvPicPr/>
          <p:nvPr/>
        </p:nvPicPr>
        <p:blipFill>
          <a:blip r:embed="rId1"/>
          <a:stretch/>
        </p:blipFill>
        <p:spPr>
          <a:xfrm>
            <a:off x="5072040" y="2786040"/>
            <a:ext cx="3786120" cy="37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грамма мастер-класса:</a:t>
            </a:r>
            <a:endParaRPr b="0" lang="en-US" sz="4400" spc="-1" strike="noStrike">
              <a:solidFill>
                <a:srgbClr val="000000"/>
              </a:solidFill>
              <a:latin typeface="Calibri"/>
            </a:endParaRPr>
          </a:p>
        </p:txBody>
      </p:sp>
      <p:sp>
        <p:nvSpPr>
          <p:cNvPr id="45" name="TextBox 2"/>
          <p:cNvSpPr/>
          <p:nvPr/>
        </p:nvSpPr>
        <p:spPr>
          <a:xfrm>
            <a:off x="571680" y="1571760"/>
            <a:ext cx="7715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Что такое стресс?</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Техники управления стрессом:</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грессивная мышечная релаксация;</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ыхательная медитация;</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актика медитации сканирования тела;</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актика визуализац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такое стресс?</a:t>
            </a:r>
            <a:endParaRPr b="0" lang="en-US" sz="4400" spc="-1" strike="noStrike">
              <a:solidFill>
                <a:srgbClr val="000000"/>
              </a:solidFill>
              <a:latin typeface="Calibri"/>
            </a:endParaRPr>
          </a:p>
        </p:txBody>
      </p:sp>
      <p:pic>
        <p:nvPicPr>
          <p:cNvPr id="47" name="Picture 2" descr="Снятие стресса. Управление стрессом. Как самостоятельно снять стресс. Снятие стресса через глубокое расслабление."/>
          <p:cNvPicPr/>
          <p:nvPr/>
        </p:nvPicPr>
        <p:blipFill>
          <a:blip r:embed="rId1"/>
          <a:stretch/>
        </p:blipFill>
        <p:spPr>
          <a:xfrm>
            <a:off x="0" y="1643040"/>
            <a:ext cx="8988480" cy="468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грессивная мышечная релаксация</a:t>
            </a:r>
            <a:endParaRPr b="0" lang="en-US" sz="4000" spc="-1" strike="noStrike">
              <a:solidFill>
                <a:srgbClr val="000000"/>
              </a:solidFill>
              <a:latin typeface="Calibri"/>
            </a:endParaRPr>
          </a:p>
        </p:txBody>
      </p:sp>
      <p:sp>
        <p:nvSpPr>
          <p:cNvPr id="49" name="TextBox 2"/>
          <p:cNvSpPr/>
          <p:nvPr/>
        </p:nvSpPr>
        <p:spPr>
          <a:xfrm>
            <a:off x="357120" y="1285920"/>
            <a:ext cx="83581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Техника </a:t>
            </a:r>
            <a:r>
              <a:rPr b="1" lang="ru-RU" sz="1600" spc="-1" strike="noStrike">
                <a:solidFill>
                  <a:srgbClr val="000000"/>
                </a:solidFill>
                <a:latin typeface="Calibri"/>
              </a:rPr>
              <a:t>прогрессивной мышечной релаксации </a:t>
            </a:r>
            <a:r>
              <a:rPr b="0" lang="ru-RU" sz="1600" spc="-1" strike="noStrike">
                <a:solidFill>
                  <a:srgbClr val="000000"/>
                </a:solidFill>
                <a:latin typeface="Calibri"/>
              </a:rPr>
              <a:t>была разработана американским врачом Эдмундом Джекобсоном в 1939 году. Техника основана на том, что если напряжение мышц сопровождает беспокойство, то расслабление мышц позволит его уменьшить. Выполняя упражнение, не напрягайте мышцы слишком сильно, и не напрягайте мышцы, не относящиеся к определенной группе, упомянутой на данном этапе. После релаксации напряжения мышцы должны быть более расслабленные, чем до напряжения. Сядьте в кресло поудобнее или лягте. Сделайте несколько медленных вдохов и выдохов. Затем начинайте упражнения в следующей последовательности:</a:t>
            </a:r>
            <a:endParaRPr b="0" lang="en-US" sz="1600" spc="-1" strike="noStrike">
              <a:solidFill>
                <a:srgbClr val="000000"/>
              </a:solidFill>
              <a:latin typeface="Calibri"/>
            </a:endParaRPr>
          </a:p>
        </p:txBody>
      </p:sp>
      <p:sp>
        <p:nvSpPr>
          <p:cNvPr id="50" name="TextBox 3"/>
          <p:cNvSpPr/>
          <p:nvPr/>
        </p:nvSpPr>
        <p:spPr>
          <a:xfrm>
            <a:off x="428760" y="3303720"/>
            <a:ext cx="8358120" cy="3517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Руки. Кулаки сжаты; расслаблены. Пальцы растопырены; расслаблены.</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ицепсы и трицепсы. Бицепсы напряжены (напрягите мышцу, но встряхните кисти, чтобы убедиться, что они не сжаты в кулаки); расслаблены (опустите руки на кресло). Трицепсы напряжены (попытайтесь согнуть руки в другую сторону); расслаблены (опустите их).</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лечи. Отведите плечи назад (осторожно); расслабьте. Выдвиньте их вперед (толчком); расслабьтесь.</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Шея (боковые мышцы). Плечи ровные, расслабленные, голову медленно поворачивайте вправо насколько это возможно; расслабьте. Поворот влево; расслабьте.</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Шея (передние мышцы). Прижмите подбородок к груди; расслабьте (запрокидывать голову назад не рекомендуется, так как вы можете сломать шею).</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Рот. Рот открыт как можно шире; расслаблен. Губы сведены вместе и сжаты как можно крепче; расслаблены.</a:t>
            </a:r>
            <a:endParaRPr b="0" lang="en-US" sz="15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Язык (высунутый и втянутый). Откройте рот и высуньте язык как можно дальше; расслабьте (пусть он свободно лежит на дне ротовой полости). Втяните его обратно в гортань как можно глубже; расслабьте.</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85840" y="27432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грессивная мышечная релаксация</a:t>
            </a:r>
            <a:endParaRPr b="0" lang="en-US" sz="4000" spc="-1" strike="noStrike">
              <a:solidFill>
                <a:srgbClr val="000000"/>
              </a:solidFill>
              <a:latin typeface="Calibri"/>
            </a:endParaRPr>
          </a:p>
        </p:txBody>
      </p:sp>
      <p:sp>
        <p:nvSpPr>
          <p:cNvPr id="52" name="TextBox 2"/>
          <p:cNvSpPr/>
          <p:nvPr/>
        </p:nvSpPr>
        <p:spPr>
          <a:xfrm>
            <a:off x="428760" y="1357200"/>
            <a:ext cx="8358120" cy="53132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 Язык (небо и дно). Прижмите язык к нёбу; расслабьте. Прижмите его к дну ротовой полости; расслабьте. </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9. Глаза. Откройте их как можно шире (наморщите брови); расслабьте. Крепко зажмурьтесь; расслабьтесь. Убедитесь. Что вы полностью расслабили мышцы глаз, лба, носа после каждого напряжения.</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0. Дыхание. Вдохните как можно глубже – а потом еще немного; выдохните и дышите нормально в течение 15 секунд. Выпустите весь воздух из легких – а потом еще немного; вдохните и дышите нормально в течение 15 секунд.</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1. Спина. Прижмите плечи к спинке  кресла и вытолкните тело вперед так, чтобы спина выгнулась; расслабьтесь. Делайте это упражнение с осторожностью или не делайте его вообще.</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2. Ягодицы. Сильно напрягите ягодицы и приподнимите таз над сиденьем; расслабьтесь. Прижмите ягодицы к креслу; расслабьтесь.</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3. Бедра. Вытяните ноги и поднимите их на 15 см от пола или подножки, но не напрягайте мышцы живота; расслабьтесь. Прижмите ступни (пятки) к полу или подножке; расслабьтесь.</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4. Живот. Втяните  живот как можно сильнее; полностью расслабьтесь.  Надуйте живот или напрягите мышцы так, как будто вы готовитесь к удару; расслабьтесь.</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5. Икры и ступни. Поднимите пальцы ног (не поднимая ноги); расслабьтесь. Поднимите вверх ступни как можно выше (остерегайтесь судорог – если они возникнут, или вы почувствуете их приближение, встряхните ступни); расслабьтесь.</a:t>
            </a:r>
            <a:endParaRPr b="0" lang="en-US" sz="15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6. Пальцы ног. Ноги расслабьте, прижмите пальцы ног к полу; расслабьтесь. Поднимите пальцы ног как можно выше; расслабьтесь.</a:t>
            </a:r>
            <a:endParaRPr b="0" lang="en-US" sz="15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Как пережить завал на работе"/>
          <p:cNvPicPr/>
          <p:nvPr/>
        </p:nvPicPr>
        <p:blipFill>
          <a:blip r:embed="rId1"/>
          <a:stretch/>
        </p:blipFill>
        <p:spPr>
          <a:xfrm>
            <a:off x="5500800" y="4068720"/>
            <a:ext cx="3643200" cy="278928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ыхательная медитация</a:t>
            </a:r>
            <a:endParaRPr b="0" lang="en-US" sz="4400" spc="-1" strike="noStrike">
              <a:solidFill>
                <a:srgbClr val="000000"/>
              </a:solidFill>
              <a:latin typeface="Calibri"/>
            </a:endParaRPr>
          </a:p>
        </p:txBody>
      </p:sp>
      <p:sp>
        <p:nvSpPr>
          <p:cNvPr id="55" name="TextBox 3"/>
          <p:cNvSpPr/>
          <p:nvPr/>
        </p:nvSpPr>
        <p:spPr>
          <a:xfrm>
            <a:off x="428760" y="1428840"/>
            <a:ext cx="8358120" cy="40579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ли возможно, прилягте или сядьте поудобнее.</a:t>
            </a:r>
            <a:endParaRPr b="0" lang="en-US" sz="20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кройте глаза и сосредоточьте свое внимание на ноздрях, как в них проникает воздух.</a:t>
            </a:r>
            <a:endParaRPr b="0" lang="en-US" sz="20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делайте медленный и глубокий вдох через нос. Обратите внимание, что проникающий в нос воздух – холодный.</a:t>
            </a:r>
            <a:endParaRPr b="0" lang="en-US" sz="20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держите дыхание на несколько секунд, удерживая внимание в той же самой точке.</a:t>
            </a:r>
            <a:endParaRPr b="0" lang="en-US" sz="20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ленно и спокойно выдохните через нос. Обратите внимание на то, что воздух, выходя из ноздрей, уже теплый.</a:t>
            </a:r>
            <a:endParaRPr b="0" lang="en-US" sz="20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полняйте несколько минут, пока не уйдут </a:t>
            </a:r>
            <a:endParaRPr b="0" lang="en-US" sz="20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тревожащие вас мысли, и вы не почувствуете</a:t>
            </a:r>
            <a:endParaRPr b="0" lang="en-US" sz="20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ебя спокойным.</a:t>
            </a:r>
            <a:endParaRPr b="0" lang="en-US" sz="2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актика медитации сканирования тела</a:t>
            </a:r>
            <a:endParaRPr b="0" lang="en-US" sz="4000" spc="-1" strike="noStrike">
              <a:solidFill>
                <a:srgbClr val="000000"/>
              </a:solidFill>
              <a:latin typeface="Calibri"/>
            </a:endParaRPr>
          </a:p>
        </p:txBody>
      </p:sp>
      <p:sp>
        <p:nvSpPr>
          <p:cNvPr id="57" name="TextBox 2"/>
          <p:cNvSpPr/>
          <p:nvPr/>
        </p:nvSpPr>
        <p:spPr>
          <a:xfrm>
            <a:off x="357120" y="1714680"/>
            <a:ext cx="84297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Сканирование тела </a:t>
            </a:r>
            <a:r>
              <a:rPr b="0" lang="ru-RU" sz="1800" spc="-1" strike="noStrike">
                <a:solidFill>
                  <a:srgbClr val="000000"/>
                </a:solidFill>
                <a:latin typeface="Calibri"/>
              </a:rPr>
              <a:t>заключается в том, что вы поочередно направляете внимание на ту или иную часть тела и расслабляете ее. За несколько минут можно пройти все тело от кончиков пальцев до макушки. Эта релаксация является эффективным способом подготовки тела ко сну. Продвинутым способом такой релаксации является направление внимания, расслабление и выражение благодарности каждой части тела за хорошую работу. Это активирует наши позитивные эмоции и дарит нам дополнительную энергию.</a:t>
            </a:r>
            <a:endParaRPr b="0" lang="en-US" sz="1800" spc="-1" strike="noStrike">
              <a:solidFill>
                <a:srgbClr val="000000"/>
              </a:solidFill>
              <a:latin typeface="Calibri"/>
            </a:endParaRPr>
          </a:p>
        </p:txBody>
      </p:sp>
      <p:pic>
        <p:nvPicPr>
          <p:cNvPr id="58" name="Picture 2" descr="ТРЕНИНГ &quot;Основы управления собственной энергией&quot; Harmony in Life Coach Harmony in Life Coach"/>
          <p:cNvPicPr/>
          <p:nvPr/>
        </p:nvPicPr>
        <p:blipFill>
          <a:blip r:embed="rId1"/>
          <a:stretch/>
        </p:blipFill>
        <p:spPr>
          <a:xfrm>
            <a:off x="2214720" y="3857760"/>
            <a:ext cx="40719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актика визуализации</a:t>
            </a:r>
            <a:endParaRPr b="0" lang="en-US" sz="4400" spc="-1" strike="noStrike">
              <a:solidFill>
                <a:srgbClr val="000000"/>
              </a:solidFill>
              <a:latin typeface="Calibri"/>
            </a:endParaRPr>
          </a:p>
        </p:txBody>
      </p:sp>
      <p:sp>
        <p:nvSpPr>
          <p:cNvPr id="60" name="TextBox 2"/>
          <p:cNvSpPr/>
          <p:nvPr/>
        </p:nvSpPr>
        <p:spPr>
          <a:xfrm>
            <a:off x="357120" y="1500120"/>
            <a:ext cx="8358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изуализация –</a:t>
            </a:r>
            <a:r>
              <a:rPr b="0" lang="ru-RU" sz="1800" spc="-1" strike="noStrike">
                <a:solidFill>
                  <a:srgbClr val="000000"/>
                </a:solidFill>
                <a:latin typeface="Calibri"/>
              </a:rPr>
              <a:t> это мощный инструмент сознания. Исследования показали, что подсознание не может отличить реальные события от визуализированных. Поэтому визуализированные образы оказывают значительное влияние на сознани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ядьте поудобнее или лягте. Закройте глаза и сделайте несколько медленных вдохов. Выключите все средства коммуникации, чтоб не отвлекаться.</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ставьте себя в тихом и свободном месте на ваш выбор. Это может быть пустынный пляж, лес, лодка или любое другое место, где вы чувствуете себя расслабленным.</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держивайте этот образ и, испытывая блаженство момента, представьте все позитивные чувства, которые возникают в этом мест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ем реалистичнее будет изображение, тем больше позитивных эмоций вы получит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вы почувствуете себя комфортно и спокойно, медленно выйдите из воображаемого мира и вернитесь в реальны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6T15:54:25Z</dcterms:created>
  <dc:creator>User</dc:creator>
  <dc:description/>
  <dc:language>en-US</dc:language>
  <cp:lastModifiedBy>User</cp:lastModifiedBy>
  <dcterms:modified xsi:type="dcterms:W3CDTF">2014-12-06T17:15:41Z</dcterms:modified>
  <cp:revision>1</cp:revision>
  <dc:subject/>
  <dc:title>Слайд 1</dc:title>
</cp:coreProperties>
</file>