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0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0589267950143367"/>
          <c:y val="0.0345750613428508"/>
          <c:w val="0.538943179823278"/>
          <c:h val="0.714365380325675"/>
        </c:manualLayout>
      </c:layout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бессоница</c:v>
                </c:pt>
              </c:strCache>
            </c:strRef>
          </c:tx>
          <c:spPr>
            <a:solidFill>
              <a:srgbClr val="008bc1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онливость днем</c:v>
                </c:pt>
              </c:strCache>
            </c:strRef>
          </c:tx>
          <c:spPr>
            <a:solidFill>
              <a:srgbClr val="09b9c1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2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головные боли</c:v>
                </c:pt>
              </c:strCache>
            </c:strRef>
          </c:tx>
          <c:spPr>
            <a:solidFill>
              <a:srgbClr val="0eb88a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боли в сердце</c:v>
                </c:pt>
              </c:strCache>
            </c:strRef>
          </c:tx>
          <c:spPr>
            <a:solidFill>
              <a:srgbClr val="6eb357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11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пониж. зрения</c:v>
                </c:pt>
              </c:strCache>
            </c:strRef>
          </c:tx>
          <c:spPr>
            <a:solidFill>
              <a:srgbClr val="92ac41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12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частая утомляемость</c:v>
                </c:pt>
              </c:strCache>
            </c:strRef>
          </c:tx>
          <c:spPr>
            <a:solidFill>
              <a:srgbClr val="87a0d5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21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здоровы</c:v>
                </c:pt>
              </c:strCache>
            </c:strRef>
          </c:tx>
          <c:spPr>
            <a:solidFill>
              <a:srgbClr val="87bae2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4</c:v>
                </c:pt>
              </c:numCache>
            </c:numRef>
          </c:val>
        </c:ser>
        <c:gapWidth val="150"/>
        <c:shape val="cylinder"/>
        <c:axId val="48066928"/>
        <c:axId val="78690190"/>
      </c:bar3DChart>
      <c:catAx>
        <c:axId val="48066928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  <a:ea typeface="DejaVu Sans"/>
              </a:defRPr>
            </a:pPr>
          </a:p>
        </c:txPr>
        <c:crossAx val="78690190"/>
        <c:crosses val="autoZero"/>
        <c:auto val="1"/>
        <c:lblAlgn val="ctr"/>
        <c:lblOffset val="100"/>
        <c:noMultiLvlLbl val="0"/>
      </c:catAx>
      <c:valAx>
        <c:axId val="78690190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s&quot;tan&quot;d\ayyyyd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  <a:ea typeface="DejaVu Sans"/>
              </a:defRPr>
            </a:pPr>
          </a:p>
        </c:txPr>
        <c:crossAx val="48066928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94540347592018"/>
          <c:y val="0.10941333928173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  <a:ea typeface="DejaVu Sans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ADF-C5C5-461F-A7DA-B66C18CD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0E8-0ABF-445F-B097-75C12588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53F87-CC5B-4A51-A469-3DE0385E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64947-54ED-4C0E-8401-340D45BD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8DFA1-C111-498C-B2E0-99DB12A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442C-6C00-41D3-A2C5-118C03E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F4DBB-6F53-4033-B03C-05AD8FC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9B13-B1AF-48FE-AD3B-CA4EBEC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01F9-8589-4DE9-BC1F-59FE0B7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1060A-1B94-4ECF-9537-2E47D60E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E8A9F-2C4A-4636-A953-3CFD142C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D729-F085-4348-859C-5C792418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176-8FC0-45E7-90C2-76E74A3E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0205B-9799-4961-ABCE-7F30F8E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E9760-EC83-4EC7-8A3C-8F0C29DE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A78E6-1FCA-457B-9AF9-7D32D24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FCB1-6830-4140-9EDD-5A703E6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8444E-8D69-4E43-A472-1D330AD0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0FB06-7D26-49E5-8331-60AABFD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8EB5F-7271-43EE-8240-11A26D6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EC1E1-15B9-47DB-9947-5E409E4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B0F5C-4B39-432F-A8F6-A9A60DC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A1C83-FD68-45B0-8D7E-A97F83D9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F3D-A7E8-45AB-9DD2-52902F2E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DB29D-4510-4EE1-8BDA-826D0C40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20615-A654-4C7E-ABB0-DEDA04F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F81A1-8414-41CB-94DF-59C64794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B3AF-6A8B-4551-8970-A50746D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05AC8-9D04-4F91-9733-ADC91A0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E8C1A-EE19-463E-8C85-FE945C91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685D-5F13-4CF9-B68E-F1BDB20A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D839D-3106-41A4-8CFD-09B2935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EF54E-9DB7-4BD2-84C7-F43FA9F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6867F-0561-4BD6-82CF-8E42483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5795-0AD0-4382-9627-E1BCEE9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EF722-DC49-42B8-B300-0156DE9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6AEE-D6EF-4CC0-9426-740D80E8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61F6-EFA4-4201-8307-53C47798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2FB45-0885-4ED9-A0CA-F2F8C16F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8F723-5422-403B-A98B-0ECC99B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5929-135D-4179-820A-57E2BC7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BAC15-0CE3-47AD-9FCB-DBD90D7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6A66-3BFF-4A2D-8358-D4A036AA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C1099-9580-46E4-92AE-9B932A1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A48A5-F7AE-4219-A2A1-724D983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5EC-8414-43E2-8C18-8BBA4C76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C35BD-72E7-4B58-9D6D-3F5BB19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3971C-4EAC-45DD-8446-A205710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9CD5A-733A-4912-BEA9-383AD9F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5A88C-2CB7-409A-B95F-9EB2C295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705C4-F772-41A5-A9B8-CE794936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39FF0-BF56-480B-9A68-9971CF74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E249F-B54B-46A8-833D-0E592509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6E250-951F-48DA-B50E-2C758A0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FB1AF-4A64-4284-94CE-FBA894F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12024-943A-482F-A469-E8A5199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95A0-4AD2-4AB4-AE0B-94F0914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348EF-4458-4CF7-A842-6F44191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CA45A-1F1E-4928-B003-CCA32B1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32721-FA2F-486F-9D41-2949BA5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69B90-4F18-421C-801B-4A4F7F4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60831-5B8D-423F-8DBE-590C9689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7E332-73DC-4A91-A2C1-56F7DDB5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11739-B7C5-48E0-A51E-3DD98EBE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27846-725E-40E7-9EA0-43437DA7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9F622-5AE6-4F73-A64D-A1C5B570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B9980-126C-4192-A78E-998AE723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7F86-B92D-41EB-AF20-3A1D9242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01A85-633F-4B11-88D4-0C4D540A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33E0C-A418-4DF2-9AD5-7F7C1D3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39FC8-5FC2-43E2-8E9A-349DE83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3B030-B826-4D71-9517-25F245D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2FE97-A704-4CB9-9E1F-44C4B13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1A09A-6404-40CB-AFA4-84BAED85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F3761-BCC7-4BF2-87B6-93E5D5C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9B142-3C3D-4E07-87B9-95382529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323FD-DBB5-4096-9DCD-2B233C41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7D30A-DB3E-4E1B-9DF2-9B1DA1EE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E24-E220-409B-B290-F5073885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55418-4504-468F-ACA3-1316D715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108A8-CD68-40CB-8160-5525801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0B6D0-02FB-4250-AFF4-F7D88482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21595-D8C3-474C-8CC0-F1D34017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C308A-99E2-43F5-B3B4-18E90E5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49F22-7B7E-4850-B9FF-121E985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5D447-798B-4F25-995A-FA170D0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2E5A0-2870-40ED-8356-ED7BE60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BF130-60F6-4077-A070-A9AE36BC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F12AE-553D-44D4-9667-DEB2BEDB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8ED-642C-4925-BB69-E962800A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B8D1E-224B-4C4F-9E46-18139A76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F43AB-0933-4637-86D6-8CB1023F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84E06-FF29-4AC3-A51E-DF1FAD1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7BDEC-BF66-49B7-AD8D-2A41AEF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73080-059B-448A-B0AA-34F36B2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1C69F-2128-410B-9AFE-BFC43CB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04D1A-16C2-4427-945A-83EAD29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D4739-EDD8-477D-807A-A9D1877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16383-DDCA-4B90-9528-67E3FBB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8B3DB-6AEC-4628-A550-B2BD8A9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D90-3974-4789-B1B7-7CE11C74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8BC5C-D47B-49D9-B9AC-D275ABE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186AA-7F69-43C7-B390-0055C43E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CE3A9-D5E1-4CD8-A896-20DE4673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0D86A-8F39-49FB-9C2B-23964890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65F01-620D-41C8-BEAB-36ACCC1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220E0-1EB9-4E6F-832B-E143EBF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12C4C-817B-4DDE-AABA-59EC3594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19F7E-CC42-43CB-986F-6C83F920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6BB8E-2283-4AB5-81A3-276A75A5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C7E27-D40B-4363-8CF3-00F3A7A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AD1-2278-4720-812F-919346F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893A-3892-4B8F-AFD5-8C5C9B8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41DBF-5CB3-4107-8F97-B5AC69F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B72E0-7984-44D4-84B9-4D8F0CA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B4C3D-D6C0-44D1-B649-BDF7E67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B2908-5A77-4903-B3C6-766AB679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651A6-91AB-4088-8640-7F45ADDC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04E-2605-4300-AF17-5C5F6EB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3BCB-92F1-4117-BAAA-3746991F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BCB9-D0A2-4213-B6F9-C7E6E51C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1ED-8495-4F63-9919-559E315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7C7A-CFB2-4646-A37D-C7E119F4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4AA0-D332-4646-813B-1332776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E406-A959-40F1-B766-A98AB27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B12C-6DF8-4B18-BAF8-ECA6002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6DD7-61AF-4BA6-8780-C263A05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7FD-BDBB-476D-A7B8-6F3CEDD4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B062-651A-4B30-A31B-54E3B76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BE0F-3702-4C8B-8290-432FAAD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320F-58AD-4C73-B8BF-28B7E34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AE35-C7AD-4723-99A0-FB559F9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8B56-09C9-476E-A734-4917949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B912-D19F-4093-B572-30C0F429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E496-72A5-4D29-B852-13474510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0E38-E897-4F7D-9E65-A600E849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7DE9-EC13-4889-9538-9BBC9B2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1047-E77A-4A51-AFD3-BEAAB18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21A-8D0B-4C25-9F59-BCC4C9AC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DAD7-A7A9-451C-A60B-24F83C4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5AF4-CF46-41CE-B83D-0656F940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8743-3A8B-4954-B5F8-C3DA2B8B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7B0A-C27B-4AC2-9407-E24F0512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E14A-2EBD-40B2-811E-58B2532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714C-30BD-4576-B0EF-DE1AC59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E0A0-1E4A-4A7F-A4E4-C75075D7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C503-B126-4F79-B887-B55971DD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E42B-F769-46F7-9678-1D53EC74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977D-81C4-4E43-A5B1-E3251B68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0F9-74A1-49B9-B97A-A520F01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A3E1-9131-41DF-A632-F33C77C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11BC-E6EA-45A0-A973-A094A0C2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99EF-263B-4471-8ED1-7ACD3AB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A879-9243-4CF0-9DE6-5576268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503DA-2459-4C70-95FC-901828C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B95B-4AA8-4DE4-AC8F-7B12C10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6C6E-04D5-46BA-9CA9-77C751E0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8FC1-5AD2-4BBD-B1A6-2319B53E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365F-A7CB-409D-9146-C990A23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7CE9-419D-4760-8D0D-1CA484F6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8C9-4984-4122-8967-7F959B86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E635-4C6F-47E8-8D8D-5B3E546E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08D9-0194-40B5-8C54-2AE0540C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25C9-819F-4AA4-B378-87EE2F6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44E1-A2E8-4FC9-BFD0-B48C467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7AA6-CDE8-43BB-9B1D-754C893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8EFF-7E5E-4845-B458-76D0220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CDD8-4DB2-4C4C-A97B-C191BF1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05C56-B7D1-4635-B42C-EC38821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DBD1-4C48-4891-A625-08B7C77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02E3-70B3-4376-811A-F55A738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853-81C9-4036-94EC-BD0F33A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BCA1-2E8C-4D59-AC89-22290D8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EFA78-7BB7-44D7-9B9F-A0D90071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15EA-524C-4EF0-A852-7DE1A0C1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45E0-862C-4C63-A680-DA36ABB4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2C95-FC92-4022-9E67-A913861D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5617-CE77-4D7C-AD53-2C6437E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97A0-A389-4D69-B2A6-CB2831B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7003-4E65-4000-8A90-D888C32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2584-6225-4648-A60A-5441C07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ED8D3-DB1E-4858-9916-10E0B1A0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8C9-C4FA-42E8-8B41-4D02DFA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ACF0-9913-43E4-8C97-897EB4D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07CA-248A-45AE-A4D7-F0EC4F6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B899-4C81-415F-91B4-1C9E7642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7E60-CDFD-4DB2-9000-711A179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EE33-202E-4C99-857B-DA0FA621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F0F2-F62C-4759-92F0-9EA70D52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8E06-B625-4FAD-A21F-E90F9F0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E425-E0E1-4F49-8AE6-5506B61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197D-2E8F-4AA2-B3C9-679DE10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FBE1-F712-4901-84EC-4139E07F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C1E-77DD-4707-A4E0-82ECC42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0202-341E-4151-9BF9-ECA275BB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5D9C-7DA0-4DDD-916D-1052F91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1D08-5CCB-4E03-BE5A-1F0F956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288D-8641-458A-9815-4C490C7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6A48-468D-42E1-BDBC-C959800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63E6-2F25-4903-870E-39C3C285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8C9D-D326-4269-BAAD-978DB422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D9655-FC36-4BE6-9F30-857F1D7E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52F71-4306-446C-96FF-517BB063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AD6A9-E73D-482A-82E5-6C27214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91914-D5A7-47D8-829C-F4BEF177DAB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AEB21-DACD-4AA8-BA56-39FEB3319AC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3FCAF-F51B-4327-AF3C-259899706AA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ca0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ca0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FFFB2-7230-48A7-82F2-98C246D0D97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8A4B5-6B77-4DB2-8085-AA60829F0FB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ca0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ca0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A174F-DDE4-4A30-A205-A3A1A7A4188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AABA7-4D83-44CF-963A-EA567BCCD5F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87A4E-A58C-46A4-87CB-E67791224BC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0D6D2-44F5-4E3F-A125-04A41DC39FD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82380-3A05-477C-8F4F-39453777905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92494-6849-4167-AA50-6FDE3C82112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8578C-B70F-4057-9C88-982D253A225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EF487-6DB1-4F30-84F0-3985A7EB6AA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B1025-3557-4EB6-9364-EA7E47F1BA6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F7C9B-CCA6-41EA-BFF1-235353DCA37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45965-0503-4CBD-A82E-8251B0294B3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9302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9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93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554D3-F367-41B5-9165-8EAC1D171B1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736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                   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Вред и польза 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         сотового телефон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2590560" y="4508280"/>
            <a:ext cx="655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971640" y="18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1"/>
          <p:cNvSpPr/>
          <p:nvPr/>
        </p:nvSpPr>
        <p:spPr>
          <a:xfrm>
            <a:off x="457200" y="704880"/>
            <a:ext cx="8228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  <a:ea typeface="Microsoft YaHei"/>
              </a:rPr>
              <a:t>Рекомендации по использованию сотового телефон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Rectangle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ыключайте телефон там, где его использование запрещено (в больницах и т. д.)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Радиоволны могут оказывать отрицательное воздействие на работу всех мобильных телефоно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Не носите сотовый телефон на теле! Во время дозвона держите телефон на расстоян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lnSpc>
                <a:spcPct val="100000"/>
              </a:lnSpc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Каждый разговор должен длиться не более трех минут, перерыв между звонками – не менее 15 минут. Используйте функцию «громкой связи» и аппараты с технологией беспроводной связи «блю тус» или пишите SМS. Главное – убрать телефон подальше от голов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                       </a:t>
            </a: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Сотовый телефон и дети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457200" y="5589360"/>
            <a:ext cx="8686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 сожалению, в настоящее время сотовый телефон стал «другом» для большинства детей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1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6960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              </a:t>
            </a:r>
            <a:r>
              <a:rPr b="1" lang="ru-RU" sz="2900" spc="-1" strike="noStrike">
                <a:solidFill>
                  <a:srgbClr val="262626"/>
                </a:solidFill>
                <a:latin typeface="Century Gothic"/>
              </a:rPr>
              <a:t>Можно ли защититься от излучения?</a:t>
            </a: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Text Box 2"/>
          <p:cNvSpPr/>
          <p:nvPr/>
        </p:nvSpPr>
        <p:spPr>
          <a:xfrm>
            <a:off x="468360" y="2421000"/>
            <a:ext cx="4248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Защита от излучения – это дело сложное. Приходится сказать: эффективной защиты от излучения телефона не существует, в противном случае он просто не будет работа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едприимчивые производители предлагают «защитные» чехлы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4" name="Picture 3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543480" cy="3147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497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равила безопасного пользования сотовым телефоном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178920" y="1196640"/>
            <a:ext cx="475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ca08"/>
              </a:buClr>
              <a:buSzPct val="200000"/>
              <a:buFont typeface="Wingdings" charset="2"/>
              <a:buChar char="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Не вешайте телефоны на шею,  не держите во внутреннем кармане или в кармане брюк, положите его в сумк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ca08"/>
              </a:buClr>
              <a:buSzPct val="200000"/>
              <a:buFont typeface="Wingdings" charset="2"/>
              <a:buChar char="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Детям и подросткам нужно ограничивать время использования телефонами, поскольку их мозг и нервная система всё ёще находятся в процессе формирования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ca08"/>
              </a:buClr>
              <a:buSzPct val="200000"/>
              <a:buFont typeface="Wingdings" charset="2"/>
              <a:buChar char="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Сократите до минимума разговоры в местах с плохой связью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ca08"/>
              </a:buClr>
              <a:buSzPct val="200000"/>
              <a:buFont typeface="Wingdings" charset="2"/>
              <a:buChar char="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омните, что максимальная мощность излучается сотовым телефоном во время установления связи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ca08"/>
              </a:buClr>
              <a:buSzPct val="200000"/>
              <a:buFont typeface="Wingdings" charset="2"/>
              <a:buChar char="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 покупке телефона будьте внимательны и обращайте внимание на значение SAR. Чем меньше SAR, тем  безопаснее телефон для человек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7" name="Picture 3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600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                              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Заключен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Text Box 2"/>
          <p:cNvSpPr/>
          <p:nvPr/>
        </p:nvSpPr>
        <p:spPr>
          <a:xfrm>
            <a:off x="4876920" y="1219320"/>
            <a:ext cx="4267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Люди пользуются сотовыми телефонами уже сейчас, а какие последствия для здоровья у них могут возникнуть через несколько лет или десятилетий - никто не знает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И  право выбора как всегда остается за кажды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  <a:ea typeface="Microsoft YaHei"/>
              </a:rPr>
              <a:t>На одной чаше весов - удобство и комфорт, на другой - здоровье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0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95892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WordArt 1"/>
          <p:cNvSpPr txBox="1"/>
          <p:nvPr/>
        </p:nvSpPr>
        <p:spPr>
          <a:xfrm>
            <a:off x="1547640" y="1916280"/>
            <a:ext cx="58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к сотовый телефон влияет на жизрь и здоровье людей 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История создания сотового телефона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Text Box 2"/>
          <p:cNvSpPr/>
          <p:nvPr/>
        </p:nvSpPr>
        <p:spPr>
          <a:xfrm>
            <a:off x="4876920" y="1219320"/>
            <a:ext cx="4267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В далеком 1947 году лаборатория Bell Laboratories (США) официально выступила с предложением создать мобильный телефон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Однако первый прототип мобильного сотового телефона был создан американской компанией Motorola. Это произошло в 1973 году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0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45932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реимущества мобильной связ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Text Box 2"/>
          <p:cNvSpPr/>
          <p:nvPr/>
        </p:nvSpPr>
        <p:spPr>
          <a:xfrm>
            <a:off x="457200" y="3645000"/>
            <a:ext cx="8686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Microsoft YaHei"/>
              </a:rPr>
              <a:t>Скорость передачи данных достигает 153 Кбит в секунду, что в несколько раз быстрее обычного модемного соединения через сеть общего пользова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Microsoft YaHei"/>
              </a:rPr>
              <a:t>Чистое звучание речи, отсутствие посторонних шумов и эффекта металлического голос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Microsoft YaHei"/>
              </a:rPr>
              <a:t>Высокое качество связи при передвижении абонента (переход из одной соты в другую совершенно незаметен). Существует защита от постороннего доступа и прослушивания, и помехоустойчивость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Picture 3" descr=""/>
          <p:cNvPicPr/>
          <p:nvPr/>
        </p:nvPicPr>
        <p:blipFill>
          <a:blip r:embed="rId1"/>
          <a:stretch/>
        </p:blipFill>
        <p:spPr>
          <a:xfrm>
            <a:off x="3995640" y="134136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4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31308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                     </a:t>
            </a: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В чём опасность?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Text Box 2"/>
          <p:cNvSpPr/>
          <p:nvPr/>
        </p:nvSpPr>
        <p:spPr>
          <a:xfrm>
            <a:off x="5219640" y="2060640"/>
            <a:ext cx="35290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Вред мобильного телефона наносится не только, когда по нему разговаривают, но и когда он просто лежит включенны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Microsoft YaHei"/>
              </a:rPr>
              <a:t>В неактивном режиме телефон постоянно связывается с базовой станцией, передавая ей небольшое количество информаци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7" name="Picture 3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248000" cy="50403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4" descr=""/>
          <p:cNvPicPr/>
          <p:nvPr/>
        </p:nvPicPr>
        <p:blipFill>
          <a:blip r:embed="rId2"/>
          <a:stretch/>
        </p:blipFill>
        <p:spPr>
          <a:xfrm>
            <a:off x="5435640" y="5516640"/>
            <a:ext cx="1428840" cy="1066680"/>
          </a:xfrm>
          <a:prstGeom prst="rect">
            <a:avLst/>
          </a:prstGeom>
          <a:ln w="0">
            <a:noFill/>
          </a:ln>
        </p:spPr>
      </p:pic>
      <p:sp>
        <p:nvSpPr>
          <p:cNvPr id="1199" name="Line 5"/>
          <p:cNvSpPr/>
          <p:nvPr/>
        </p:nvSpPr>
        <p:spPr>
          <a:xfrm flipH="1" flipV="1">
            <a:off x="3051000" y="2844720"/>
            <a:ext cx="2897280" cy="289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                           </a:t>
            </a: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В чём опасность?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487656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 данным исследований, проводившихся в разных странах, доказано, что EMF-волны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a08"/>
              </a:buClr>
              <a:buSzPct val="200000"/>
              <a:buFont typeface="Wingdings" charset="2"/>
              <a:buChar char="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имулируют изменения на клеточном уровне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a08"/>
              </a:buClr>
              <a:buSzPct val="200000"/>
              <a:buFont typeface="Wingdings" charset="2"/>
              <a:buChar char="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зывают нарушения генного порядка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a08"/>
              </a:buClr>
              <a:buSzPct val="200000"/>
              <a:buFont typeface="Wingdings" charset="2"/>
              <a:buChar char="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ствуют появлению больных клеток и болезнетворных опухолей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ca08"/>
              </a:buClr>
              <a:buSzPct val="200000"/>
              <a:buFont typeface="Wingdings" charset="2"/>
              <a:buChar char="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т  приводить к преждевременному старению мозг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457200" y="1219320"/>
            <a:ext cx="4267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116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1"/>
          <p:cNvSpPr/>
          <p:nvPr/>
        </p:nvSpPr>
        <p:spPr>
          <a:xfrm>
            <a:off x="457200" y="704880"/>
            <a:ext cx="8228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  <a:ea typeface="Microsoft YaHei"/>
              </a:rPr>
              <a:t>Влияние сотовых телефонов на организм челове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Rectangle 2"/>
          <p:cNvSpPr/>
          <p:nvPr/>
        </p:nvSpPr>
        <p:spPr>
          <a:xfrm>
            <a:off x="214200" y="1928880"/>
            <a:ext cx="8685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 marL="252360" indent="-246600">
              <a:lnSpc>
                <a:spcPct val="100000"/>
              </a:lnSpc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Излучение мобильных телефонов повреждает области мозга связанные с обучением, памятью и передвижением. Если человек разговаривает по сотовому ежедневно более 45-60 минут, то появляются головные бол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214200" y="4500720"/>
            <a:ext cx="87138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Исследования ученых в  Норвегии и Дании показали, что пользователи сотовой связи больше всех подвержены сонливости, раздражительности, страдают головными болями . Через год зрение упадет на 12-14%, если использовать телефон долгое время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tretch/>
        </p:blipFill>
        <p:spPr>
          <a:xfrm>
            <a:off x="6929280" y="3000240"/>
            <a:ext cx="1641600" cy="11080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"/>
          <p:cNvPicPr/>
          <p:nvPr/>
        </p:nvPicPr>
        <p:blipFill>
          <a:blip r:embed="rId2"/>
          <a:stretch/>
        </p:blipFill>
        <p:spPr>
          <a:xfrm>
            <a:off x="357120" y="5429160"/>
            <a:ext cx="178452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1"/>
          <p:cNvSpPr/>
          <p:nvPr/>
        </p:nvSpPr>
        <p:spPr>
          <a:xfrm>
            <a:off x="457200" y="704880"/>
            <a:ext cx="8228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Rectangle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680" indent="-268200">
              <a:lnSpc>
                <a:spcPct val="100000"/>
              </a:lnSpc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При длительном разговоре наблюдается увеличение температуры уха, барабанной перепонки, прилегающих тканей и прилегающего участка мозга. Ученые обнаружили, что риск развития опухоли в том ухе, к которому прикладывается мобильный телефон, в 3,9 раза выше, чем в противоположно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4680" indent="-268200">
              <a:lnSpc>
                <a:spcPct val="100000"/>
              </a:lnSpc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1" name="Picture 3" descr=""/>
          <p:cNvPicPr/>
          <p:nvPr/>
        </p:nvPicPr>
        <p:blipFill>
          <a:blip r:embed="rId1"/>
          <a:stretch/>
        </p:blipFill>
        <p:spPr>
          <a:xfrm>
            <a:off x="6357960" y="3286080"/>
            <a:ext cx="1441440" cy="114156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4"/>
          <p:cNvSpPr/>
          <p:nvPr/>
        </p:nvSpPr>
        <p:spPr>
          <a:xfrm>
            <a:off x="285840" y="4505400"/>
            <a:ext cx="864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Шведские физики  предположили, что электромагнитное излучение мобильников может повреждать красные кровяные тельц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эритроциты, усиливая, их взаимодействие друг с друго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3" name="Picture 5" descr=""/>
          <p:cNvPicPr/>
          <p:nvPr/>
        </p:nvPicPr>
        <p:blipFill>
          <a:blip r:embed="rId2"/>
          <a:stretch/>
        </p:blipFill>
        <p:spPr>
          <a:xfrm>
            <a:off x="642960" y="5500800"/>
            <a:ext cx="194616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1"/>
          <p:cNvSpPr/>
          <p:nvPr/>
        </p:nvSpPr>
        <p:spPr>
          <a:xfrm>
            <a:off x="457200" y="704880"/>
            <a:ext cx="82281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  <a:ea typeface="Microsoft YaHei"/>
              </a:rPr>
              <a:t>Состояние здоровья детей пользующихся телефонам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Rectangle 2"/>
          <p:cNvSpPr/>
          <p:nvPr/>
        </p:nvSpPr>
        <p:spPr>
          <a:xfrm>
            <a:off x="457200" y="4357800"/>
            <a:ext cx="82281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marL="271800" indent="-265320">
              <a:lnSpc>
                <a:spcPct val="100000"/>
              </a:lnSpc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Выводы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Сотовые телефоны оказывают негативное воздействие на здоровье человека; Необходимо знать правила пользования сотовым телефоном и не пренебрегать ими, чтобы уберечь свой организм от вредного воздейств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1800" indent="-265320">
              <a:lnSpc>
                <a:spcPct val="100000"/>
              </a:lnSpc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16" name="Object 3"/>
          <p:cNvGraphicFramePr/>
          <p:nvPr/>
        </p:nvGraphicFramePr>
        <p:xfrm>
          <a:off x="1224000" y="1596960"/>
          <a:ext cx="6151680" cy="3227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5:06:43Z</dcterms:created>
  <dc:creator>Катя</dc:creator>
  <dc:description/>
  <cp:keywords/>
  <dc:language>en-US</dc:language>
  <cp:lastModifiedBy>Наталья</cp:lastModifiedBy>
  <dcterms:modified xsi:type="dcterms:W3CDTF">2019-12-09T19:00:26Z</dcterms:modified>
  <cp:revision>12</cp:revision>
  <dc:subject/>
  <dc:title>Вред и польза сотового телефона</dc:title>
</cp:coreProperties>
</file>